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5E95-5DF0-4E1B-B180-8E314C1EF1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ductus-Semibold"/>
              </a:rPr>
              <a:t>System Bu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is specification introduces the concept of a </a:t>
            </a:r>
            <a:r>
              <a:rPr b="0" i="1" lang="fr-FR" sz="1200" spc="-1" strike="noStrike">
                <a:solidFill>
                  <a:srgbClr val="000000"/>
                </a:solidFill>
                <a:latin typeface="Proforma-BookItalic"/>
              </a:rPr>
              <a:t>system bundle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, which repre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e Framework and serves the following purpo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•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It is responsible for registering </a:t>
            </a:r>
            <a:r>
              <a:rPr b="0" i="1" lang="fr-FR" sz="1200" spc="-1" strike="noStrike">
                <a:solidFill>
                  <a:srgbClr val="000000"/>
                </a:solidFill>
                <a:latin typeface="Proforma-BookItalic"/>
              </a:rPr>
              <a:t>system services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like the Package Ad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service, which are tightly integrated with the Fra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•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It appears as the exporter of any packages that are loaded off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classpath (including </a:t>
            </a:r>
            <a:r>
              <a:rPr b="0" lang="fr-FR" sz="1200" spc="-1" strike="noStrike">
                <a:solidFill>
                  <a:srgbClr val="000000"/>
                </a:solidFill>
                <a:latin typeface="ProductusOSGiBookc"/>
              </a:rPr>
              <a:t>org.osgi.framework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•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Its lifecycle methods handle the lifecycle of the fra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e system bundle is described in </a:t>
            </a:r>
            <a:r>
              <a:rPr b="0" i="1" lang="fr-FR" sz="1200" spc="-1" strike="noStrike">
                <a:solidFill>
                  <a:srgbClr val="000000"/>
                </a:solidFill>
                <a:latin typeface="Proforma-BookItalic"/>
              </a:rPr>
              <a:t>The System Bundle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on page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ductus-Book"/>
              </a:rPr>
              <a:t>14-282 OSGi Service-Platform Rele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ductus-Semibold"/>
              </a:rPr>
              <a:t>The System Bu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In addition to normal bundles, the Framework is itself represented as a bund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e bundle representing the Framework is referred to as the </a:t>
            </a:r>
            <a:r>
              <a:rPr b="0" i="1" lang="fr-FR" sz="1200" spc="-1" strike="noStrike">
                <a:solidFill>
                  <a:srgbClr val="000000"/>
                </a:solidFill>
                <a:latin typeface="Proforma-BookItalic"/>
              </a:rPr>
              <a:t>system bundle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rough the system bundle, the Framework may register services that may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used by other bundles. Examples of such services are the Package Admi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Permission Admi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e system bundle is listed in the set of installed bundles returned by </a:t>
            </a:r>
            <a:r>
              <a:rPr b="0" lang="fr-FR" sz="1200" spc="-1" strike="noStrike">
                <a:solidFill>
                  <a:srgbClr val="000000"/>
                </a:solidFill>
                <a:latin typeface="ProductusOSGiBookc"/>
              </a:rPr>
              <a:t>Bundl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ductusOSGiBookc"/>
              </a:rPr>
              <a:t>Context.getBundles()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, although it differs from a normal bundle in the fo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•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e system bundle is always assigned a bundle identifier of zero (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•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e system bundle </a:t>
            </a:r>
            <a:r>
              <a:rPr b="0" lang="fr-FR" sz="1200" spc="-1" strike="noStrike">
                <a:solidFill>
                  <a:srgbClr val="000000"/>
                </a:solidFill>
                <a:latin typeface="ProductusOSGiBookc"/>
              </a:rPr>
              <a:t>getLocation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method returns the string: "</a:t>
            </a:r>
            <a:r>
              <a:rPr b="0" lang="fr-FR" sz="1200" spc="-1" strike="noStrike">
                <a:solidFill>
                  <a:srgbClr val="000000"/>
                </a:solidFill>
                <a:latin typeface="ProductusOSGiBookc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ductusOSGiBookc"/>
              </a:rPr>
              <a:t>Bundle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", as defined in the </a:t>
            </a:r>
            <a:r>
              <a:rPr b="0" lang="fr-FR" sz="1200" spc="-1" strike="noStrike">
                <a:solidFill>
                  <a:srgbClr val="000000"/>
                </a:solidFill>
                <a:latin typeface="ProductusOSGiBookc"/>
              </a:rPr>
              <a:t>Constants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•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e system bundle cannot be lifecycle-managed like normal bundles.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lifecycle methods must behave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• </a:t>
            </a:r>
            <a:r>
              <a:rPr b="0" i="1" lang="fr-FR" sz="1200" spc="-1" strike="noStrike">
                <a:solidFill>
                  <a:srgbClr val="000000"/>
                </a:solidFill>
                <a:latin typeface="Proforma-BookItalic"/>
              </a:rPr>
              <a:t>start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– This method does nothing because the system bundle is 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ductus-Book"/>
              </a:rPr>
              <a:t>Framework Specification Version 1.1 Manifest H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• </a:t>
            </a:r>
            <a:r>
              <a:rPr b="0" i="1" lang="fr-FR" sz="1200" spc="-1" strike="noStrike">
                <a:solidFill>
                  <a:srgbClr val="000000"/>
                </a:solidFill>
                <a:latin typeface="Proforma-BookItalic"/>
              </a:rPr>
              <a:t>stop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– Returns immediately and shuts down the Framework on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• </a:t>
            </a:r>
            <a:r>
              <a:rPr b="0" i="1" lang="fr-FR" sz="1200" spc="-1" strike="noStrike">
                <a:solidFill>
                  <a:srgbClr val="000000"/>
                </a:solidFill>
                <a:latin typeface="Proforma-BookItalic"/>
              </a:rPr>
              <a:t>update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– Stops and then restarts the Fra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• </a:t>
            </a:r>
            <a:r>
              <a:rPr b="0" i="1" lang="fr-FR" sz="1200" spc="-1" strike="noStrike">
                <a:solidFill>
                  <a:srgbClr val="000000"/>
                </a:solidFill>
                <a:latin typeface="Proforma-BookItalic"/>
              </a:rPr>
              <a:t>uninstall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– The Framework must throw a </a:t>
            </a:r>
            <a:r>
              <a:rPr b="0" lang="fr-FR" sz="1200" spc="-1" strike="noStrike">
                <a:solidFill>
                  <a:srgbClr val="000000"/>
                </a:solidFill>
                <a:latin typeface="ProductusOSGiBookc"/>
              </a:rPr>
              <a:t>BundleException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indic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at the system bundle cannot be uninst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See </a:t>
            </a:r>
            <a:r>
              <a:rPr b="0" i="1" lang="fr-FR" sz="1200" spc="-1" strike="noStrike">
                <a:solidFill>
                  <a:srgbClr val="000000"/>
                </a:solidFill>
                <a:latin typeface="Proforma-BookItalic"/>
              </a:rPr>
              <a:t>Framework Startup and Shutdown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on page 45 for more information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e starting and stopping of the Fra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•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e system bundle’s </a:t>
            </a:r>
            <a:r>
              <a:rPr b="0" lang="fr-FR" sz="1200" spc="-1" strike="noStrike">
                <a:solidFill>
                  <a:srgbClr val="000000"/>
                </a:solidFill>
                <a:latin typeface="ProductusOSGiBookc"/>
              </a:rPr>
              <a:t>Bundle.getHeaders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method returns a </a:t>
            </a:r>
            <a:r>
              <a:rPr b="0" lang="fr-FR" sz="1200" spc="-1" strike="noStrike">
                <a:solidFill>
                  <a:srgbClr val="000000"/>
                </a:solidFill>
                <a:latin typeface="ProductusOSGiBookc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object with implementation-specific manifest headers. For example,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system bundle’s manifest file should contain an Export-Packag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declaring which packages are to be exported by the Framework (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example, </a:t>
            </a:r>
            <a:r>
              <a:rPr b="0" lang="fr-FR" sz="1200" spc="-1" strike="noStrike">
                <a:solidFill>
                  <a:srgbClr val="000000"/>
                </a:solidFill>
                <a:latin typeface="ProductusOSGiBookc"/>
              </a:rPr>
              <a:t>org.osgi.framework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216-04D5-4031-B248-54FEF6AA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472-FE38-4CE6-9826-1C909CCA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731-5302-4948-B83C-7110CC11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636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220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636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220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A7F-CCF5-45A5-875E-311CF04C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E823-EBEB-4A04-8DEF-01557062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248C-B06E-460C-8F7E-39FAF4F8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C751-C4F9-43E9-BAD0-29A302E4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24B3-BDD6-4A5B-8977-BF094B1A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3E3D-4C97-4C3F-8A76-1B322019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DA67-6E75-4ED5-B395-A20E10D3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31C6-17BE-46E4-8A9A-D3F4ED38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5A2-CFCE-4FD3-9921-744CD30E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9F1F-B001-4B40-A0BF-42ACB598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0065-5CE3-44BF-80C3-1A141551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B987-8536-4AF6-B94F-6ECBA6EB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122D-A796-42B7-B062-09CEF4D0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636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220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636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220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AF1E-CB25-4815-865B-6D06E90C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9C7-8216-45C9-985F-4EE8301F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7C8-8BC0-4D27-A443-C88C9316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FD7-CC3D-47EC-895E-371C41AA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D7F-BA1E-4C8C-9872-4EA394B8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693-D879-42B2-9374-FD3F8DB1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C10-E45C-4BD7-B445-1D05112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0DD-4F2D-4EF2-BF79-7530CA24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4852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3E6E-E655-471C-93C8-12B8914E7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14400" cy="804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6095880"/>
            <a:ext cx="38124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58200" y="6095880"/>
            <a:ext cx="38088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609480" y="5943600"/>
            <a:ext cx="1143000" cy="4777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7162920" y="5958000"/>
            <a:ext cx="1218960" cy="3315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828800" y="6095880"/>
            <a:ext cx="518148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CDCB-156B-4DE7-9A4D-1D80FFAF6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1523880" cy="160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133720" y="304920"/>
            <a:ext cx="671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NTRE D'INNOVATIO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 TELECOMMUN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 INTEGRATION DE SERVICE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238880" y="5715000"/>
            <a:ext cx="16765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" y="5791320"/>
            <a:ext cx="77148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43200" y="5867280"/>
            <a:ext cx="3745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ARÈ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OSGi Part III</a:t>
            </a:r>
            <a:br>
              <a:rPr sz="4400"/>
            </a:b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Services Standard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560" y="4343040"/>
            <a:ext cx="7062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logService-uml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570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3886200"/>
            <a:ext cx="822960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1219320"/>
            <a:ext cx="7086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interface LogServic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static final int LOG_DEBUG, LOG_ERROR, LOG_INFO, LOG_WARN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void log(ServiceReference sr, int level, String message, Throwable excep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590920"/>
            <a:ext cx="449604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interface LogReade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void addLogListener(LogListener 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Enumeration getLo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void removeLog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962520"/>
            <a:ext cx="4496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interface LogListener extends EventListene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void logged(LogEntry ent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4267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interface LogEntry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Bundle getBund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Throwable getExcep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int getLev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String getMessag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ServiceReference getServiceRefere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long getTim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org.osgi.service.lo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4952520"/>
            <a:ext cx="8564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oiter le service de log dans un de vos bu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org.service.http.Http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rvice permettant à d’autres bundl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publier des servlets et ressources pa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la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barquent un serveur HTTP compact (Jetty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hentification et Autorisation (BasicSchema, 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org.service.http.HttpService 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Us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733920" y="2527200"/>
            <a:ext cx="368280" cy="216000"/>
            <a:chOff x="3733920" y="2527200"/>
            <a:chExt cx="368280" cy="216000"/>
          </a:xfrm>
        </p:grpSpPr>
        <p:sp>
          <p:nvSpPr>
            <p:cNvPr id="132" name=""/>
            <p:cNvSpPr/>
            <p:nvPr/>
          </p:nvSpPr>
          <p:spPr>
            <a:xfrm>
              <a:off x="3733920" y="25272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2520" y="264168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095880" y="5029200"/>
            <a:ext cx="533520" cy="38088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666880"/>
            <a:ext cx="144792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05360" y="5334120"/>
            <a:ext cx="336960" cy="214200"/>
            <a:chOff x="6705360" y="5334120"/>
            <a:chExt cx="336960" cy="214200"/>
          </a:xfrm>
        </p:grpSpPr>
        <p:sp>
          <p:nvSpPr>
            <p:cNvPr id="137" name=""/>
            <p:cNvSpPr/>
            <p:nvPr/>
          </p:nvSpPr>
          <p:spPr>
            <a:xfrm>
              <a:off x="6832800" y="543888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705000" y="533412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905120" y="2514600"/>
            <a:ext cx="379440" cy="216000"/>
            <a:chOff x="1905120" y="2514600"/>
            <a:chExt cx="379440" cy="216000"/>
          </a:xfrm>
        </p:grpSpPr>
        <p:sp>
          <p:nvSpPr>
            <p:cNvPr id="140" name=""/>
            <p:cNvSpPr/>
            <p:nvPr/>
          </p:nvSpPr>
          <p:spPr>
            <a:xfrm>
              <a:off x="1905120" y="261792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2068560" y="2514600"/>
              <a:ext cx="21600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114800" y="2209680"/>
            <a:ext cx="1676520" cy="304812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3048120"/>
              <a:gd name="textAreaBottom" fmla="*/ 2966400 h 3048120"/>
            </a:gdLst>
            <a:ahLst/>
            <a:rect l="textAreaLeft" t="textAreaTop" r="textAreaRight" b="textAreaBottom"/>
            <a:pathLst>
              <a:path w="21600" h="39268">
                <a:moveTo>
                  <a:pt x="3600" y="0"/>
                </a:moveTo>
                <a:arcTo wR="3600" hR="3600" stAng="16200000" swAng="-5400000"/>
                <a:lnTo>
                  <a:pt x="0" y="35668"/>
                </a:lnTo>
                <a:arcTo wR="3600" hR="3600" stAng="10800000" swAng="-5400000"/>
                <a:lnTo>
                  <a:pt x="18000" y="392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tt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791320" y="4876920"/>
            <a:ext cx="279360" cy="215640"/>
            <a:chOff x="5791320" y="4876920"/>
            <a:chExt cx="279360" cy="215640"/>
          </a:xfrm>
        </p:grpSpPr>
        <p:sp>
          <p:nvSpPr>
            <p:cNvPr id="144" name=""/>
            <p:cNvSpPr/>
            <p:nvPr/>
          </p:nvSpPr>
          <p:spPr>
            <a:xfrm>
              <a:off x="5791320" y="49878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889960" y="4876920"/>
              <a:ext cx="180720" cy="2156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010280" y="5105520"/>
            <a:ext cx="1067040" cy="609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286000"/>
            <a:ext cx="1676520" cy="304812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3048120"/>
              <a:gd name="textAreaBottom" fmla="*/ 2966400 h 3048120"/>
            </a:gdLst>
            <a:ahLst/>
            <a:rect l="textAreaLeft" t="textAreaTop" r="textAreaRight" b="textAreaBottom"/>
            <a:pathLst>
              <a:path w="21600" h="39268">
                <a:moveTo>
                  <a:pt x="3600" y="0"/>
                </a:moveTo>
                <a:arcTo wR="3600" hR="3600" stAng="16200000" swAng="-5400000"/>
                <a:lnTo>
                  <a:pt x="0" y="35668"/>
                </a:lnTo>
                <a:arcTo wR="3600" hR="3600" stAng="10800000" swAng="-5400000"/>
                <a:lnTo>
                  <a:pt x="18000" y="392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onSite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905120" y="4889520"/>
            <a:ext cx="279360" cy="216000"/>
            <a:chOff x="1905120" y="4889520"/>
            <a:chExt cx="279360" cy="216000"/>
          </a:xfrm>
        </p:grpSpPr>
        <p:sp>
          <p:nvSpPr>
            <p:cNvPr id="149" name=""/>
            <p:cNvSpPr/>
            <p:nvPr/>
          </p:nvSpPr>
          <p:spPr>
            <a:xfrm>
              <a:off x="1905120" y="500076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003760" y="488952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334120" y="51814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 Narrow"/>
              </a:rPr>
              <a:t>javax.serv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1447920"/>
            <a:ext cx="1295640" cy="761760"/>
          </a:xfrm>
          <a:prstGeom prst="cloudCallout">
            <a:avLst>
              <a:gd name="adj1" fmla="val -17648"/>
              <a:gd name="adj2" fmla="val 32708"/>
            </a:avLst>
          </a:prstGeom>
          <a:solidFill>
            <a:srgbClr val="ffccff"/>
          </a:soli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29600" y="990720"/>
            <a:ext cx="773280" cy="990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934320" y="1736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1523880"/>
            <a:ext cx="2209680" cy="914400"/>
          </a:xfrm>
          <a:custGeom>
            <a:avLst/>
            <a:gdLst/>
            <a:ahLst/>
            <a:rect l="l" t="t" r="r" b="b"/>
            <a:pathLst>
              <a:path w="1392" h="576">
                <a:moveTo>
                  <a:pt x="1392" y="0"/>
                </a:moveTo>
                <a:cubicBezTo>
                  <a:pt x="1172" y="24"/>
                  <a:pt x="952" y="48"/>
                  <a:pt x="720" y="144"/>
                </a:cubicBezTo>
                <a:cubicBezTo>
                  <a:pt x="488" y="240"/>
                  <a:pt x="244" y="408"/>
                  <a:pt x="0" y="57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213372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 Narrow"/>
              </a:rPr>
              <a:t>org.osgi.service.http.</a:t>
            </a:r>
            <a:r>
              <a:rPr b="1" i="1" lang="fr-FR" sz="1000" spc="-1" strike="noStrike">
                <a:solidFill>
                  <a:srgbClr val="000000"/>
                </a:solidFill>
                <a:latin typeface="Arial Narrow"/>
              </a:rPr>
              <a:t>Http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003640"/>
            <a:ext cx="4419720" cy="787680"/>
          </a:xfrm>
          <a:custGeom>
            <a:avLst/>
            <a:gdLst/>
            <a:ahLst/>
            <a:rect l="l" t="t" r="r" b="b"/>
            <a:pathLst>
              <a:path w="2736" h="496">
                <a:moveTo>
                  <a:pt x="0" y="0"/>
                </a:moveTo>
                <a:cubicBezTo>
                  <a:pt x="68" y="132"/>
                  <a:pt x="136" y="264"/>
                  <a:pt x="240" y="336"/>
                </a:cubicBezTo>
                <a:cubicBezTo>
                  <a:pt x="344" y="408"/>
                  <a:pt x="424" y="408"/>
                  <a:pt x="624" y="432"/>
                </a:cubicBezTo>
                <a:cubicBezTo>
                  <a:pt x="824" y="456"/>
                  <a:pt x="1088" y="496"/>
                  <a:pt x="1440" y="480"/>
                </a:cubicBezTo>
                <a:cubicBezTo>
                  <a:pt x="1792" y="464"/>
                  <a:pt x="2264" y="400"/>
                  <a:pt x="2736" y="336"/>
                </a:cubicBezTo>
              </a:path>
            </a:pathLst>
          </a:custGeom>
          <a:noFill/>
          <a:ln w="28440">
            <a:solidFill>
              <a:srgbClr val="3366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a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45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422280" y="4419720"/>
            <a:ext cx="415800" cy="457200"/>
            <a:chOff x="422280" y="4419720"/>
            <a:chExt cx="415800" cy="457200"/>
          </a:xfrm>
        </p:grpSpPr>
        <p:pic>
          <p:nvPicPr>
            <p:cNvPr id="160" name="a" descr=""/>
            <p:cNvPicPr/>
            <p:nvPr/>
          </p:nvPicPr>
          <p:blipFill>
            <a:blip r:embed="rId3"/>
            <a:stretch/>
          </p:blipFill>
          <p:spPr>
            <a:xfrm>
              <a:off x="422280" y="4419720"/>
              <a:ext cx="4158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trbfly1" descr=""/>
            <p:cNvPicPr/>
            <p:nvPr/>
          </p:nvPicPr>
          <p:blipFill>
            <a:blip r:embed="rId4"/>
            <a:stretch/>
          </p:blipFill>
          <p:spPr>
            <a:xfrm>
              <a:off x="422280" y="4495680"/>
              <a:ext cx="380880" cy="30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4267080" y="3124080"/>
            <a:ext cx="1295640" cy="228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 Narrow"/>
              </a:rPr>
              <a:t>/moi/livre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3352680"/>
            <a:ext cx="1295640" cy="228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/moi/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581280"/>
            <a:ext cx="1295640" cy="228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3809880"/>
            <a:ext cx="1295640" cy="228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4038480"/>
            <a:ext cx="1295640" cy="228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71240" y="3200400"/>
            <a:ext cx="304812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447560" y="3505320"/>
            <a:ext cx="2971800" cy="761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971800"/>
            <a:ext cx="533160" cy="5335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 Narrow"/>
              </a:rPr>
              <a:t>serv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4038480"/>
            <a:ext cx="533520" cy="5335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 Narrow"/>
              </a:rPr>
              <a:t>http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 Narrow"/>
              </a:rPr>
              <a:t>con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héma UM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httpservice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7360" cy="546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280" y="5562720"/>
            <a:ext cx="876312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343400"/>
            <a:ext cx="1828800" cy="1219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org.service.http.Http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4680" y="1294920"/>
            <a:ext cx="85644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ttpService http= ...; //récupération du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ring WEBROOT = "/webroot"; // ressources dans le jar (Bundle-Classpa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ring WEBROOT_ALIAS = "/moi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ring SERVLET_ALIAS = WEBROOT_ALIAS +"/livreor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rvlet servlet=new LivreOrServlet(param1,param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ttp.registerServlet(SERVLET_ALIAS, servlet, null, servle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ttpContext docsContext = new HttpContex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ublic String getMimeType(String nam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turn (name.endWith("htm"))?"text/html":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ublic boolean handleSecurity(HttpServletRequest req,HttpServletResponse resp) {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turn tru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ublic URL getResource(String nam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RL u = this.getClass().getResource(name); // La resource est dans le j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turn 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ttp.registerResources(WEBROOT_ALIAS, WEBROOT, docsContex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Device Manag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apparaître les drivers des périphériques matériels comme des Services OG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ger les drivers grâce aux bun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à jour des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driver fournit plusieurs services plus ou moins raffi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ug-and-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branchement d’un périphérique provoque l’enregistrement d’un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retrait du périphérique provoque le désenregistrement du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usieurs élé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ice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river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ice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Device servi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device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6934320" cy="6045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86200" y="5334120"/>
            <a:ext cx="1295280" cy="76176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5334120"/>
            <a:ext cx="1295640" cy="76176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2514600"/>
            <a:ext cx="129528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Device Manag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stion d’un périphé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33498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 rot="5400000">
            <a:off x="-1233720" y="3973320"/>
            <a:ext cx="327960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Rafinement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2286000"/>
            <a:ext cx="1828800" cy="609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ort Sé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2895480"/>
            <a:ext cx="611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342900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Lecteu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arte à P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40384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57200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arte à P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51814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71500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orte Monnai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ectro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860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ort U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8954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3429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mprim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40384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4572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mprimante 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2286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ort Parallè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77320" y="28954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34290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Lecteur Amov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0384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45720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Lecteur Z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2895480"/>
            <a:ext cx="6094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857640" y="289548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79640" y="2895480"/>
            <a:ext cx="611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342900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écepteu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40384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57200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écepteu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GPS NM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342900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od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aye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8954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798800" y="2895480"/>
            <a:ext cx="6109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457200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od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GPS/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40384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571500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Modem de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marque Eri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1814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Device Manager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riverLo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met d’associer un Device à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ice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er par le Device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 d’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ltre LDAP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d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érifie si l’on peut installer le Device associé à ce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tourne une valeur d’évaluation de l’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n possible si 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plémente une méthode d’attach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ndles et Services standa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em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ckage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ission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Tr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og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ttp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vice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iguration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ser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Device Manag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teur de raffinement des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’arrivée d’un nouveau service Device, le Device Manager cherche à enregistrer d’autres  Device de plus haut niv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ela, il utilise les servic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riverLo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cmcia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00680" cy="5191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Device discove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2880" y="22824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 example : Wlan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nagemen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mcia device represents the pcmcia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mcia driver is a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d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iscovers physical devices through native notification (linux kernel ev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riggers driver discovery phase when a card is ins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an device represents a wlan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an driver is a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ining driver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ing the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lan Card inser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7" name="wlan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ervice d'administration de conf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9" name="configadmin" descr=""/>
          <p:cNvPicPr/>
          <p:nvPr/>
        </p:nvPicPr>
        <p:blipFill>
          <a:blip r:embed="rId1"/>
          <a:stretch/>
        </p:blipFill>
        <p:spPr>
          <a:xfrm>
            <a:off x="990720" y="1225440"/>
            <a:ext cx="72388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Prérequ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sibilité de configuration avec une interface locale l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couverte automatique des paramè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se en charge de configurations proprié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ienté objet pour la délé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supposition sur la plate-forme cible (pas de système de stock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ministration locale et di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ponibilité immédiate sur re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modifications sont immédiatement réperc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modification de l ’environnement d'exé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connexion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ensation de la complex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nctionn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rvice d'administration des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intient une base de données locale ou distante de objets d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rveille la registry des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urnit les informations de configuration aux services enregistrés sous une propriété service.pid (Persist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service doit implanter une interface pa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naged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nagedServiceFa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confadmin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172200" cy="6458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52480" y="4952880"/>
            <a:ext cx="3505320" cy="1600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5105520"/>
            <a:ext cx="1143000" cy="609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1371600"/>
            <a:ext cx="1143000" cy="609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228600"/>
            <a:ext cx="1143000" cy="1752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Managed Service / ManagedServiceFactor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0" name="managedservice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1536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ID : Identification unique d'un servi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2" name="pid" descr=""/>
          <p:cNvPicPr/>
          <p:nvPr/>
        </p:nvPicPr>
        <p:blipFill>
          <a:blip r:embed="rId1"/>
          <a:stretch/>
        </p:blipFill>
        <p:spPr>
          <a:xfrm>
            <a:off x="0" y="1157400"/>
            <a:ext cx="91440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ystem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2400" y="198108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e le frame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n identifiant est toujours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n cycle de vie correspond au démarrage et à l’arrêt du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stion des configur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4" name="seq-confadmin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Metatyp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ssibilité de décrire des objets de manière ne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pose sur les principes de reflexivité pour la fabrication des objets (meta-program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méta-type défini les classes et les attributs de la classe selon un format neutre (xml, java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metatype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48513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e description de clas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572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ass OCD implements ObjectClassDefini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ing 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ing 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ing descri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tributeDefinition required[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tributeDefinition optional[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OCD(…)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1371600"/>
            <a:ext cx="42670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ass AD implements AttributeDefinition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ing 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ing 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ing descri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cardinali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synt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ing[] valu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ing[] label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ing[] def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AD (…)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rvice de préfér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stion des p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stion de valeurs scalaire (atomiques) et tabl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ganisation hiérarc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cine : Systeme (ex : tableau de score) et chaque utilisateur (ex : paramètres spécif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Diagramme du service de préférenc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4" name="preferences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182920" cy="4470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819520" y="3733920"/>
            <a:ext cx="411480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ervice d'admin des utilisateu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cation des 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de l'authentification par un objet 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èle d'autorisation fondée sur l'identité de la personne qui exécute le code, plutôt que sur le type de code exécuté (JAAS, plutôt que java.poli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ts-clés du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hentification, Autorisation, Sécurité, Extensibilité, Propriété,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securite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5944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209680" y="5486400"/>
            <a:ext cx="4343400" cy="1066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152280"/>
            <a:ext cx="129528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152280"/>
            <a:ext cx="274320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OSG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625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lass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olution de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brairies 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én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l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ission /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64680" y="9144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1371600"/>
            <a:ext cx="39621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ckage 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ission 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 Trac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og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TTP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vice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 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ta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ferences 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ser 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87720" y="9144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Produi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ava Embedded Server (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Sphere SM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chelon LonWor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ndle Deployment 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ic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Residential e-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ate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ig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no Comput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ensug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Syst Soft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Bedded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nd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S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502920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ameworks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487692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 OSG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on des dépendances d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ploiement dynamique d’un bu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nement varié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qué, station de travail, serve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ctionnalité de base à un modèle à compo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ation complexe des connexions entre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la charge du développ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Package Admin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 de gestion des dépend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formation : import/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litique de gestion : quelle politique en cas de mise à jou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à jour minimal : ne remet en cause que les packages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ckageAdmin : interface d'accès aux structures internes du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portedPackage : information sur un package et son ut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Management Bundl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bundle pour la mise en place d'une politique de mise à jour des dépend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ibliograph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ervices Gateway Initiative, « OSGi service gateway specification », http://www.osg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rk Chen, Li Gong, « Programming Open Service Gateways with Java Embedded Server Technology », Pub.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dison Wesley, August 2001  ISBN#: 0201711028. 480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  Gong, « A Software Architecture for Open Service Gateways », IEEE Internet Computing, January/February 2001 (Vol. 5, No. 1), pp. 64-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Hall, « OSCAR, Open Service Container Architecture », http://oscar-osgi.sourceforg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Web, « JEFFREE », http://jeffree.objectweb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osgiworldcongres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mo Domo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demo.echelon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lément de 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sez, Hall, Cervantes, Ch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ttp://www-adele.imag.fr/~donsez/cours/osgi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org.osgi.service.packageadmi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143000"/>
            <a:ext cx="7543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org.osgi.service.packageadm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PackageAdm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ExportedPackage[] getExportedPackages(Bundle bund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ExportedPackage getExportedPackage(String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refreshPackages(Bundle[] bundle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52680"/>
            <a:ext cx="754380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org.osgi.service.packageadm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ExportedPackag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tring getNam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undle getExportingBund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undle[] getImportingBundle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tring getSpecificationVers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oolean isRemovalPending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Permission Admin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vice de gestion des droi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tats des droits 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urnit l'état des droits d'un bu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dministration 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met de positionner des droits sur un bundle, n'importe qu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éfauts 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cès à des droits par défa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t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missionAdmin : Service d'accès à la base de droits du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missionInfo : Objet contenant les informations pour fabriquer un objet de Per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Bundle location 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isation d'un bundle (un bundle possède une unique localisation, qui l'identifie éga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Management Bundle 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ise en place d'une politique de gestion spécif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org.osgi.service.permissionadmi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143000"/>
            <a:ext cx="8915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interface PermissionAdmi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PermissionInfo[] getDefaultPermiss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String[] getLoca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PermissionInfo[] getPermissions(String loca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void setDefaultPermissions(PermissionInfo[] permissions) throws SecurityExce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void setPermissions(String location, PermissionInfo[] perms) throws SecurityExce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3276720"/>
            <a:ext cx="883908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class PermissionInf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PermissionInfo(String encodePermission) throws IllegalArgument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PermissionInfo(String type, String name, String act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boolean equals(Object ob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final String getAction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final String getEncode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final String getNam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final String getTyp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int hashCod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erviceTrak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sses utilitaires facilitant le suivi (tracking) de l’arrivée ou le retrait de services (nom, fil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client délégue la vision courante du framework au serviceTr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ite la « tambouille » de gestion des évén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ut être spécialisé pour certains compor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ppression d'un service http ==&gt; Suppression des contextes assoc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org.osgi.util.track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219320"/>
            <a:ext cx="88394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class ServiceTracker implements ServiceTrackerCustomizer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ServiceTracker(BundleContext bc, Filter filter, ServiceTrackerCustomizer cust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ServiceTracker(BundleContext bc, ServiceReference sr, ServiceTrackerCustomizer cust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ServiceTracker(BundleContext bc, String clazz, ServiceTrackerCustomizer cust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Object addingService(ServiceReferecence s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void modifiedService(ServiceReference sr, Object serv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void removedService(ServiceReference s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void 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Object getServic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Object getService(ServiceReference s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ServiceReference getServiceReferenc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ServiceReference[] getServiceReference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Object [] getService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synchronized void open() throws IllegalState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void remove(ServiceReference s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int siz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ublic Object waitForService(long timeo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9:27:41Z</dcterms:created>
  <dc:creator>ubeda</dc:creator>
  <dc:description/>
  <dc:language>en-US</dc:language>
  <cp:lastModifiedBy>sfrenot</cp:lastModifiedBy>
  <dcterms:modified xsi:type="dcterms:W3CDTF">2003-11-12T22:04:20Z</dcterms:modified>
  <cp:revision>82</cp:revision>
  <dc:subject/>
  <dc:title>Architecture de réseaux de services</dc:title>
</cp:coreProperties>
</file>