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DDD1-21AC-4FF3-9F1A-CBDE3381BB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String getProperty(String ke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Filter createFilter(String expr) throws InvalidSyntaxExcep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Bundle getBundl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Bundle installBundle(String location) throws BundleExcep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Bundle installBundle(String location, InputStream 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rows BundleExcep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Bundle getBundle(long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Bundle[] getBundles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void addServiceListener(ServiceListener l, String fil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rows InvalidSyntaxExcep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void addServiceListener(ServiceListener 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void removeServiceListener(ServiceListener 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void addBundleListener(BundleListener 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void removeBundleListener(BundleListener 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void addFrameworkListener(FrameworkListener 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void removeFrameworkListener(FrameworkListener 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ServiceRegistration registerService(String clazzes[], Object obj, Dictionary dictionar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ServiceRegistration registerService(String clazz, Object obj, Dictionary dictionar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ServiceReference[] getServiceReferences(String clazz, String fil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rows InvalidSyntaxExcep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ServiceReference getServiceReference(String clazz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Object getService(ServiceReference referenc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boolean ungetService(ServiceReference referenc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 File getDataFile(String 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erface implemented by services which support a configuration object. Configurable is an interface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y be implemented by a bundle programmer. The implementation of a service that is configu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uld implement this interface. Bundles that wish to configure a service may test to see if th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bject is an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stanceof Configurabl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etConfiguration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public java.lang.Object </a:t>
            </a:r>
            <a:r>
              <a:rPr b="1" lang="fr-FR" sz="1200" spc="-1" strike="noStrike">
                <a:solidFill>
                  <a:srgbClr val="000000"/>
                </a:solidFill>
                <a:latin typeface="Courier-Bold"/>
              </a:rPr>
              <a:t>getConfigurationObject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trieve the configuration object for a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rvices implementing this interface should be careful when returning their configuratio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nce this object is probably sensitive. If the Java runtime environment supports permissions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ommended that the caller is checked for an appropriate permission before return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figuration object. It is recommended that callers possessing the </a:t>
            </a:r>
            <a:r>
              <a:rPr b="0" lang="fr-FR" sz="1200" spc="-1" strike="noStrike">
                <a:solidFill>
                  <a:srgbClr val="0000ff"/>
                </a:solidFill>
                <a:latin typeface="Courier New"/>
              </a:rPr>
              <a:t>AdminPermission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e allowed to retrieve the configuratio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0E3-48B7-4D74-B5BC-C0E38C82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B19-D5C7-4DE7-AFE2-02BAA44B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49B-862D-47ED-A0DC-70CE23FA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636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220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636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220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822-0711-44C6-AE1C-F07FB192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F419-D96A-49F6-899D-C61BA5AA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0922-09B3-4621-806C-D6458FBA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367D-C7CF-4830-A05F-501154E4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700F-1479-4318-8E5A-5F89E1C3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411E-7578-4D1F-86C1-47073C60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E9F1-8C4C-4EFC-A40C-91EB0A79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ED8E-5C88-4787-A1B1-4E3EAEA6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D4F-D1F1-4317-9808-DA789CF3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D938-8B2B-492E-A9FA-3BE30885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C3DD-64C1-4A77-BAA0-622E6CF9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9622-4FDC-41A6-AC6E-64D081C3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E92A-18C1-4C51-B321-C2619E33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636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220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636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220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0910-AAEF-4C58-8942-8172EB1C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4E7-5522-479A-A813-8119A50B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E26-CC7B-47A4-8DA9-5945980A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B8D-6F14-4A18-8AB1-6CDDB6C2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4E4-4B06-41FB-8C16-693A8DA4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3B3-1386-4B0E-9F84-3E2A719A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E48-62BA-4F81-A4FE-93ACA313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18F-238C-4C33-8F07-DAF66320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4852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7F4B-7D94-4D69-9958-3E68D1412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14400" cy="804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6095880"/>
            <a:ext cx="38124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58200" y="6095880"/>
            <a:ext cx="38088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609480" y="5943600"/>
            <a:ext cx="1143000" cy="4777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7162920" y="5958000"/>
            <a:ext cx="1218960" cy="3315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828800" y="6095880"/>
            <a:ext cx="518148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2064-C929-4F32-AFBD-250CCF179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1523880" cy="160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133720" y="304920"/>
            <a:ext cx="671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NTRE D'INNOVATIO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 TELECOMMUN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 INTEGRATION DE SERVICE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238880" y="5715000"/>
            <a:ext cx="16765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" y="5791320"/>
            <a:ext cx="77148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43200" y="5867280"/>
            <a:ext cx="3745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ARÈ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Programmation </a:t>
            </a:r>
            <a:br>
              <a:rPr sz="4400"/>
            </a:b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orientée services sous OSGi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560" y="4343040"/>
            <a:ext cx="7062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Exemple de service : ech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7" name="echoserver" descr=""/>
          <p:cNvPicPr/>
          <p:nvPr/>
        </p:nvPicPr>
        <p:blipFill>
          <a:blip r:embed="rId1"/>
          <a:stretch/>
        </p:blipFill>
        <p:spPr>
          <a:xfrm>
            <a:off x="2254320" y="873000"/>
            <a:ext cx="4660920" cy="3268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41360" y="4233960"/>
            <a:ext cx="7483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Inscrip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hoServerImpl e=new EchoServerImp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c.registerService("echoserver.service.EchoServer", e, 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briquer et mettre à disposition le service Echo sur la plate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er avec le client fourni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26880" y="5288040"/>
            <a:ext cx="184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844-79F8-42C5-A01A-82FC444B7A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registrer un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1111320"/>
            <a:ext cx="870084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org.osgi.framewor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BundleContext {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erviceRegistration registerService (String[] clazzes, Object service, Dictionnary properties) throws IllegalArgumentException, SecurityException,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erviceRegistration registerService (String clazz, Object service, Dictionnar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7040" y="3865680"/>
            <a:ext cx="8693280" cy="20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org.osgi.framewor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ServiceRegistration{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erviceReference getReference() throws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setProperties(Dictionnary properties) throws IllegalStateException, IllegalArgument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unregister() throws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0BC-B2D8-43E3-8D96-76052D0C19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732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BundleContex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08160" indent="-308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 vers l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76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sé lors des invocations de start() et stop() de l’Activ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76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'est la référence java vers l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160" indent="-308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76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enregistrement d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76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accès aux ressources du bund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76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urtage d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76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obtention et la libération de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76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souscription aux évènements du Frame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760" indent="-2343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3300"/>
                </a:solidFill>
                <a:latin typeface="Arial"/>
              </a:rPr>
              <a:t>L’accès aux propriétés du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760" indent="-2343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3300"/>
                </a:solidFill>
                <a:latin typeface="Arial"/>
              </a:rPr>
              <a:t>L’installation de nouveaux bun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760" indent="-2343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3300"/>
                </a:solidFill>
                <a:latin typeface="Arial"/>
              </a:rPr>
              <a:t>L’accès à la liste des bun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D48-AA7E-46E2-A0FB-A274D6473B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BundleContext et Activat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2590920"/>
            <a:ext cx="1447920" cy="1295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14440" y="3330720"/>
            <a:ext cx="934920" cy="23796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0" y="432"/>
                </a:moveTo>
                <a:lnTo>
                  <a:pt x="0" y="0"/>
                </a:lnTo>
                <a:lnTo>
                  <a:pt x="144" y="0"/>
                </a:lnTo>
                <a:lnTo>
                  <a:pt x="144" y="288"/>
                </a:lnTo>
                <a:lnTo>
                  <a:pt x="1344" y="288"/>
                </a:lnTo>
                <a:lnTo>
                  <a:pt x="1344" y="0"/>
                </a:lnTo>
                <a:lnTo>
                  <a:pt x="1488" y="0"/>
                </a:lnTo>
                <a:lnTo>
                  <a:pt x="1488" y="432"/>
                </a:lnTo>
                <a:lnTo>
                  <a:pt x="0" y="432"/>
                </a:lnTo>
                <a:close/>
              </a:path>
            </a:pathLst>
          </a:custGeom>
          <a:solidFill>
            <a:srgbClr val="5490a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04800" y="3171960"/>
            <a:ext cx="120960" cy="317520"/>
          </a:xfrm>
          <a:prstGeom prst="rect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55640" y="3171960"/>
            <a:ext cx="120600" cy="317520"/>
          </a:xfrm>
          <a:prstGeom prst="rect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06480" y="3171960"/>
            <a:ext cx="120600" cy="3175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8600" y="2843280"/>
            <a:ext cx="9352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ervice Bund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384200" y="3040200"/>
            <a:ext cx="663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5280" y="3040200"/>
            <a:ext cx="0" cy="13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16120" y="3040200"/>
            <a:ext cx="0" cy="13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66960" y="3040200"/>
            <a:ext cx="0" cy="13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35040" y="3608280"/>
            <a:ext cx="1843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2209680"/>
            <a:ext cx="304560" cy="2057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2133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952880" y="25146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57800" y="266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3505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20120" y="21337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8001000" y="1980720"/>
            <a:ext cx="304920" cy="304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20120" y="25909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8001000" y="2437920"/>
            <a:ext cx="304920" cy="304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57800" y="4038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20120" y="3505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20120" y="3962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15000" y="1752480"/>
            <a:ext cx="1905120" cy="27432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743200"/>
              <a:gd name="textAreaBottom" fmla="*/ 2650320 h 2743200"/>
            </a:gdLst>
            <a:ahLst/>
            <a:rect l="textAreaLeft" t="textAreaTop" r="textAreaRight" b="textAreaBottom"/>
            <a:pathLst>
              <a:path w="21600" h="31100">
                <a:moveTo>
                  <a:pt x="3600" y="0"/>
                </a:moveTo>
                <a:arcTo wR="3600" hR="3600" stAng="16200000" swAng="-5400000"/>
                <a:lnTo>
                  <a:pt x="0" y="27500"/>
                </a:lnTo>
                <a:arcTo wR="3600" hR="3600" stAng="10800000" swAng="-5400000"/>
                <a:lnTo>
                  <a:pt x="18000" y="31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4952160" y="3352680"/>
            <a:ext cx="304920" cy="30492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848720" y="3352680"/>
            <a:ext cx="380880" cy="304920"/>
          </a:xfrm>
          <a:custGeom>
            <a:avLst/>
            <a:gdLst>
              <a:gd name="textAreaLeft" fmla="*/ 360 w 380880"/>
              <a:gd name="textAreaRight" fmla="*/ 38160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952160" y="3886200"/>
            <a:ext cx="304920" cy="30492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848720" y="3809880"/>
            <a:ext cx="380880" cy="304920"/>
          </a:xfrm>
          <a:custGeom>
            <a:avLst/>
            <a:gdLst>
              <a:gd name="textAreaLeft" fmla="*/ 360 w 380880"/>
              <a:gd name="textAreaRight" fmla="*/ 381600 w 380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019920" y="4038480"/>
            <a:ext cx="12952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und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62000" y="1523880"/>
            <a:ext cx="740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Bu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819040" y="4952880"/>
            <a:ext cx="193464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rt(BundleContext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op(BundleContext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erviceChang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112120" y="4767120"/>
            <a:ext cx="1990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gisterServic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etServiceReferences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etDataFil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ddServiceListener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ddBundleListener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ddFrameworkListener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352680" y="2895480"/>
            <a:ext cx="3200400" cy="2019600"/>
          </a:xfrm>
          <a:custGeom>
            <a:avLst/>
            <a:gdLst/>
            <a:ahLst/>
            <a:rect l="l" t="t" r="r" b="b"/>
            <a:pathLst>
              <a:path w="2016" h="1272">
                <a:moveTo>
                  <a:pt x="0" y="48"/>
                </a:moveTo>
                <a:cubicBezTo>
                  <a:pt x="104" y="24"/>
                  <a:pt x="208" y="0"/>
                  <a:pt x="288" y="48"/>
                </a:cubicBezTo>
                <a:cubicBezTo>
                  <a:pt x="368" y="96"/>
                  <a:pt x="416" y="200"/>
                  <a:pt x="480" y="336"/>
                </a:cubicBezTo>
                <a:cubicBezTo>
                  <a:pt x="544" y="472"/>
                  <a:pt x="568" y="728"/>
                  <a:pt x="672" y="864"/>
                </a:cubicBezTo>
                <a:cubicBezTo>
                  <a:pt x="776" y="1000"/>
                  <a:pt x="912" y="1088"/>
                  <a:pt x="1104" y="1152"/>
                </a:cubicBezTo>
                <a:cubicBezTo>
                  <a:pt x="1296" y="1216"/>
                  <a:pt x="1672" y="1272"/>
                  <a:pt x="1824" y="1248"/>
                </a:cubicBezTo>
                <a:cubicBezTo>
                  <a:pt x="1976" y="1224"/>
                  <a:pt x="1996" y="1116"/>
                  <a:pt x="2016" y="1008"/>
                </a:cubicBezTo>
              </a:path>
            </a:pathLst>
          </a:custGeom>
          <a:noFill/>
          <a:ln w="9360">
            <a:solidFill>
              <a:srgbClr val="33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F0A-AC40-4B6F-A050-9CB03F2E14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ccès aux ressources et aux fichi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1154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is.getClass().getRessourceAsStream(String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th="/" correspond à la racine du JAR (BUNDLE-CLASS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ée à l'architecture des classlo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pport de per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ndleContext.getDataFile(String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th="" correspond à la racine du cache du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le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rôle les permissions du Bundle au pa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ndle - public URL getResource(String name) throws IllegalStateExce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8AC-B93E-46BC-BEE3-C2BBFE6C9C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Interroger le bundlecontex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1177920"/>
            <a:ext cx="8700840" cy="299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org.osgi.framewor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BundleContext {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undle getBundle() throws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undle getBundle(long 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undle[] getBundle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File getDataFile(String filename) throws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tring getProperty(String ke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undle installBundle(String location) throws BundleException, Security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undle installBundle(String location, InputStream in) throws Bundl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079-5A94-4098-BFB2-83EFF3C933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énement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services dépendent les uns des au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environnement est dynam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service n'est pas lié de manière persistante à un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mécanisme de gestion d'événements permet de suivre le cycle de vie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0D7-A024-4811-A3A3-153B290A52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4527360" y="1752480"/>
            <a:ext cx="1143000" cy="914400"/>
            <a:chOff x="4527360" y="1752480"/>
            <a:chExt cx="1143000" cy="914400"/>
          </a:xfrm>
        </p:grpSpPr>
        <p:grpSp>
          <p:nvGrpSpPr>
            <p:cNvPr id="458" name=""/>
            <p:cNvGrpSpPr/>
            <p:nvPr/>
          </p:nvGrpSpPr>
          <p:grpSpPr>
            <a:xfrm>
              <a:off x="4527360" y="2514240"/>
              <a:ext cx="381240" cy="152640"/>
              <a:chOff x="4527360" y="2514240"/>
              <a:chExt cx="381240" cy="152640"/>
            </a:xfrm>
          </p:grpSpPr>
          <p:sp>
            <p:nvSpPr>
              <p:cNvPr id="459" name=""/>
              <p:cNvSpPr/>
              <p:nvPr/>
            </p:nvSpPr>
            <p:spPr>
              <a:xfrm flipH="1">
                <a:off x="4527000" y="2514240"/>
                <a:ext cx="152280" cy="152640"/>
              </a:xfrm>
              <a:custGeom>
                <a:avLst/>
                <a:gdLst>
                  <a:gd name="textAreaLeft" fmla="*/ -360 w 152280"/>
                  <a:gd name="textAreaRight" fmla="*/ 152280 w 1522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80000" y="2590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5366160" y="1752480"/>
              <a:ext cx="304200" cy="152280"/>
              <a:chOff x="5366160" y="1752480"/>
              <a:chExt cx="304200" cy="152280"/>
            </a:xfrm>
          </p:grpSpPr>
          <p:sp>
            <p:nvSpPr>
              <p:cNvPr id="462" name=""/>
              <p:cNvSpPr/>
              <p:nvPr/>
            </p:nvSpPr>
            <p:spPr>
              <a:xfrm>
                <a:off x="5366160" y="1828800"/>
                <a:ext cx="19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5479560" y="1752480"/>
                <a:ext cx="190440" cy="152280"/>
              </a:xfrm>
              <a:custGeom>
                <a:avLst/>
                <a:gdLst>
                  <a:gd name="textAreaLeft" fmla="*/ -360 w 190440"/>
                  <a:gd name="textAreaRight" fmla="*/ 190440 w 1904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3536640" y="2743200"/>
            <a:ext cx="381240" cy="152280"/>
            <a:chOff x="3536640" y="2743200"/>
            <a:chExt cx="381240" cy="152280"/>
          </a:xfrm>
        </p:grpSpPr>
        <p:sp>
          <p:nvSpPr>
            <p:cNvPr id="465" name=""/>
            <p:cNvSpPr/>
            <p:nvPr/>
          </p:nvSpPr>
          <p:spPr>
            <a:xfrm flipH="1">
              <a:off x="3536280" y="274320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89280" y="2819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232080" y="2743200"/>
            <a:ext cx="304200" cy="152280"/>
            <a:chOff x="3232080" y="2743200"/>
            <a:chExt cx="304200" cy="152280"/>
          </a:xfrm>
        </p:grpSpPr>
        <p:sp>
          <p:nvSpPr>
            <p:cNvPr id="468" name=""/>
            <p:cNvSpPr/>
            <p:nvPr/>
          </p:nvSpPr>
          <p:spPr>
            <a:xfrm>
              <a:off x="3232080" y="281952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345480" y="2743200"/>
              <a:ext cx="190440" cy="15228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47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én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74880" y="3276720"/>
            <a:ext cx="5029200" cy="380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79720" y="3352680"/>
            <a:ext cx="89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74880" y="3809880"/>
            <a:ext cx="5029200" cy="3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438440" y="3886200"/>
            <a:ext cx="1468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JAVA VIRTUAL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31720" y="2514600"/>
            <a:ext cx="93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undles Acti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394000" y="1828800"/>
            <a:ext cx="380880" cy="152280"/>
            <a:chOff x="2394000" y="1828800"/>
            <a:chExt cx="380880" cy="152280"/>
          </a:xfrm>
        </p:grpSpPr>
        <p:sp>
          <p:nvSpPr>
            <p:cNvPr id="477" name=""/>
            <p:cNvSpPr/>
            <p:nvPr/>
          </p:nvSpPr>
          <p:spPr>
            <a:xfrm>
              <a:off x="2394000" y="182880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63200" y="190512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232080" y="1828440"/>
            <a:ext cx="304560" cy="152280"/>
            <a:chOff x="3232080" y="1828440"/>
            <a:chExt cx="304560" cy="152280"/>
          </a:xfrm>
        </p:grpSpPr>
        <p:sp>
          <p:nvSpPr>
            <p:cNvPr id="480" name=""/>
            <p:cNvSpPr/>
            <p:nvPr/>
          </p:nvSpPr>
          <p:spPr>
            <a:xfrm>
              <a:off x="3232080" y="190512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6200000">
              <a:off x="3385800" y="1829880"/>
              <a:ext cx="15228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394000" y="2057400"/>
            <a:ext cx="380880" cy="152280"/>
            <a:chOff x="2394000" y="2057400"/>
            <a:chExt cx="380880" cy="152280"/>
          </a:xfrm>
        </p:grpSpPr>
        <p:sp>
          <p:nvSpPr>
            <p:cNvPr id="483" name=""/>
            <p:cNvSpPr/>
            <p:nvPr/>
          </p:nvSpPr>
          <p:spPr>
            <a:xfrm>
              <a:off x="2394000" y="205740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63200" y="213372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232080" y="2057040"/>
            <a:ext cx="304560" cy="152280"/>
            <a:chOff x="3232080" y="2057040"/>
            <a:chExt cx="304560" cy="152280"/>
          </a:xfrm>
        </p:grpSpPr>
        <p:sp>
          <p:nvSpPr>
            <p:cNvPr id="486" name=""/>
            <p:cNvSpPr/>
            <p:nvPr/>
          </p:nvSpPr>
          <p:spPr>
            <a:xfrm>
              <a:off x="3232080" y="213372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6200000">
              <a:off x="3385800" y="2058480"/>
              <a:ext cx="15228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394000" y="1600200"/>
            <a:ext cx="380880" cy="152280"/>
            <a:chOff x="2394000" y="1600200"/>
            <a:chExt cx="380880" cy="152280"/>
          </a:xfrm>
        </p:grpSpPr>
        <p:sp>
          <p:nvSpPr>
            <p:cNvPr id="489" name=""/>
            <p:cNvSpPr/>
            <p:nvPr/>
          </p:nvSpPr>
          <p:spPr>
            <a:xfrm>
              <a:off x="2394000" y="160020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63200" y="167652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774880" y="160020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460680" y="2362320"/>
            <a:ext cx="380880" cy="152280"/>
            <a:chOff x="3460680" y="2362320"/>
            <a:chExt cx="380880" cy="152280"/>
          </a:xfrm>
        </p:grpSpPr>
        <p:sp>
          <p:nvSpPr>
            <p:cNvPr id="493" name=""/>
            <p:cNvSpPr/>
            <p:nvPr/>
          </p:nvSpPr>
          <p:spPr>
            <a:xfrm>
              <a:off x="3460680" y="236232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29880" y="243864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841920" y="160020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299120" y="2133360"/>
            <a:ext cx="304560" cy="152280"/>
            <a:chOff x="4299120" y="2133360"/>
            <a:chExt cx="304560" cy="152280"/>
          </a:xfrm>
        </p:grpSpPr>
        <p:sp>
          <p:nvSpPr>
            <p:cNvPr id="497" name=""/>
            <p:cNvSpPr/>
            <p:nvPr/>
          </p:nvSpPr>
          <p:spPr>
            <a:xfrm>
              <a:off x="4299120" y="221004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6200000">
              <a:off x="4452840" y="2134800"/>
              <a:ext cx="15228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460680" y="2120760"/>
            <a:ext cx="88920" cy="241560"/>
          </a:xfrm>
          <a:custGeom>
            <a:avLst/>
            <a:gdLst/>
            <a:ahLst/>
            <a:rect l="l" t="t" r="r" b="b"/>
            <a:pathLst>
              <a:path w="56" h="152">
                <a:moveTo>
                  <a:pt x="0" y="8"/>
                </a:moveTo>
                <a:cubicBezTo>
                  <a:pt x="20" y="4"/>
                  <a:pt x="40" y="0"/>
                  <a:pt x="48" y="8"/>
                </a:cubicBezTo>
                <a:cubicBezTo>
                  <a:pt x="56" y="16"/>
                  <a:pt x="48" y="32"/>
                  <a:pt x="48" y="56"/>
                </a:cubicBezTo>
                <a:cubicBezTo>
                  <a:pt x="48" y="80"/>
                  <a:pt x="48" y="116"/>
                  <a:pt x="48" y="152"/>
                </a:cubicBez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16160" y="1193760"/>
            <a:ext cx="2413080" cy="1015920"/>
          </a:xfrm>
          <a:custGeom>
            <a:avLst/>
            <a:gdLst/>
            <a:ahLst/>
            <a:rect l="l" t="t" r="r" b="b"/>
            <a:pathLst>
              <a:path w="1520" h="640">
                <a:moveTo>
                  <a:pt x="1456" y="640"/>
                </a:moveTo>
                <a:cubicBezTo>
                  <a:pt x="1476" y="640"/>
                  <a:pt x="1496" y="640"/>
                  <a:pt x="1504" y="592"/>
                </a:cubicBezTo>
                <a:cubicBezTo>
                  <a:pt x="1512" y="544"/>
                  <a:pt x="1520" y="432"/>
                  <a:pt x="1504" y="352"/>
                </a:cubicBezTo>
                <a:cubicBezTo>
                  <a:pt x="1488" y="272"/>
                  <a:pt x="1472" y="168"/>
                  <a:pt x="1408" y="112"/>
                </a:cubicBezTo>
                <a:cubicBezTo>
                  <a:pt x="1344" y="56"/>
                  <a:pt x="1264" y="32"/>
                  <a:pt x="1120" y="16"/>
                </a:cubicBezTo>
                <a:cubicBezTo>
                  <a:pt x="976" y="0"/>
                  <a:pt x="712" y="8"/>
                  <a:pt x="544" y="16"/>
                </a:cubicBezTo>
                <a:cubicBezTo>
                  <a:pt x="376" y="24"/>
                  <a:pt x="200" y="40"/>
                  <a:pt x="112" y="64"/>
                </a:cubicBezTo>
                <a:cubicBezTo>
                  <a:pt x="24" y="88"/>
                  <a:pt x="32" y="128"/>
                  <a:pt x="16" y="160"/>
                </a:cubicBezTo>
                <a:cubicBezTo>
                  <a:pt x="0" y="192"/>
                  <a:pt x="0" y="232"/>
                  <a:pt x="16" y="256"/>
                </a:cubicBezTo>
                <a:cubicBezTo>
                  <a:pt x="32" y="280"/>
                  <a:pt x="72" y="292"/>
                  <a:pt x="112" y="304"/>
                </a:cubicBez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365800" y="2859120"/>
            <a:ext cx="2867400" cy="417240"/>
            <a:chOff x="5365800" y="2859120"/>
            <a:chExt cx="2867400" cy="417240"/>
          </a:xfrm>
        </p:grpSpPr>
        <p:sp>
          <p:nvSpPr>
            <p:cNvPr id="502" name=""/>
            <p:cNvSpPr/>
            <p:nvPr/>
          </p:nvSpPr>
          <p:spPr>
            <a:xfrm>
              <a:off x="5365800" y="2971800"/>
              <a:ext cx="685440" cy="304560"/>
            </a:xfrm>
            <a:custGeom>
              <a:avLst/>
              <a:gdLst/>
              <a:ahLst/>
              <a:rect l="l" t="t" r="r" b="b"/>
              <a:pathLst>
                <a:path w="432" h="672">
                  <a:moveTo>
                    <a:pt x="0" y="0"/>
                  </a:moveTo>
                  <a:cubicBezTo>
                    <a:pt x="88" y="40"/>
                    <a:pt x="176" y="80"/>
                    <a:pt x="240" y="144"/>
                  </a:cubicBezTo>
                  <a:cubicBezTo>
                    <a:pt x="304" y="208"/>
                    <a:pt x="352" y="296"/>
                    <a:pt x="384" y="384"/>
                  </a:cubicBezTo>
                  <a:cubicBezTo>
                    <a:pt x="416" y="472"/>
                    <a:pt x="424" y="572"/>
                    <a:pt x="432" y="67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07760" y="2859120"/>
              <a:ext cx="212544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registrement de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460680" y="1905120"/>
            <a:ext cx="1143000" cy="1344600"/>
          </a:xfrm>
          <a:custGeom>
            <a:avLst/>
            <a:gdLst/>
            <a:ahLst/>
            <a:rect l="l" t="t" r="r" b="b"/>
            <a:pathLst>
              <a:path w="720" h="847">
                <a:moveTo>
                  <a:pt x="0" y="0"/>
                </a:moveTo>
                <a:cubicBezTo>
                  <a:pt x="26" y="16"/>
                  <a:pt x="132" y="44"/>
                  <a:pt x="160" y="96"/>
                </a:cubicBezTo>
                <a:cubicBezTo>
                  <a:pt x="188" y="148"/>
                  <a:pt x="161" y="200"/>
                  <a:pt x="168" y="312"/>
                </a:cubicBezTo>
                <a:cubicBezTo>
                  <a:pt x="175" y="424"/>
                  <a:pt x="132" y="689"/>
                  <a:pt x="200" y="768"/>
                </a:cubicBezTo>
                <a:cubicBezTo>
                  <a:pt x="268" y="847"/>
                  <a:pt x="489" y="809"/>
                  <a:pt x="576" y="784"/>
                </a:cubicBezTo>
                <a:cubicBezTo>
                  <a:pt x="663" y="759"/>
                  <a:pt x="690" y="651"/>
                  <a:pt x="720" y="616"/>
                </a:cubicBez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908600" y="1600200"/>
            <a:ext cx="457200" cy="15238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03680" y="5105520"/>
            <a:ext cx="457200" cy="22860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54120" y="5105520"/>
            <a:ext cx="5007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03680" y="5410080"/>
            <a:ext cx="457200" cy="2286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157360" y="5410080"/>
            <a:ext cx="660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603680" y="5715000"/>
            <a:ext cx="457200" cy="2286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157360" y="5715000"/>
            <a:ext cx="6408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92960" y="5181480"/>
            <a:ext cx="16466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Évènements du Frame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79600" y="5334120"/>
            <a:ext cx="457200" cy="0"/>
          </a:xfrm>
          <a:prstGeom prst="line">
            <a:avLst/>
          </a:prstGeom>
          <a:ln w="28440">
            <a:solidFill>
              <a:srgbClr val="3366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51000" y="5029200"/>
            <a:ext cx="5105520" cy="990720"/>
          </a:xfrm>
          <a:prstGeom prst="rect">
            <a:avLst/>
          </a:prstGeom>
          <a:noFill/>
          <a:ln w="93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38200" y="4876920"/>
            <a:ext cx="672840" cy="21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égend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527720" y="2819520"/>
            <a:ext cx="380880" cy="152280"/>
            <a:chOff x="4527720" y="2819520"/>
            <a:chExt cx="380880" cy="152280"/>
          </a:xfrm>
        </p:grpSpPr>
        <p:sp>
          <p:nvSpPr>
            <p:cNvPr id="517" name=""/>
            <p:cNvSpPr/>
            <p:nvPr/>
          </p:nvSpPr>
          <p:spPr>
            <a:xfrm>
              <a:off x="4527720" y="281952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6920" y="289584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467000" y="888840"/>
            <a:ext cx="4406760" cy="1930680"/>
          </a:xfrm>
          <a:custGeom>
            <a:avLst/>
            <a:gdLst/>
            <a:ahLst/>
            <a:rect l="l" t="t" r="r" b="b"/>
            <a:pathLst>
              <a:path w="2776" h="1216">
                <a:moveTo>
                  <a:pt x="2600" y="592"/>
                </a:moveTo>
                <a:cubicBezTo>
                  <a:pt x="2660" y="568"/>
                  <a:pt x="2720" y="544"/>
                  <a:pt x="2744" y="496"/>
                </a:cubicBezTo>
                <a:cubicBezTo>
                  <a:pt x="2768" y="448"/>
                  <a:pt x="2776" y="368"/>
                  <a:pt x="2744" y="304"/>
                </a:cubicBezTo>
                <a:cubicBezTo>
                  <a:pt x="2712" y="240"/>
                  <a:pt x="2736" y="152"/>
                  <a:pt x="2552" y="112"/>
                </a:cubicBezTo>
                <a:cubicBezTo>
                  <a:pt x="2368" y="72"/>
                  <a:pt x="2024" y="56"/>
                  <a:pt x="1640" y="64"/>
                </a:cubicBezTo>
                <a:cubicBezTo>
                  <a:pt x="1256" y="72"/>
                  <a:pt x="496" y="0"/>
                  <a:pt x="248" y="160"/>
                </a:cubicBezTo>
                <a:cubicBezTo>
                  <a:pt x="0" y="320"/>
                  <a:pt x="96" y="848"/>
                  <a:pt x="152" y="1024"/>
                </a:cubicBezTo>
                <a:cubicBezTo>
                  <a:pt x="208" y="1200"/>
                  <a:pt x="396" y="1208"/>
                  <a:pt x="584" y="1216"/>
                </a:cubicBezTo>
              </a:path>
            </a:pathLst>
          </a:custGeom>
          <a:noFill/>
          <a:ln w="190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393640" y="2743200"/>
            <a:ext cx="381240" cy="152280"/>
            <a:chOff x="2393640" y="2743200"/>
            <a:chExt cx="381240" cy="152280"/>
          </a:xfrm>
        </p:grpSpPr>
        <p:sp>
          <p:nvSpPr>
            <p:cNvPr id="521" name=""/>
            <p:cNvSpPr/>
            <p:nvPr/>
          </p:nvSpPr>
          <p:spPr>
            <a:xfrm flipH="1">
              <a:off x="2393280" y="274320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46280" y="2819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931680" y="2895480"/>
            <a:ext cx="4011480" cy="749160"/>
            <a:chOff x="931680" y="2895480"/>
            <a:chExt cx="4011480" cy="749160"/>
          </a:xfrm>
        </p:grpSpPr>
        <p:sp>
          <p:nvSpPr>
            <p:cNvPr id="524" name=""/>
            <p:cNvSpPr/>
            <p:nvPr/>
          </p:nvSpPr>
          <p:spPr>
            <a:xfrm>
              <a:off x="2469960" y="2895480"/>
              <a:ext cx="304560" cy="53352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192" y="336"/>
                  </a:moveTo>
                  <a:cubicBezTo>
                    <a:pt x="136" y="328"/>
                    <a:pt x="80" y="320"/>
                    <a:pt x="48" y="288"/>
                  </a:cubicBezTo>
                  <a:cubicBezTo>
                    <a:pt x="16" y="256"/>
                    <a:pt x="0" y="184"/>
                    <a:pt x="0" y="144"/>
                  </a:cubicBezTo>
                  <a:cubicBezTo>
                    <a:pt x="0" y="104"/>
                    <a:pt x="16" y="72"/>
                    <a:pt x="48" y="48"/>
                  </a:cubicBezTo>
                  <a:cubicBezTo>
                    <a:pt x="80" y="24"/>
                    <a:pt x="136" y="12"/>
                    <a:pt x="192" y="0"/>
                  </a:cubicBezTo>
                </a:path>
              </a:pathLst>
            </a:custGeom>
            <a:noFill/>
            <a:ln w="19080">
              <a:solidFill>
                <a:srgbClr val="3366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02080" y="2895480"/>
              <a:ext cx="339120" cy="370080"/>
            </a:xfrm>
            <a:custGeom>
              <a:avLst/>
              <a:gdLst/>
              <a:ahLst/>
              <a:rect l="l" t="t" r="r" b="b"/>
              <a:pathLst>
                <a:path w="214" h="233">
                  <a:moveTo>
                    <a:pt x="11" y="233"/>
                  </a:moveTo>
                  <a:cubicBezTo>
                    <a:pt x="15" y="208"/>
                    <a:pt x="0" y="122"/>
                    <a:pt x="34" y="83"/>
                  </a:cubicBezTo>
                  <a:cubicBezTo>
                    <a:pt x="68" y="44"/>
                    <a:pt x="176" y="17"/>
                    <a:pt x="214" y="0"/>
                  </a:cubicBezTo>
                </a:path>
              </a:pathLst>
            </a:custGeom>
            <a:noFill/>
            <a:ln w="19080">
              <a:solidFill>
                <a:srgbClr val="3366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31680" y="3200400"/>
              <a:ext cx="11271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ServiceEvent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REGIST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03680" y="3048120"/>
              <a:ext cx="339480" cy="217440"/>
            </a:xfrm>
            <a:custGeom>
              <a:avLst/>
              <a:gdLst/>
              <a:ahLst/>
              <a:rect l="l" t="t" r="r" b="b"/>
              <a:pathLst>
                <a:path w="214" h="233">
                  <a:moveTo>
                    <a:pt x="11" y="233"/>
                  </a:moveTo>
                  <a:cubicBezTo>
                    <a:pt x="15" y="208"/>
                    <a:pt x="0" y="122"/>
                    <a:pt x="34" y="83"/>
                  </a:cubicBezTo>
                  <a:cubicBezTo>
                    <a:pt x="68" y="44"/>
                    <a:pt x="176" y="17"/>
                    <a:pt x="214" y="0"/>
                  </a:cubicBezTo>
                </a:path>
              </a:pathLst>
            </a:custGeom>
            <a:noFill/>
            <a:ln w="19080">
              <a:solidFill>
                <a:srgbClr val="3366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774880" y="289548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41920" y="289548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764640" y="2992320"/>
            <a:ext cx="2848320" cy="728640"/>
            <a:chOff x="764640" y="2992320"/>
            <a:chExt cx="2848320" cy="728640"/>
          </a:xfrm>
        </p:grpSpPr>
        <p:sp>
          <p:nvSpPr>
            <p:cNvPr id="531" name=""/>
            <p:cNvSpPr/>
            <p:nvPr/>
          </p:nvSpPr>
          <p:spPr>
            <a:xfrm>
              <a:off x="3232080" y="2992320"/>
              <a:ext cx="380880" cy="31752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0"/>
                  </a:moveTo>
                  <a:cubicBezTo>
                    <a:pt x="52" y="16"/>
                    <a:pt x="104" y="32"/>
                    <a:pt x="144" y="96"/>
                  </a:cubicBezTo>
                  <a:cubicBezTo>
                    <a:pt x="184" y="160"/>
                    <a:pt x="212" y="272"/>
                    <a:pt x="240" y="384"/>
                  </a:cubicBezTo>
                </a:path>
              </a:pathLst>
            </a:custGeom>
            <a:noFill/>
            <a:ln w="19080">
              <a:solidFill>
                <a:srgbClr val="3366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4640" y="3276720"/>
              <a:ext cx="1637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mande Référ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u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479600" y="5715000"/>
            <a:ext cx="380880" cy="152280"/>
            <a:chOff x="1479600" y="5715000"/>
            <a:chExt cx="380880" cy="152280"/>
          </a:xfrm>
        </p:grpSpPr>
        <p:sp>
          <p:nvSpPr>
            <p:cNvPr id="534" name=""/>
            <p:cNvSpPr/>
            <p:nvPr/>
          </p:nvSpPr>
          <p:spPr>
            <a:xfrm>
              <a:off x="1479600" y="571500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48800" y="579132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954440" y="5410080"/>
            <a:ext cx="6822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Packa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963080" y="5638680"/>
            <a:ext cx="6152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479240" y="5486400"/>
            <a:ext cx="381240" cy="152280"/>
            <a:chOff x="1479240" y="5486400"/>
            <a:chExt cx="381240" cy="152280"/>
          </a:xfrm>
        </p:grpSpPr>
        <p:sp>
          <p:nvSpPr>
            <p:cNvPr id="539" name=""/>
            <p:cNvSpPr/>
            <p:nvPr/>
          </p:nvSpPr>
          <p:spPr>
            <a:xfrm flipH="1">
              <a:off x="1478880" y="548640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31880" y="5562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4910040" y="160020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08600" y="289548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26F-EE4D-4083-81C0-FC166DC052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Évén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rvice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ifie l’enregistrement ou le retrait 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fac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erviceListen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éthod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erviceCh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itement séquentiel et synchrone des liste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amework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ifie le démarrage et les erreurs du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fac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FrameworkListen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éthod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framework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itement séquentiel et asynchrone des listeners (par event dispat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ndle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ifie les changements dans le cycle de vie des bun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fac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BundleListen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éthod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bundleCh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itement séquentiel et asynchrone des listeners (par event dispat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fac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nchronousBundleListen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éthode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bundleCh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itement séquentiel et synchrone des listeners (avant le traitement du changement d’ét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BA9-7DF8-4C96-A4E1-A777E7F0A5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73240" y="7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dépendance de servi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82160" y="11430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 un service dépend d'un autr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late-forme ne gère pas cet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service, ne peut jamais supposer de l'existence d'un autre service, donc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it il y a recherche du service à chaque invocation de la méthode (coût d'exécution, possible par ex. deb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it le service est un « listener » des événements concernant l'autr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marqu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ne présuppose pas non plus de l'ordre de lancement de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'est au client de gérer les références m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5BD-1C8C-4C86-BB0E-8193B20A93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68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 pla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160" y="1457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inition d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ndle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vén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4B6-F1E5-44BA-AAD1-6F9291D9A1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22480" y="-360"/>
            <a:ext cx="802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 client qui gère les dépenda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8" name="uml-event" descr=""/>
          <p:cNvPicPr/>
          <p:nvPr/>
        </p:nvPicPr>
        <p:blipFill>
          <a:blip r:embed="rId1"/>
          <a:stretch/>
        </p:blipFill>
        <p:spPr>
          <a:xfrm>
            <a:off x="101520" y="1062000"/>
            <a:ext cx="7143840" cy="51609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303800" y="4826160"/>
            <a:ext cx="183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8497800" y="85680"/>
            <a:ext cx="397080" cy="39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BE3-122B-44C9-90DE-23A9D38AFB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732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Un client du service echo (1/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35080" y="1185480"/>
            <a:ext cx="85644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it trouver un Service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ui-même éven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7240" y="2119320"/>
            <a:ext cx="84664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undleContext.addServiceListener(this,"(objectClass="+EchoService.class.getName()+")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catch(InvalidSyntaxException e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row new BundleException("EchoServiceImpl.constructor:filtre LDAP"+e.toString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63520" y="3852720"/>
            <a:ext cx="184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6AD-8B22-4CD5-A160-CD0ACACBF6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732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Un client du service echo (2/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35080" y="1185480"/>
            <a:ext cx="85644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it gérer les événements (le filtre est bien utile 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79400" y="1768320"/>
            <a:ext cx="5407200" cy="350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serviceChanged(ServiceEvent serviceeve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Reference sr=bc.getServiceReferenc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itch(serviceevent.getType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se ServiceEvent.REGISTER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on1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se ServiceEvent.UNREGISTER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on2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se ServiceEvent.MODIFI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on3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39F-307C-43E5-BF0E-A62D15CB42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7324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aire un client du service Ec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64600" y="1276200"/>
            <a:ext cx="901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fin qu'il soit listener du service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'il gère l'apparition/le retrait du service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faut faire un thread indépendant qui exécute le service (invocation automatique de la méthode du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8575560" y="163440"/>
            <a:ext cx="39708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AF2-DEFC-45DE-A127-7ED1CD5CA8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Récupération des événements</a:t>
            </a:r>
            <a:br>
              <a:rPr sz="3600"/>
            </a:b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avec le bundlecontext (1/3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7840" y="1674360"/>
            <a:ext cx="8701200" cy="299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org.osgi.framewor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BundleContext {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addBundleListener(BundleListener listener) throws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addFrameworkListener(Framework listener) throws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addServiceListener(ServiceListener listener) thows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addServiceListener(ServiceListener listener, String filter) throws InvalidSyntaxException,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…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move{Bundle|Service|Framework}Listener({Bundle|Service|Framework}Listener listener) throws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CCF-04E1-4BAF-A1E3-E7D4EC3FC5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Récupération des événements</a:t>
            </a:r>
            <a:br>
              <a:rPr sz="3600"/>
            </a:b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avec le bundlecontext (2/3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7760" y="1152000"/>
            <a:ext cx="8701200" cy="299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org.osgi.framewor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BundleListener extends java.util.EventListen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bundleChanged(BundleEvent eve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FrameworkListener extends java.util.EventListen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frameworkEvent(FrameworkEvent eve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ServiceListener extends java.util.ServiceListen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ServiceChanged(ServiceEvent eve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EEF-D94C-43EF-ACAE-951F29DB22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Récupération des événements</a:t>
            </a:r>
            <a:br>
              <a:rPr sz="3600"/>
            </a:b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avec le bundlecontext (3/3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600" y="1168560"/>
            <a:ext cx="8701200" cy="46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class BundleEvent extends java.util.EventObject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static final int INSTALLED, START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TOPPED, UNINSTALLED, UPDATE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BundleEvent(int type, Bundle bundl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Bundle getBundl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int getTyp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class FrameworkEvent extends java.util.EventObject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static final int ERROR, STARTE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FrameworkEvent (int type, Bundle bundle, Throwable throwabl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FrameworkEvent (int type, Object sourc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Bundle getSourc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Throwable getThrowabl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int getTyp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class ServiceEvent extends java.util.EventObject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static final int MODIFIED, REGISTERED, UNREGISTER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ServiceEvent (int type, ServiceReference referenc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ServiceReference getServiceReferenc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ublic int getTyp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1BE-28B5-492F-9E3A-1F8CDB7E8C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registrement de servic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vec des propriété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8600" y="1600200"/>
            <a:ext cx="8534520" cy="40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ackage com.lexmark.printer.laser.imp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public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class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Activator 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implements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BundleActiva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private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ServiceRegistration reg=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null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  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private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PrintService theService=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null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  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public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600" spc="-1" strike="noStrike">
                <a:solidFill>
                  <a:srgbClr val="c00000"/>
                </a:solidFill>
                <a:latin typeface="Arial Narrow"/>
              </a:rPr>
              <a:t>void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start(</a:t>
            </a:r>
            <a:r>
              <a:rPr b="1" lang="fr-FR" sz="1600" spc="-1" strike="noStrike">
                <a:solidFill>
                  <a:srgbClr val="33cc33"/>
                </a:solidFill>
                <a:latin typeface="Arial Narrow"/>
              </a:rPr>
              <a:t>BundleContext ctxt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throws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Bundle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theService=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new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PrintServiceImpl();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roperties props=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new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Properties();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rops.put(</a:t>
            </a:r>
            <a:r>
              <a:rPr b="1" lang="fr-FR" sz="1600" spc="-1" strike="noStrike">
                <a:solidFill>
                  <a:srgbClr val="c10000"/>
                </a:solidFill>
                <a:latin typeface="Arial Narrow"/>
              </a:rPr>
              <a:t>"type"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fr-FR" sz="1600" spc="-1" strike="noStrike">
                <a:solidFill>
                  <a:srgbClr val="c10000"/>
                </a:solidFill>
                <a:latin typeface="Arial Narrow"/>
              </a:rPr>
              <a:t>"laser"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);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rops.put(</a:t>
            </a:r>
            <a:r>
              <a:rPr b="1" lang="fr-FR" sz="1600" spc="-1" strike="noStrike">
                <a:solidFill>
                  <a:srgbClr val="c10000"/>
                </a:solidFill>
                <a:latin typeface="Arial Narrow"/>
              </a:rPr>
              <a:t>"dpi"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fr-FR" sz="1600" spc="-1" strike="noStrike">
                <a:solidFill>
                  <a:srgbClr val="c10000"/>
                </a:solidFill>
                <a:latin typeface="Arial Narrow"/>
              </a:rPr>
              <a:t> "72,150,300,600,1200"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);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rops.put(</a:t>
            </a:r>
            <a:r>
              <a:rPr b="1" lang="fr-FR" sz="1600" spc="-1" strike="noStrike">
                <a:solidFill>
                  <a:srgbClr val="c10000"/>
                </a:solidFill>
                <a:latin typeface="Arial Narrow"/>
              </a:rPr>
              <a:t>"location"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fr-FR" sz="1600" spc="-1" strike="noStrike">
                <a:solidFill>
                  <a:srgbClr val="c10000"/>
                </a:solidFill>
                <a:latin typeface="Arial Narrow"/>
              </a:rPr>
              <a:t>"1st floor"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);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reg=</a:t>
            </a:r>
            <a:r>
              <a:rPr b="1" lang="fr-FR" sz="1600" spc="-1" strike="noStrike">
                <a:solidFill>
                  <a:srgbClr val="33cc33"/>
                </a:solidFill>
                <a:latin typeface="Arial Narrow"/>
              </a:rPr>
              <a:t>ctxt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.registerService(</a:t>
            </a:r>
            <a:r>
              <a:rPr b="1" lang="fr-FR" sz="1600" spc="-1" strike="noStrike">
                <a:solidFill>
                  <a:srgbClr val="c10000"/>
                </a:solidFill>
                <a:latin typeface="Arial Narrow"/>
              </a:rPr>
              <a:t>"org.device.print.PrintService"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, theService, prop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  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public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600" spc="-1" strike="noStrike">
                <a:solidFill>
                  <a:srgbClr val="c00000"/>
                </a:solidFill>
                <a:latin typeface="Arial Narrow"/>
              </a:rPr>
              <a:t>void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stop(</a:t>
            </a:r>
            <a:r>
              <a:rPr b="1" lang="fr-FR" sz="1600" spc="-1" strike="noStrike">
                <a:solidFill>
                  <a:srgbClr val="33cc33"/>
                </a:solidFill>
                <a:latin typeface="Arial Narrow"/>
              </a:rPr>
              <a:t>BundleContext ctxt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throws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Bundle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    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if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reg != </a:t>
            </a:r>
            <a:r>
              <a:rPr b="1" lang="fr-FR" sz="1600" spc="-1" strike="noStrike">
                <a:solidFill>
                  <a:srgbClr val="0000c0"/>
                </a:solidFill>
                <a:latin typeface="Arial Narrow"/>
              </a:rPr>
              <a:t>null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) reg.unregist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286000" y="4343400"/>
            <a:ext cx="532800" cy="293400"/>
            <a:chOff x="2286000" y="4343400"/>
            <a:chExt cx="532800" cy="293400"/>
          </a:xfrm>
        </p:grpSpPr>
        <p:sp>
          <p:nvSpPr>
            <p:cNvPr id="572" name=""/>
            <p:cNvSpPr/>
            <p:nvPr/>
          </p:nvSpPr>
          <p:spPr>
            <a:xfrm>
              <a:off x="2286000" y="4343400"/>
              <a:ext cx="312480" cy="2934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16840" y="4498920"/>
              <a:ext cx="20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59D-66E0-4692-B748-A0F97C85A9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7324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cherche (Courtage) de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ltrage par des expressions de condition LDAP (RFC1960) sur les propriétés enregistrées par les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ressions de fil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pressions simples (attribut opérateur val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leurs de typ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ring, Numerique, Character, Boolean, Vector,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tribut insensible aux majuscules/minus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attribut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objectClas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représente le nom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pérateurs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gt;=, &lt;=, =, ~=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approximativement égal),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=*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prés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necteurs logiques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amp;, |,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8271000" y="380520"/>
            <a:ext cx="795960" cy="333000"/>
            <a:chOff x="8271000" y="380520"/>
            <a:chExt cx="795960" cy="333000"/>
          </a:xfrm>
        </p:grpSpPr>
        <p:sp>
          <p:nvSpPr>
            <p:cNvPr id="577" name=""/>
            <p:cNvSpPr/>
            <p:nvPr/>
          </p:nvSpPr>
          <p:spPr>
            <a:xfrm>
              <a:off x="8271000" y="54000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200000">
              <a:off x="8673840" y="320400"/>
              <a:ext cx="333000" cy="453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3E8-8844-4D51-B92A-0ED5F5510E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herche de servi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us les services d’i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refs=bundleContext.getServiceReferences(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</a:t>
            </a:r>
            <a:r>
              <a:rPr b="1" lang="fr-FR" sz="1600" spc="-1" strike="noStrike">
                <a:solidFill>
                  <a:srgbClr val="ff3300"/>
                </a:solidFill>
                <a:latin typeface="Arial Narrow"/>
              </a:rPr>
              <a:t>org.device.print.PrintService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, </a:t>
            </a:r>
            <a:r>
              <a:rPr b="1" lang="fr-FR" sz="1600" spc="-1" strike="noStrike">
                <a:solidFill>
                  <a:srgbClr val="3366cc"/>
                </a:solidFill>
                <a:latin typeface="Arial Narrow"/>
              </a:rPr>
              <a:t>null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refs=bundleContext.getServiceReferences(</a:t>
            </a:r>
            <a:br>
              <a:rPr sz="1600"/>
            </a:br>
            <a:r>
              <a:rPr b="1" lang="fr-FR" sz="1600" spc="-1" strike="noStrike">
                <a:solidFill>
                  <a:srgbClr val="ff3300"/>
                </a:solidFill>
                <a:latin typeface="Arial Narrow"/>
              </a:rPr>
              <a:t>null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, "</a:t>
            </a:r>
            <a:r>
              <a:rPr b="1" lang="fr-FR" sz="1600" spc="-1" strike="noStrike">
                <a:solidFill>
                  <a:srgbClr val="3366cc"/>
                </a:solidFill>
                <a:latin typeface="Arial Narrow"/>
              </a:rPr>
              <a:t>(objectClass=org.device.print.PrintService)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rtains services d’i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refs=bundleContext.getServiceReferences(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</a:t>
            </a:r>
            <a:r>
              <a:rPr b="1" lang="fr-FR" sz="1600" spc="-1" strike="noStrike">
                <a:solidFill>
                  <a:srgbClr val="ff3300"/>
                </a:solidFill>
                <a:latin typeface="Arial Narrow"/>
              </a:rPr>
              <a:t>org.device.print.PrintService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,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</a:t>
            </a:r>
            <a:r>
              <a:rPr b="1" lang="fr-FR" sz="1600" spc="-1" strike="noStrike">
                <a:solidFill>
                  <a:srgbClr val="3366cc"/>
                </a:solidFill>
                <a:latin typeface="Arial Narrow"/>
              </a:rPr>
              <a:t>(&amp;(!(type=laser))(capability=double-sided)(!(dpi&lt;=300))(location=*)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us les services de org.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refs=bundleContext.getServiceReferences(</a:t>
            </a:r>
            <a:r>
              <a:rPr b="1" lang="fr-FR" sz="1600" spc="-1" strike="noStrike">
                <a:solidFill>
                  <a:srgbClr val="ff3300"/>
                </a:solidFill>
                <a:latin typeface="Arial Narrow"/>
              </a:rPr>
              <a:t>null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</a:t>
            </a:r>
            <a:r>
              <a:rPr b="1" lang="fr-FR" sz="1600" spc="-1" strike="noStrike">
                <a:solidFill>
                  <a:srgbClr val="3366cc"/>
                </a:solidFill>
                <a:latin typeface="Arial Narrow"/>
              </a:rPr>
              <a:t>(objectClass=org.device.*)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service d’impression et de fax au 3ième é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refs=bundleContext.getServiceReferences(</a:t>
            </a:r>
            <a:r>
              <a:rPr b="1" lang="fr-FR" sz="1600" spc="-1" strike="noStrike">
                <a:solidFill>
                  <a:srgbClr val="ff3300"/>
                </a:solidFill>
                <a:latin typeface="Arial Narrow"/>
              </a:rPr>
              <a:t>null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</a:t>
            </a:r>
            <a:r>
              <a:rPr b="1" lang="fr-FR" sz="1600" spc="-1" strike="noStrike">
                <a:solidFill>
                  <a:srgbClr val="3366cc"/>
                </a:solidFill>
                <a:latin typeface="Arial Narrow"/>
              </a:rPr>
              <a:t>(&amp;(objectClass=org.device.print.PrintService)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</a:t>
            </a:r>
            <a:r>
              <a:rPr b="1" lang="fr-FR" sz="1600" spc="-1" strike="noStrike">
                <a:solidFill>
                  <a:srgbClr val="3366cc"/>
                </a:solidFill>
                <a:latin typeface="Arial Narrow"/>
              </a:rPr>
              <a:t>(objectClass= org.device.fax.FaxService)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</a:t>
            </a:r>
            <a:r>
              <a:rPr b="1" lang="fr-FR" sz="1600" spc="-1" strike="noStrike">
                <a:solidFill>
                  <a:srgbClr val="3366cc"/>
                </a:solidFill>
                <a:latin typeface="Arial Narrow"/>
              </a:rPr>
              <a:t>(location=4th floor))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6934320" y="428760"/>
            <a:ext cx="913680" cy="408960"/>
            <a:chOff x="6934320" y="428760"/>
            <a:chExt cx="913680" cy="408960"/>
          </a:xfrm>
        </p:grpSpPr>
        <p:sp>
          <p:nvSpPr>
            <p:cNvPr id="582" name=""/>
            <p:cNvSpPr/>
            <p:nvPr/>
          </p:nvSpPr>
          <p:spPr>
            <a:xfrm>
              <a:off x="6934320" y="62424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6200000">
              <a:off x="7383240" y="372960"/>
              <a:ext cx="408960" cy="520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903-6983-4472-88EA-E93CEAA3E8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952880" y="1600200"/>
            <a:ext cx="457200" cy="15476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410080" y="2889360"/>
            <a:ext cx="1535040" cy="387000"/>
            <a:chOff x="5410080" y="2889360"/>
            <a:chExt cx="1535040" cy="387000"/>
          </a:xfrm>
        </p:grpSpPr>
        <p:sp>
          <p:nvSpPr>
            <p:cNvPr id="106" name=""/>
            <p:cNvSpPr/>
            <p:nvPr/>
          </p:nvSpPr>
          <p:spPr>
            <a:xfrm>
              <a:off x="5410080" y="2966760"/>
              <a:ext cx="1066680" cy="30960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672" y="624"/>
                  </a:moveTo>
                  <a:cubicBezTo>
                    <a:pt x="664" y="564"/>
                    <a:pt x="656" y="504"/>
                    <a:pt x="624" y="432"/>
                  </a:cubicBezTo>
                  <a:cubicBezTo>
                    <a:pt x="592" y="360"/>
                    <a:pt x="544" y="256"/>
                    <a:pt x="480" y="192"/>
                  </a:cubicBezTo>
                  <a:cubicBezTo>
                    <a:pt x="416" y="128"/>
                    <a:pt x="320" y="80"/>
                    <a:pt x="240" y="48"/>
                  </a:cubicBezTo>
                  <a:cubicBezTo>
                    <a:pt x="160" y="16"/>
                    <a:pt x="80" y="8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34120" y="2889360"/>
              <a:ext cx="71100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Install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580920" y="2768760"/>
            <a:ext cx="381240" cy="152280"/>
            <a:chOff x="3580920" y="2768760"/>
            <a:chExt cx="381240" cy="152280"/>
          </a:xfrm>
        </p:grpSpPr>
        <p:sp>
          <p:nvSpPr>
            <p:cNvPr id="109" name=""/>
            <p:cNvSpPr/>
            <p:nvPr/>
          </p:nvSpPr>
          <p:spPr>
            <a:xfrm flipH="1">
              <a:off x="3580560" y="276876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33560" y="2845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énario: Arrivée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301920"/>
            <a:ext cx="5029200" cy="3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24000" y="3378240"/>
            <a:ext cx="89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835440"/>
            <a:ext cx="5029200" cy="380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83080" y="3911760"/>
            <a:ext cx="1468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JAVA VIRTUAL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2540160"/>
            <a:ext cx="93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undles Acti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43600" y="2311560"/>
            <a:ext cx="2959920" cy="609480"/>
            <a:chOff x="5943600" y="2311560"/>
            <a:chExt cx="2959920" cy="609480"/>
          </a:xfrm>
        </p:grpSpPr>
        <p:grpSp>
          <p:nvGrpSpPr>
            <p:cNvPr id="118" name=""/>
            <p:cNvGrpSpPr/>
            <p:nvPr/>
          </p:nvGrpSpPr>
          <p:grpSpPr>
            <a:xfrm>
              <a:off x="5943600" y="2311560"/>
              <a:ext cx="583560" cy="609480"/>
              <a:chOff x="5943600" y="2311560"/>
              <a:chExt cx="583560" cy="60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5943600" y="2311560"/>
                <a:ext cx="533160" cy="609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19560" y="238752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019560" y="246384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19560" y="254016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19560" y="261612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171840" y="2692440"/>
                <a:ext cx="3553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600" spc="-1" strike="noStrike">
                    <a:solidFill>
                      <a:srgbClr val="000000"/>
                    </a:solidFill>
                    <a:latin typeface="Verdana"/>
                  </a:rPr>
                  <a:t>.mf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619680" y="2539800"/>
              <a:ext cx="228384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érification des dépend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438280" y="1854360"/>
            <a:ext cx="380880" cy="152280"/>
            <a:chOff x="2438280" y="1854360"/>
            <a:chExt cx="380880" cy="152280"/>
          </a:xfrm>
        </p:grpSpPr>
        <p:sp>
          <p:nvSpPr>
            <p:cNvPr id="127" name=""/>
            <p:cNvSpPr/>
            <p:nvPr/>
          </p:nvSpPr>
          <p:spPr>
            <a:xfrm>
              <a:off x="2438280" y="185436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07480" y="193068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276720" y="1854000"/>
            <a:ext cx="304560" cy="152280"/>
            <a:chOff x="3276720" y="1854000"/>
            <a:chExt cx="304560" cy="152280"/>
          </a:xfrm>
        </p:grpSpPr>
        <p:sp>
          <p:nvSpPr>
            <p:cNvPr id="130" name=""/>
            <p:cNvSpPr/>
            <p:nvPr/>
          </p:nvSpPr>
          <p:spPr>
            <a:xfrm>
              <a:off x="3276720" y="193068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3430440" y="1855440"/>
              <a:ext cx="15228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438280" y="2082960"/>
            <a:ext cx="380880" cy="152280"/>
            <a:chOff x="2438280" y="2082960"/>
            <a:chExt cx="380880" cy="152280"/>
          </a:xfrm>
        </p:grpSpPr>
        <p:sp>
          <p:nvSpPr>
            <p:cNvPr id="133" name=""/>
            <p:cNvSpPr/>
            <p:nvPr/>
          </p:nvSpPr>
          <p:spPr>
            <a:xfrm>
              <a:off x="2438280" y="208296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07480" y="215928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276720" y="2082600"/>
            <a:ext cx="304560" cy="152280"/>
            <a:chOff x="3276720" y="2082600"/>
            <a:chExt cx="304560" cy="152280"/>
          </a:xfrm>
        </p:grpSpPr>
        <p:sp>
          <p:nvSpPr>
            <p:cNvPr id="136" name=""/>
            <p:cNvSpPr/>
            <p:nvPr/>
          </p:nvSpPr>
          <p:spPr>
            <a:xfrm>
              <a:off x="3276720" y="215928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3430440" y="2084040"/>
              <a:ext cx="15228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38280" y="1625760"/>
            <a:ext cx="380880" cy="152280"/>
            <a:chOff x="2438280" y="1625760"/>
            <a:chExt cx="380880" cy="152280"/>
          </a:xfrm>
        </p:grpSpPr>
        <p:sp>
          <p:nvSpPr>
            <p:cNvPr id="139" name=""/>
            <p:cNvSpPr/>
            <p:nvPr/>
          </p:nvSpPr>
          <p:spPr>
            <a:xfrm>
              <a:off x="2438280" y="162576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7480" y="170208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5320" y="2387520"/>
            <a:ext cx="380880" cy="152640"/>
            <a:chOff x="3505320" y="2387520"/>
            <a:chExt cx="380880" cy="152640"/>
          </a:xfrm>
        </p:grpSpPr>
        <p:sp>
          <p:nvSpPr>
            <p:cNvPr id="142" name=""/>
            <p:cNvSpPr/>
            <p:nvPr/>
          </p:nvSpPr>
          <p:spPr>
            <a:xfrm>
              <a:off x="3505320" y="2387520"/>
              <a:ext cx="169200" cy="152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74520" y="246384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886200" y="162576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343400" y="2158920"/>
            <a:ext cx="304560" cy="152640"/>
            <a:chOff x="4343400" y="2158920"/>
            <a:chExt cx="304560" cy="152640"/>
          </a:xfrm>
        </p:grpSpPr>
        <p:sp>
          <p:nvSpPr>
            <p:cNvPr id="146" name=""/>
            <p:cNvSpPr/>
            <p:nvPr/>
          </p:nvSpPr>
          <p:spPr>
            <a:xfrm>
              <a:off x="4343400" y="223524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4497120" y="2160720"/>
              <a:ext cx="15264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505320" y="2146320"/>
            <a:ext cx="88920" cy="241200"/>
          </a:xfrm>
          <a:custGeom>
            <a:avLst/>
            <a:gdLst/>
            <a:ahLst/>
            <a:rect l="l" t="t" r="r" b="b"/>
            <a:pathLst>
              <a:path w="56" h="152">
                <a:moveTo>
                  <a:pt x="0" y="8"/>
                </a:moveTo>
                <a:cubicBezTo>
                  <a:pt x="20" y="4"/>
                  <a:pt x="40" y="0"/>
                  <a:pt x="48" y="8"/>
                </a:cubicBezTo>
                <a:cubicBezTo>
                  <a:pt x="56" y="16"/>
                  <a:pt x="48" y="32"/>
                  <a:pt x="48" y="56"/>
                </a:cubicBezTo>
                <a:cubicBezTo>
                  <a:pt x="48" y="80"/>
                  <a:pt x="48" y="116"/>
                  <a:pt x="48" y="152"/>
                </a:cubicBez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0440" y="1219320"/>
            <a:ext cx="2413080" cy="1015920"/>
          </a:xfrm>
          <a:custGeom>
            <a:avLst/>
            <a:gdLst/>
            <a:ahLst/>
            <a:rect l="l" t="t" r="r" b="b"/>
            <a:pathLst>
              <a:path w="1520" h="640">
                <a:moveTo>
                  <a:pt x="1456" y="640"/>
                </a:moveTo>
                <a:cubicBezTo>
                  <a:pt x="1476" y="640"/>
                  <a:pt x="1496" y="640"/>
                  <a:pt x="1504" y="592"/>
                </a:cubicBezTo>
                <a:cubicBezTo>
                  <a:pt x="1512" y="544"/>
                  <a:pt x="1520" y="432"/>
                  <a:pt x="1504" y="352"/>
                </a:cubicBezTo>
                <a:cubicBezTo>
                  <a:pt x="1488" y="272"/>
                  <a:pt x="1472" y="168"/>
                  <a:pt x="1408" y="112"/>
                </a:cubicBezTo>
                <a:cubicBezTo>
                  <a:pt x="1344" y="56"/>
                  <a:pt x="1264" y="32"/>
                  <a:pt x="1120" y="16"/>
                </a:cubicBezTo>
                <a:cubicBezTo>
                  <a:pt x="976" y="0"/>
                  <a:pt x="712" y="8"/>
                  <a:pt x="544" y="16"/>
                </a:cubicBezTo>
                <a:cubicBezTo>
                  <a:pt x="376" y="24"/>
                  <a:pt x="200" y="40"/>
                  <a:pt x="112" y="64"/>
                </a:cubicBezTo>
                <a:cubicBezTo>
                  <a:pt x="24" y="88"/>
                  <a:pt x="32" y="128"/>
                  <a:pt x="16" y="160"/>
                </a:cubicBezTo>
                <a:cubicBezTo>
                  <a:pt x="0" y="192"/>
                  <a:pt x="0" y="232"/>
                  <a:pt x="16" y="256"/>
                </a:cubicBezTo>
                <a:cubicBezTo>
                  <a:pt x="32" y="280"/>
                  <a:pt x="72" y="292"/>
                  <a:pt x="112" y="304"/>
                </a:cubicBez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162576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11280" y="914400"/>
            <a:ext cx="4406760" cy="1930320"/>
          </a:xfrm>
          <a:custGeom>
            <a:avLst/>
            <a:gdLst/>
            <a:ahLst/>
            <a:rect l="l" t="t" r="r" b="b"/>
            <a:pathLst>
              <a:path w="2776" h="1216">
                <a:moveTo>
                  <a:pt x="2600" y="592"/>
                </a:moveTo>
                <a:cubicBezTo>
                  <a:pt x="2660" y="568"/>
                  <a:pt x="2720" y="544"/>
                  <a:pt x="2744" y="496"/>
                </a:cubicBezTo>
                <a:cubicBezTo>
                  <a:pt x="2768" y="448"/>
                  <a:pt x="2776" y="368"/>
                  <a:pt x="2744" y="304"/>
                </a:cubicBezTo>
                <a:cubicBezTo>
                  <a:pt x="2712" y="240"/>
                  <a:pt x="2736" y="152"/>
                  <a:pt x="2552" y="112"/>
                </a:cubicBezTo>
                <a:cubicBezTo>
                  <a:pt x="2368" y="72"/>
                  <a:pt x="2024" y="56"/>
                  <a:pt x="1640" y="64"/>
                </a:cubicBezTo>
                <a:cubicBezTo>
                  <a:pt x="1256" y="72"/>
                  <a:pt x="496" y="0"/>
                  <a:pt x="248" y="160"/>
                </a:cubicBezTo>
                <a:cubicBezTo>
                  <a:pt x="0" y="320"/>
                  <a:pt x="96" y="848"/>
                  <a:pt x="152" y="1024"/>
                </a:cubicBezTo>
                <a:cubicBezTo>
                  <a:pt x="208" y="1200"/>
                  <a:pt x="396" y="1208"/>
                  <a:pt x="584" y="1216"/>
                </a:cubicBezTo>
              </a:path>
            </a:pathLst>
          </a:custGeom>
          <a:noFill/>
          <a:ln w="190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37920" y="2768760"/>
            <a:ext cx="381240" cy="152280"/>
            <a:chOff x="2437920" y="2768760"/>
            <a:chExt cx="381240" cy="152280"/>
          </a:xfrm>
        </p:grpSpPr>
        <p:sp>
          <p:nvSpPr>
            <p:cNvPr id="153" name=""/>
            <p:cNvSpPr/>
            <p:nvPr/>
          </p:nvSpPr>
          <p:spPr>
            <a:xfrm flipH="1">
              <a:off x="2437560" y="276876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90560" y="2845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76720" y="2768760"/>
            <a:ext cx="304200" cy="152280"/>
            <a:chOff x="3276720" y="2768760"/>
            <a:chExt cx="304200" cy="152280"/>
          </a:xfrm>
        </p:grpSpPr>
        <p:sp>
          <p:nvSpPr>
            <p:cNvPr id="156" name=""/>
            <p:cNvSpPr/>
            <p:nvPr/>
          </p:nvSpPr>
          <p:spPr>
            <a:xfrm>
              <a:off x="3276720" y="284508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390120" y="2768760"/>
              <a:ext cx="190440" cy="15228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573080" y="1600200"/>
            <a:ext cx="1142640" cy="1555560"/>
            <a:chOff x="4573080" y="1600200"/>
            <a:chExt cx="1142640" cy="1555560"/>
          </a:xfrm>
        </p:grpSpPr>
        <p:sp>
          <p:nvSpPr>
            <p:cNvPr id="159" name=""/>
            <p:cNvSpPr/>
            <p:nvPr/>
          </p:nvSpPr>
          <p:spPr>
            <a:xfrm>
              <a:off x="4954320" y="1600200"/>
              <a:ext cx="457200" cy="15555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4573080" y="2533680"/>
              <a:ext cx="381240" cy="155160"/>
              <a:chOff x="4573080" y="2533680"/>
              <a:chExt cx="381240" cy="15516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4572720" y="2533680"/>
                <a:ext cx="152280" cy="155160"/>
              </a:xfrm>
              <a:custGeom>
                <a:avLst/>
                <a:gdLst>
                  <a:gd name="textAreaLeft" fmla="*/ -360 w 152280"/>
                  <a:gd name="textAreaRight" fmla="*/ 152280 w 1522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25720" y="2611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411520" y="1755360"/>
              <a:ext cx="304200" cy="155520"/>
              <a:chOff x="5411520" y="1755360"/>
              <a:chExt cx="304200" cy="155520"/>
            </a:xfrm>
          </p:grpSpPr>
          <p:sp>
            <p:nvSpPr>
              <p:cNvPr id="164" name=""/>
              <p:cNvSpPr/>
              <p:nvPr/>
            </p:nvSpPr>
            <p:spPr>
              <a:xfrm>
                <a:off x="5411520" y="1833120"/>
                <a:ext cx="19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524920" y="1755360"/>
                <a:ext cx="190440" cy="155520"/>
              </a:xfrm>
              <a:custGeom>
                <a:avLst/>
                <a:gdLst>
                  <a:gd name="textAreaLeft" fmla="*/ -360 w 190440"/>
                  <a:gd name="textAreaRight" fmla="*/ 190440 w 190440"/>
                  <a:gd name="textAreaTop" fmla="*/ 0 h 155520"/>
                  <a:gd name="textAreaBottom" fmla="*/ 155520 h 1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2819520" y="292104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92104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95280" y="4902120"/>
            <a:ext cx="6019560" cy="1143000"/>
            <a:chOff x="1295280" y="4902120"/>
            <a:chExt cx="6019560" cy="1143000"/>
          </a:xfrm>
        </p:grpSpPr>
        <p:sp>
          <p:nvSpPr>
            <p:cNvPr id="169" name=""/>
            <p:cNvSpPr/>
            <p:nvPr/>
          </p:nvSpPr>
          <p:spPr>
            <a:xfrm>
              <a:off x="5790960" y="5130720"/>
              <a:ext cx="457200" cy="228600"/>
            </a:xfrm>
            <a:prstGeom prst="rect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41400" y="5130720"/>
              <a:ext cx="5007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Ac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90960" y="5435280"/>
              <a:ext cx="457200" cy="2286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4640" y="5435280"/>
              <a:ext cx="6609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Verdana"/>
                </a:rPr>
                <a:t>Resolv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90960" y="5740200"/>
              <a:ext cx="457200" cy="228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44280" y="5740200"/>
              <a:ext cx="6408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Verdana"/>
                </a:rPr>
                <a:t>Install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37240" y="5176800"/>
              <a:ext cx="164664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Évènements du Framewor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523880" y="5687640"/>
              <a:ext cx="380880" cy="152640"/>
              <a:chOff x="1523880" y="5687640"/>
              <a:chExt cx="380880" cy="152640"/>
            </a:xfrm>
          </p:grpSpPr>
          <p:sp>
            <p:nvSpPr>
              <p:cNvPr id="177" name=""/>
              <p:cNvSpPr/>
              <p:nvPr/>
            </p:nvSpPr>
            <p:spPr>
              <a:xfrm>
                <a:off x="1523880" y="5687640"/>
                <a:ext cx="169200" cy="1526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93080" y="57639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1523880" y="5359320"/>
              <a:ext cx="457200" cy="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2400" y="5397480"/>
              <a:ext cx="107388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ackage expor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15640" y="5626080"/>
              <a:ext cx="9151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rvice fourn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5280" y="5054400"/>
              <a:ext cx="6019560" cy="990720"/>
            </a:xfrm>
            <a:prstGeom prst="rect">
              <a:avLst/>
            </a:prstGeom>
            <a:noFill/>
            <a:ln w="936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82480" y="4902120"/>
              <a:ext cx="672840" cy="21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égend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523520" y="5459040"/>
              <a:ext cx="381240" cy="152640"/>
              <a:chOff x="1523520" y="5459040"/>
              <a:chExt cx="381240" cy="15264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1523160" y="5459040"/>
                <a:ext cx="152280" cy="152640"/>
              </a:xfrm>
              <a:custGeom>
                <a:avLst/>
                <a:gdLst>
                  <a:gd name="textAreaLeft" fmla="*/ -360 w 152280"/>
                  <a:gd name="textAreaRight" fmla="*/ 152280 w 1522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76160" y="5535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148280" y="5397480"/>
              <a:ext cx="11149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ackage importé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52240" y="5626080"/>
              <a:ext cx="9259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rvice requ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733560" y="5687640"/>
              <a:ext cx="304560" cy="152640"/>
              <a:chOff x="3733560" y="5687640"/>
              <a:chExt cx="304560" cy="152640"/>
            </a:xfrm>
          </p:grpSpPr>
          <p:sp>
            <p:nvSpPr>
              <p:cNvPr id="190" name=""/>
              <p:cNvSpPr/>
              <p:nvPr/>
            </p:nvSpPr>
            <p:spPr>
              <a:xfrm>
                <a:off x="3733560" y="5763960"/>
                <a:ext cx="15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200000">
                <a:off x="3887280" y="5689440"/>
                <a:ext cx="152640" cy="149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733560" y="5459040"/>
              <a:ext cx="304200" cy="152640"/>
              <a:chOff x="3733560" y="5459040"/>
              <a:chExt cx="304200" cy="152640"/>
            </a:xfrm>
          </p:grpSpPr>
          <p:sp>
            <p:nvSpPr>
              <p:cNvPr id="193" name=""/>
              <p:cNvSpPr/>
              <p:nvPr/>
            </p:nvSpPr>
            <p:spPr>
              <a:xfrm>
                <a:off x="3733560" y="5535360"/>
                <a:ext cx="19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846960" y="5459040"/>
                <a:ext cx="190440" cy="152640"/>
              </a:xfrm>
              <a:custGeom>
                <a:avLst/>
                <a:gdLst>
                  <a:gd name="textAreaLeft" fmla="*/ -360 w 190440"/>
                  <a:gd name="textAreaRight" fmla="*/ 190440 w 1904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621-5A95-46BF-B76E-9744624376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onctions de filtrag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47600" y="1168560"/>
            <a:ext cx="8701200" cy="183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BundleContext {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Filter createFilter(String filter) throws InvalidSyntax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erviceRegistration registerService (String[] clazzes, Object service, Dictionnary properties) throws IllegalArgumentException, SecurityException,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69920" y="3198960"/>
            <a:ext cx="8701200" cy="21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Filt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oolean equals(Object ob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 hashCod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oolean match(Dictionnary dictionnary) throws IllegalArgument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oolean match(ServiceReference referenc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tring toString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7AA-A92B-412E-A07C-95C9C9E1A6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2806560" y="4037040"/>
            <a:ext cx="216000" cy="279360"/>
            <a:chOff x="2806560" y="4037040"/>
            <a:chExt cx="216000" cy="279360"/>
          </a:xfrm>
        </p:grpSpPr>
        <p:sp>
          <p:nvSpPr>
            <p:cNvPr id="588" name=""/>
            <p:cNvSpPr/>
            <p:nvPr/>
          </p:nvSpPr>
          <p:spPr>
            <a:xfrm flipV="1">
              <a:off x="2917800" y="4182840"/>
              <a:ext cx="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rot="16200000">
              <a:off x="2824200" y="401940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765520" y="2966760"/>
            <a:ext cx="214200" cy="336960"/>
            <a:chOff x="2765520" y="2966760"/>
            <a:chExt cx="214200" cy="336960"/>
          </a:xfrm>
        </p:grpSpPr>
        <p:sp>
          <p:nvSpPr>
            <p:cNvPr id="591" name=""/>
            <p:cNvSpPr/>
            <p:nvPr/>
          </p:nvSpPr>
          <p:spPr>
            <a:xfrm flipV="1">
              <a:off x="2870280" y="2966760"/>
              <a:ext cx="0" cy="20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16200000">
              <a:off x="2796840" y="312120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946760" y="2762280"/>
            <a:ext cx="379440" cy="216000"/>
            <a:chOff x="4946760" y="2762280"/>
            <a:chExt cx="379440" cy="216000"/>
          </a:xfrm>
        </p:grpSpPr>
        <p:sp>
          <p:nvSpPr>
            <p:cNvPr id="594" name=""/>
            <p:cNvSpPr/>
            <p:nvPr/>
          </p:nvSpPr>
          <p:spPr>
            <a:xfrm flipH="1">
              <a:off x="5161320" y="286560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rot="5400000">
              <a:off x="4946760" y="2762280"/>
              <a:ext cx="21600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959360" y="2408400"/>
            <a:ext cx="368280" cy="215640"/>
            <a:chOff x="4959360" y="2408400"/>
            <a:chExt cx="368280" cy="215640"/>
          </a:xfrm>
        </p:grpSpPr>
        <p:sp>
          <p:nvSpPr>
            <p:cNvPr id="597" name=""/>
            <p:cNvSpPr/>
            <p:nvPr/>
          </p:nvSpPr>
          <p:spPr>
            <a:xfrm>
              <a:off x="4959360" y="2408400"/>
              <a:ext cx="216000" cy="2156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87960" y="252252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9200" y="6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épendance &amp; Dynamis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648320" y="2852640"/>
            <a:ext cx="434880" cy="6159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75240" y="3951360"/>
            <a:ext cx="726840" cy="3175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2901960" y="3297240"/>
            <a:ext cx="797040" cy="31104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422160" y="3973680"/>
            <a:ext cx="289080" cy="3744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219480" y="2509920"/>
            <a:ext cx="1695600" cy="47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-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619600" y="3271680"/>
            <a:ext cx="190800" cy="457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857680" y="3309840"/>
            <a:ext cx="56880" cy="75240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06640" y="1700280"/>
            <a:ext cx="4775040" cy="3936960"/>
          </a:xfrm>
          <a:custGeom>
            <a:avLst/>
            <a:gdLst/>
            <a:ahLst/>
            <a:rect l="l" t="t" r="r" b="b"/>
            <a:pathLst>
              <a:path w="3008" h="2480">
                <a:moveTo>
                  <a:pt x="8" y="1458"/>
                </a:moveTo>
                <a:cubicBezTo>
                  <a:pt x="0" y="1410"/>
                  <a:pt x="28" y="1343"/>
                  <a:pt x="32" y="1272"/>
                </a:cubicBezTo>
                <a:cubicBezTo>
                  <a:pt x="36" y="1201"/>
                  <a:pt x="0" y="1096"/>
                  <a:pt x="32" y="1032"/>
                </a:cubicBezTo>
                <a:cubicBezTo>
                  <a:pt x="64" y="968"/>
                  <a:pt x="200" y="952"/>
                  <a:pt x="224" y="888"/>
                </a:cubicBezTo>
                <a:cubicBezTo>
                  <a:pt x="248" y="824"/>
                  <a:pt x="176" y="728"/>
                  <a:pt x="176" y="648"/>
                </a:cubicBezTo>
                <a:cubicBezTo>
                  <a:pt x="176" y="568"/>
                  <a:pt x="168" y="472"/>
                  <a:pt x="224" y="408"/>
                </a:cubicBezTo>
                <a:cubicBezTo>
                  <a:pt x="280" y="344"/>
                  <a:pt x="408" y="288"/>
                  <a:pt x="512" y="264"/>
                </a:cubicBezTo>
                <a:cubicBezTo>
                  <a:pt x="616" y="240"/>
                  <a:pt x="760" y="272"/>
                  <a:pt x="848" y="264"/>
                </a:cubicBezTo>
                <a:cubicBezTo>
                  <a:pt x="936" y="256"/>
                  <a:pt x="968" y="256"/>
                  <a:pt x="1040" y="216"/>
                </a:cubicBezTo>
                <a:cubicBezTo>
                  <a:pt x="1112" y="176"/>
                  <a:pt x="1192" y="48"/>
                  <a:pt x="1280" y="24"/>
                </a:cubicBezTo>
                <a:cubicBezTo>
                  <a:pt x="1368" y="0"/>
                  <a:pt x="1496" y="40"/>
                  <a:pt x="1568" y="72"/>
                </a:cubicBezTo>
                <a:cubicBezTo>
                  <a:pt x="1640" y="104"/>
                  <a:pt x="1648" y="192"/>
                  <a:pt x="1712" y="216"/>
                </a:cubicBezTo>
                <a:cubicBezTo>
                  <a:pt x="1776" y="240"/>
                  <a:pt x="1840" y="232"/>
                  <a:pt x="1952" y="216"/>
                </a:cubicBezTo>
                <a:cubicBezTo>
                  <a:pt x="2064" y="200"/>
                  <a:pt x="2256" y="104"/>
                  <a:pt x="2384" y="120"/>
                </a:cubicBezTo>
                <a:cubicBezTo>
                  <a:pt x="2512" y="136"/>
                  <a:pt x="2640" y="216"/>
                  <a:pt x="2720" y="312"/>
                </a:cubicBezTo>
                <a:cubicBezTo>
                  <a:pt x="2800" y="408"/>
                  <a:pt x="2872" y="600"/>
                  <a:pt x="2864" y="696"/>
                </a:cubicBezTo>
                <a:cubicBezTo>
                  <a:pt x="2856" y="792"/>
                  <a:pt x="2704" y="808"/>
                  <a:pt x="2672" y="888"/>
                </a:cubicBezTo>
                <a:cubicBezTo>
                  <a:pt x="2640" y="968"/>
                  <a:pt x="2624" y="1080"/>
                  <a:pt x="2672" y="1176"/>
                </a:cubicBezTo>
                <a:cubicBezTo>
                  <a:pt x="2720" y="1272"/>
                  <a:pt x="2912" y="1360"/>
                  <a:pt x="2960" y="1464"/>
                </a:cubicBezTo>
                <a:cubicBezTo>
                  <a:pt x="3008" y="1568"/>
                  <a:pt x="2984" y="1728"/>
                  <a:pt x="2960" y="1800"/>
                </a:cubicBezTo>
                <a:cubicBezTo>
                  <a:pt x="2936" y="1872"/>
                  <a:pt x="2856" y="1840"/>
                  <a:pt x="2816" y="1896"/>
                </a:cubicBezTo>
                <a:cubicBezTo>
                  <a:pt x="2776" y="1952"/>
                  <a:pt x="2760" y="2072"/>
                  <a:pt x="2720" y="2136"/>
                </a:cubicBezTo>
                <a:cubicBezTo>
                  <a:pt x="2680" y="2200"/>
                  <a:pt x="2640" y="2264"/>
                  <a:pt x="2576" y="2280"/>
                </a:cubicBezTo>
                <a:cubicBezTo>
                  <a:pt x="2512" y="2296"/>
                  <a:pt x="2416" y="2256"/>
                  <a:pt x="2336" y="2232"/>
                </a:cubicBezTo>
                <a:cubicBezTo>
                  <a:pt x="2256" y="2208"/>
                  <a:pt x="2184" y="2120"/>
                  <a:pt x="2096" y="2136"/>
                </a:cubicBezTo>
                <a:cubicBezTo>
                  <a:pt x="2008" y="2152"/>
                  <a:pt x="1896" y="2272"/>
                  <a:pt x="1808" y="2328"/>
                </a:cubicBezTo>
                <a:cubicBezTo>
                  <a:pt x="1720" y="2384"/>
                  <a:pt x="1664" y="2480"/>
                  <a:pt x="1568" y="2472"/>
                </a:cubicBezTo>
                <a:cubicBezTo>
                  <a:pt x="1472" y="2464"/>
                  <a:pt x="1352" y="2312"/>
                  <a:pt x="1232" y="2280"/>
                </a:cubicBezTo>
                <a:cubicBezTo>
                  <a:pt x="1112" y="2248"/>
                  <a:pt x="979" y="2262"/>
                  <a:pt x="848" y="2280"/>
                </a:cubicBezTo>
                <a:cubicBezTo>
                  <a:pt x="717" y="2298"/>
                  <a:pt x="559" y="2417"/>
                  <a:pt x="446" y="2388"/>
                </a:cubicBezTo>
                <a:cubicBezTo>
                  <a:pt x="333" y="2359"/>
                  <a:pt x="215" y="2212"/>
                  <a:pt x="170" y="2106"/>
                </a:cubicBezTo>
                <a:cubicBezTo>
                  <a:pt x="125" y="2000"/>
                  <a:pt x="191" y="1843"/>
                  <a:pt x="176" y="1752"/>
                </a:cubicBezTo>
                <a:cubicBezTo>
                  <a:pt x="161" y="1661"/>
                  <a:pt x="108" y="1609"/>
                  <a:pt x="80" y="1560"/>
                </a:cubicBezTo>
                <a:cubicBezTo>
                  <a:pt x="52" y="1511"/>
                  <a:pt x="16" y="1506"/>
                  <a:pt x="8" y="145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30120" y="2462040"/>
            <a:ext cx="1501920" cy="882720"/>
          </a:xfrm>
          <a:prstGeom prst="rect">
            <a:avLst/>
          </a:prstGeom>
          <a:solidFill>
            <a:srgbClr val="66ffcc"/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&gt; start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58360" y="1293840"/>
            <a:ext cx="457560" cy="990720"/>
            <a:chOff x="558360" y="1293840"/>
            <a:chExt cx="457560" cy="990720"/>
          </a:xfrm>
        </p:grpSpPr>
        <p:sp>
          <p:nvSpPr>
            <p:cNvPr id="610" name=""/>
            <p:cNvSpPr/>
            <p:nvPr/>
          </p:nvSpPr>
          <p:spPr>
            <a:xfrm>
              <a:off x="634680" y="1293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87320" y="1598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558360" y="16747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558360" y="20559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7320" y="16747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7320" y="20559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1016280" y="153684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5790960" y="1409760"/>
            <a:ext cx="1640880" cy="912600"/>
            <a:chOff x="5790960" y="1409760"/>
            <a:chExt cx="1640880" cy="912600"/>
          </a:xfrm>
        </p:grpSpPr>
        <p:sp>
          <p:nvSpPr>
            <p:cNvPr id="618" name=""/>
            <p:cNvSpPr/>
            <p:nvPr/>
          </p:nvSpPr>
          <p:spPr>
            <a:xfrm flipH="1">
              <a:off x="5790960" y="1789200"/>
              <a:ext cx="571320" cy="5331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31800" y="1409760"/>
              <a:ext cx="14000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’un nouveau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149280" y="4361040"/>
            <a:ext cx="368280" cy="215640"/>
            <a:chOff x="3149280" y="4361040"/>
            <a:chExt cx="368280" cy="215640"/>
          </a:xfrm>
        </p:grpSpPr>
        <p:sp>
          <p:nvSpPr>
            <p:cNvPr id="621" name=""/>
            <p:cNvSpPr/>
            <p:nvPr/>
          </p:nvSpPr>
          <p:spPr>
            <a:xfrm flipH="1">
              <a:off x="3301560" y="4361040"/>
              <a:ext cx="216000" cy="2156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3149280" y="447516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524560" y="3070080"/>
            <a:ext cx="216000" cy="379440"/>
            <a:chOff x="5524560" y="3070080"/>
            <a:chExt cx="216000" cy="379440"/>
          </a:xfrm>
        </p:grpSpPr>
        <p:sp>
          <p:nvSpPr>
            <p:cNvPr id="624" name=""/>
            <p:cNvSpPr/>
            <p:nvPr/>
          </p:nvSpPr>
          <p:spPr>
            <a:xfrm>
              <a:off x="5637240" y="307008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524560" y="3233520"/>
              <a:ext cx="21600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343120" y="4170240"/>
            <a:ext cx="336960" cy="214200"/>
            <a:chOff x="5343120" y="4170240"/>
            <a:chExt cx="336960" cy="214200"/>
          </a:xfrm>
        </p:grpSpPr>
        <p:sp>
          <p:nvSpPr>
            <p:cNvPr id="627" name=""/>
            <p:cNvSpPr/>
            <p:nvPr/>
          </p:nvSpPr>
          <p:spPr>
            <a:xfrm>
              <a:off x="5470560" y="427500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342760" y="417024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5254560" y="2341440"/>
            <a:ext cx="469800" cy="77472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774720"/>
              <a:gd name="textAreaBottom" fmla="*/ 752040 h 774720"/>
            </a:gdLst>
            <a:ahLst/>
            <a:rect l="textAreaLeft" t="textAreaTop" r="textAreaRight" b="textAreaBottom"/>
            <a:pathLst>
              <a:path w="21600" h="35609">
                <a:moveTo>
                  <a:pt x="3600" y="0"/>
                </a:moveTo>
                <a:arcTo wR="3600" hR="3600" stAng="16200000" swAng="-5400000"/>
                <a:lnTo>
                  <a:pt x="0" y="32009"/>
                </a:lnTo>
                <a:arcTo wR="3600" hR="3600" stAng="10800000" swAng="-5400000"/>
                <a:lnTo>
                  <a:pt x="18000" y="35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19720" y="2536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664000" y="4275000"/>
            <a:ext cx="469800" cy="77472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774720"/>
              <a:gd name="textAreaBottom" fmla="*/ 752040 h 774720"/>
            </a:gdLst>
            <a:ahLst/>
            <a:rect l="textAreaLeft" t="textAreaTop" r="textAreaRight" b="textAreaBottom"/>
            <a:pathLst>
              <a:path w="21600" h="35609">
                <a:moveTo>
                  <a:pt x="3600" y="0"/>
                </a:moveTo>
                <a:arcTo wR="3600" hR="3600" stAng="16200000" swAng="-5400000"/>
                <a:lnTo>
                  <a:pt x="0" y="32009"/>
                </a:lnTo>
                <a:arcTo wR="3600" hR="3600" stAng="10800000" swAng="-5400000"/>
                <a:lnTo>
                  <a:pt x="18000" y="35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721120" y="3770280"/>
            <a:ext cx="215640" cy="368280"/>
            <a:chOff x="5721120" y="3770280"/>
            <a:chExt cx="215640" cy="368280"/>
          </a:xfrm>
        </p:grpSpPr>
        <p:sp>
          <p:nvSpPr>
            <p:cNvPr id="633" name=""/>
            <p:cNvSpPr/>
            <p:nvPr/>
          </p:nvSpPr>
          <p:spPr>
            <a:xfrm rot="5400000">
              <a:off x="5720760" y="3770280"/>
              <a:ext cx="216000" cy="2156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22640" y="399888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578560" y="4046400"/>
            <a:ext cx="469800" cy="77472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774720"/>
              <a:gd name="textAreaBottom" fmla="*/ 752040 h 774720"/>
            </a:gdLst>
            <a:ahLst/>
            <a:rect l="textAreaLeft" t="textAreaTop" r="textAreaRight" b="textAreaBottom"/>
            <a:pathLst>
              <a:path w="21600" h="35609">
                <a:moveTo>
                  <a:pt x="3600" y="0"/>
                </a:moveTo>
                <a:arcTo wR="3600" hR="3600" stAng="16200000" swAng="-5400000"/>
                <a:lnTo>
                  <a:pt x="0" y="32009"/>
                </a:lnTo>
                <a:arcTo wR="3600" hR="3600" stAng="10800000" swAng="-5400000"/>
                <a:lnTo>
                  <a:pt x="18000" y="35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24640" y="4213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728800" y="4454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965320" y="2448000"/>
            <a:ext cx="379440" cy="216000"/>
            <a:chOff x="2965320" y="2448000"/>
            <a:chExt cx="379440" cy="216000"/>
          </a:xfrm>
        </p:grpSpPr>
        <p:sp>
          <p:nvSpPr>
            <p:cNvPr id="639" name=""/>
            <p:cNvSpPr/>
            <p:nvPr/>
          </p:nvSpPr>
          <p:spPr>
            <a:xfrm>
              <a:off x="2965320" y="255132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6200000">
              <a:off x="3128760" y="2448000"/>
              <a:ext cx="21600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2568600" y="2293920"/>
            <a:ext cx="469800" cy="77472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774720"/>
              <a:gd name="textAreaBottom" fmla="*/ 752040 h 774720"/>
            </a:gdLst>
            <a:ahLst/>
            <a:rect l="textAreaLeft" t="textAreaTop" r="textAreaRight" b="textAreaBottom"/>
            <a:pathLst>
              <a:path w="21600" h="35609">
                <a:moveTo>
                  <a:pt x="3600" y="0"/>
                </a:moveTo>
                <a:arcTo wR="3600" hR="3600" stAng="16200000" swAng="-5400000"/>
                <a:lnTo>
                  <a:pt x="0" y="32009"/>
                </a:lnTo>
                <a:arcTo wR="3600" hR="3600" stAng="10800000" swAng="-5400000"/>
                <a:lnTo>
                  <a:pt x="18000" y="35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43120" y="2489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661200" y="3348000"/>
            <a:ext cx="954000" cy="774720"/>
            <a:chOff x="3661200" y="3348000"/>
            <a:chExt cx="954000" cy="774720"/>
          </a:xfrm>
        </p:grpSpPr>
        <p:grpSp>
          <p:nvGrpSpPr>
            <p:cNvPr id="644" name=""/>
            <p:cNvGrpSpPr/>
            <p:nvPr/>
          </p:nvGrpSpPr>
          <p:grpSpPr>
            <a:xfrm>
              <a:off x="3661200" y="3475080"/>
              <a:ext cx="278280" cy="216000"/>
              <a:chOff x="3661200" y="3475080"/>
              <a:chExt cx="278280" cy="216000"/>
            </a:xfrm>
          </p:grpSpPr>
          <p:sp>
            <p:nvSpPr>
              <p:cNvPr id="645" name=""/>
              <p:cNvSpPr/>
              <p:nvPr/>
            </p:nvSpPr>
            <p:spPr>
              <a:xfrm flipH="1">
                <a:off x="3806280" y="3586320"/>
                <a:ext cx="13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61200" y="3475080"/>
                <a:ext cx="180360" cy="21600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263" y="0"/>
                    </a:lnTo>
                    <a:lnTo>
                      <a:pt x="21600" y="10800"/>
                    </a:lnTo>
                    <a:lnTo>
                      <a:pt x="13263" y="21600"/>
                    </a:lnTo>
                    <a:lnTo>
                      <a:pt x="0" y="21600"/>
                    </a:lnTo>
                    <a:lnTo>
                      <a:pt x="8337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336920" y="3827520"/>
              <a:ext cx="278280" cy="216000"/>
              <a:chOff x="4336920" y="3827520"/>
              <a:chExt cx="278280" cy="216000"/>
            </a:xfrm>
          </p:grpSpPr>
          <p:sp>
            <p:nvSpPr>
              <p:cNvPr id="648" name=""/>
              <p:cNvSpPr/>
              <p:nvPr/>
            </p:nvSpPr>
            <p:spPr>
              <a:xfrm>
                <a:off x="4336920" y="3938760"/>
                <a:ext cx="13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4434480" y="3827520"/>
                <a:ext cx="180360" cy="216000"/>
              </a:xfrm>
              <a:custGeom>
                <a:avLst/>
                <a:gdLst>
                  <a:gd name="textAreaLeft" fmla="*/ -360 w 180360"/>
                  <a:gd name="textAreaRight" fmla="*/ 180360 w 1803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263" y="0"/>
                    </a:lnTo>
                    <a:lnTo>
                      <a:pt x="21600" y="10800"/>
                    </a:lnTo>
                    <a:lnTo>
                      <a:pt x="13263" y="21600"/>
                    </a:lnTo>
                    <a:lnTo>
                      <a:pt x="0" y="21600"/>
                    </a:lnTo>
                    <a:lnTo>
                      <a:pt x="8337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892320" y="3348000"/>
              <a:ext cx="469440" cy="774720"/>
              <a:chOff x="3892320" y="3348000"/>
              <a:chExt cx="469440" cy="774720"/>
            </a:xfrm>
          </p:grpSpPr>
          <p:sp>
            <p:nvSpPr>
              <p:cNvPr id="651" name=""/>
              <p:cNvSpPr/>
              <p:nvPr/>
            </p:nvSpPr>
            <p:spPr>
              <a:xfrm>
                <a:off x="3892320" y="3348000"/>
                <a:ext cx="469440" cy="774720"/>
              </a:xfrm>
              <a:custGeom>
                <a:avLst/>
                <a:gdLst>
                  <a:gd name="textAreaLeft" fmla="*/ 22680 w 469440"/>
                  <a:gd name="textAreaRight" fmla="*/ 446760 w 469440"/>
                  <a:gd name="textAreaTop" fmla="*/ 22680 h 774720"/>
                  <a:gd name="textAreaBottom" fmla="*/ 752040 h 774720"/>
                </a:gdLst>
                <a:ahLst/>
                <a:rect l="textAreaLeft" t="textAreaTop" r="textAreaRight" b="textAreaBottom"/>
                <a:pathLst>
                  <a:path w="21600" h="35636">
                    <a:moveTo>
                      <a:pt x="3600" y="0"/>
                    </a:moveTo>
                    <a:arcTo wR="3600" hR="3600" stAng="16200000" swAng="-5400000"/>
                    <a:lnTo>
                      <a:pt x="0" y="32036"/>
                    </a:lnTo>
                    <a:arcTo wR="3600" hR="3600" stAng="10800000" swAng="-5400000"/>
                    <a:lnTo>
                      <a:pt x="18000" y="356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33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975840" y="3537000"/>
                <a:ext cx="293400" cy="3373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3" name=""/>
          <p:cNvGrpSpPr/>
          <p:nvPr/>
        </p:nvGrpSpPr>
        <p:grpSpPr>
          <a:xfrm>
            <a:off x="3581280" y="3338640"/>
            <a:ext cx="1076040" cy="774720"/>
            <a:chOff x="3581280" y="3338640"/>
            <a:chExt cx="1076040" cy="774720"/>
          </a:xfrm>
        </p:grpSpPr>
        <p:grpSp>
          <p:nvGrpSpPr>
            <p:cNvPr id="654" name=""/>
            <p:cNvGrpSpPr/>
            <p:nvPr/>
          </p:nvGrpSpPr>
          <p:grpSpPr>
            <a:xfrm>
              <a:off x="3648240" y="3465360"/>
              <a:ext cx="279360" cy="216000"/>
              <a:chOff x="3648240" y="3465360"/>
              <a:chExt cx="279360" cy="216000"/>
            </a:xfrm>
          </p:grpSpPr>
          <p:sp>
            <p:nvSpPr>
              <p:cNvPr id="655" name=""/>
              <p:cNvSpPr/>
              <p:nvPr/>
            </p:nvSpPr>
            <p:spPr>
              <a:xfrm flipH="1">
                <a:off x="3794040" y="3576600"/>
                <a:ext cx="13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648240" y="3465360"/>
                <a:ext cx="180720" cy="21600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263" y="0"/>
                    </a:lnTo>
                    <a:lnTo>
                      <a:pt x="21600" y="10800"/>
                    </a:lnTo>
                    <a:lnTo>
                      <a:pt x="13263" y="21600"/>
                    </a:lnTo>
                    <a:lnTo>
                      <a:pt x="0" y="21600"/>
                    </a:lnTo>
                    <a:lnTo>
                      <a:pt x="8337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3581280" y="3854520"/>
              <a:ext cx="379440" cy="216000"/>
              <a:chOff x="3581280" y="3854520"/>
              <a:chExt cx="379440" cy="216000"/>
            </a:xfrm>
          </p:grpSpPr>
          <p:sp>
            <p:nvSpPr>
              <p:cNvPr id="658" name=""/>
              <p:cNvSpPr/>
              <p:nvPr/>
            </p:nvSpPr>
            <p:spPr>
              <a:xfrm flipH="1">
                <a:off x="3795840" y="3957840"/>
                <a:ext cx="164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 rot="5400000">
                <a:off x="3581280" y="3854520"/>
                <a:ext cx="216000" cy="2160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4324320" y="3817800"/>
              <a:ext cx="279360" cy="216000"/>
              <a:chOff x="4324320" y="3817800"/>
              <a:chExt cx="279360" cy="216000"/>
            </a:xfrm>
          </p:grpSpPr>
          <p:sp>
            <p:nvSpPr>
              <p:cNvPr id="661" name=""/>
              <p:cNvSpPr/>
              <p:nvPr/>
            </p:nvSpPr>
            <p:spPr>
              <a:xfrm>
                <a:off x="4324320" y="3929040"/>
                <a:ext cx="13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4422960" y="3817800"/>
                <a:ext cx="180720" cy="216000"/>
              </a:xfrm>
              <a:custGeom>
                <a:avLst/>
                <a:gdLst>
                  <a:gd name="textAreaLeft" fmla="*/ 360 w 180720"/>
                  <a:gd name="textAreaRight" fmla="*/ 181440 w 18072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263" y="0"/>
                    </a:lnTo>
                    <a:lnTo>
                      <a:pt x="21600" y="10800"/>
                    </a:lnTo>
                    <a:lnTo>
                      <a:pt x="13263" y="21600"/>
                    </a:lnTo>
                    <a:lnTo>
                      <a:pt x="0" y="21600"/>
                    </a:lnTo>
                    <a:lnTo>
                      <a:pt x="8337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289040" y="3486240"/>
              <a:ext cx="368280" cy="215640"/>
              <a:chOff x="4289040" y="3486240"/>
              <a:chExt cx="368280" cy="21564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4441320" y="3486240"/>
                <a:ext cx="216000" cy="21564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4289040" y="360036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3879720" y="3338640"/>
              <a:ext cx="470160" cy="774720"/>
              <a:chOff x="3879720" y="3338640"/>
              <a:chExt cx="470160" cy="774720"/>
            </a:xfrm>
          </p:grpSpPr>
          <p:sp>
            <p:nvSpPr>
              <p:cNvPr id="667" name=""/>
              <p:cNvSpPr/>
              <p:nvPr/>
            </p:nvSpPr>
            <p:spPr>
              <a:xfrm>
                <a:off x="3879720" y="3338640"/>
                <a:ext cx="470160" cy="774720"/>
              </a:xfrm>
              <a:custGeom>
                <a:avLst/>
                <a:gdLst>
                  <a:gd name="textAreaLeft" fmla="*/ 22680 w 470160"/>
                  <a:gd name="textAreaRight" fmla="*/ 447480 w 470160"/>
                  <a:gd name="textAreaTop" fmla="*/ 22680 h 774720"/>
                  <a:gd name="textAreaBottom" fmla="*/ 752040 h 774720"/>
                </a:gdLst>
                <a:ahLst/>
                <a:rect l="textAreaLeft" t="textAreaTop" r="textAreaRight" b="textAreaBottom"/>
                <a:pathLst>
                  <a:path w="21600" h="35581">
                    <a:moveTo>
                      <a:pt x="3600" y="0"/>
                    </a:moveTo>
                    <a:arcTo wR="3600" hR="3600" stAng="16200000" swAng="-5400000"/>
                    <a:lnTo>
                      <a:pt x="0" y="31981"/>
                    </a:lnTo>
                    <a:arcTo wR="3600" hR="3600" stAng="10800000" swAng="-5400000"/>
                    <a:lnTo>
                      <a:pt x="18000" y="3558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63960" y="3527640"/>
                <a:ext cx="293400" cy="3373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655720" y="4253040"/>
            <a:ext cx="469800" cy="774720"/>
            <a:chOff x="2655720" y="4253040"/>
            <a:chExt cx="469800" cy="774720"/>
          </a:xfrm>
        </p:grpSpPr>
        <p:sp>
          <p:nvSpPr>
            <p:cNvPr id="670" name=""/>
            <p:cNvSpPr/>
            <p:nvPr/>
          </p:nvSpPr>
          <p:spPr>
            <a:xfrm>
              <a:off x="2655720" y="4253040"/>
              <a:ext cx="469800" cy="774720"/>
            </a:xfrm>
            <a:custGeom>
              <a:avLst/>
              <a:gdLst>
                <a:gd name="textAreaLeft" fmla="*/ 22680 w 469800"/>
                <a:gd name="textAreaRight" fmla="*/ 447120 w 469800"/>
                <a:gd name="textAreaTop" fmla="*/ 22680 h 774720"/>
                <a:gd name="textAreaBottom" fmla="*/ 752040 h 774720"/>
              </a:gdLst>
              <a:ahLst/>
              <a:rect l="textAreaLeft" t="textAreaTop" r="textAreaRight" b="textAreaBottom"/>
              <a:pathLst>
                <a:path w="21600" h="35609">
                  <a:moveTo>
                    <a:pt x="3600" y="0"/>
                  </a:moveTo>
                  <a:arcTo wR="3600" hR="3600" stAng="16200000" swAng="-5400000"/>
                  <a:lnTo>
                    <a:pt x="0" y="32009"/>
                  </a:lnTo>
                  <a:arcTo wR="3600" hR="3600" stAng="10800000" swAng="-5400000"/>
                  <a:lnTo>
                    <a:pt x="18000" y="35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23760" y="4421160"/>
              <a:ext cx="2934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flipV="1">
            <a:off x="2866680" y="3319560"/>
            <a:ext cx="57240" cy="7524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7760" y="303372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&gt; uninstall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374880" y="3567240"/>
            <a:ext cx="2768760" cy="2454480"/>
            <a:chOff x="6374880" y="3567240"/>
            <a:chExt cx="2768760" cy="2454480"/>
          </a:xfrm>
        </p:grpSpPr>
        <p:sp>
          <p:nvSpPr>
            <p:cNvPr id="675" name=""/>
            <p:cNvSpPr/>
            <p:nvPr/>
          </p:nvSpPr>
          <p:spPr>
            <a:xfrm>
              <a:off x="7182000" y="5451480"/>
              <a:ext cx="164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Dépendance de pack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374880" y="5599080"/>
              <a:ext cx="850680" cy="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6387840" y="5916600"/>
              <a:ext cx="85104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78760" y="513576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6425640" y="5316840"/>
              <a:ext cx="716040" cy="28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79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7238880" y="3643560"/>
              <a:ext cx="368280" cy="215640"/>
              <a:chOff x="7238880" y="3643560"/>
              <a:chExt cx="368280" cy="215640"/>
            </a:xfrm>
          </p:grpSpPr>
          <p:sp>
            <p:nvSpPr>
              <p:cNvPr id="681" name=""/>
              <p:cNvSpPr/>
              <p:nvPr/>
            </p:nvSpPr>
            <p:spPr>
              <a:xfrm>
                <a:off x="7238880" y="3643560"/>
                <a:ext cx="216000" cy="21564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467480" y="375768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7238520" y="4405320"/>
              <a:ext cx="336960" cy="214200"/>
              <a:chOff x="7238520" y="4405320"/>
              <a:chExt cx="336960" cy="214200"/>
            </a:xfrm>
          </p:grpSpPr>
          <p:sp>
            <p:nvSpPr>
              <p:cNvPr id="684" name=""/>
              <p:cNvSpPr/>
              <p:nvPr/>
            </p:nvSpPr>
            <p:spPr>
              <a:xfrm>
                <a:off x="7365960" y="451008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7238160" y="4405320"/>
                <a:ext cx="150840" cy="21420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732" y="0"/>
                    </a:lnTo>
                    <a:lnTo>
                      <a:pt x="21600" y="10800"/>
                    </a:lnTo>
                    <a:lnTo>
                      <a:pt x="1273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7314840" y="4024440"/>
              <a:ext cx="379440" cy="216000"/>
              <a:chOff x="7314840" y="4024440"/>
              <a:chExt cx="379440" cy="216000"/>
            </a:xfrm>
          </p:grpSpPr>
          <p:sp>
            <p:nvSpPr>
              <p:cNvPr id="687" name=""/>
              <p:cNvSpPr/>
              <p:nvPr/>
            </p:nvSpPr>
            <p:spPr>
              <a:xfrm>
                <a:off x="7314840" y="4127760"/>
                <a:ext cx="164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6200000">
                <a:off x="7478280" y="4024440"/>
                <a:ext cx="216000" cy="2160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7314840" y="4710240"/>
              <a:ext cx="279360" cy="216000"/>
              <a:chOff x="7314840" y="4710240"/>
              <a:chExt cx="279360" cy="216000"/>
            </a:xfrm>
          </p:grpSpPr>
          <p:sp>
            <p:nvSpPr>
              <p:cNvPr id="690" name=""/>
              <p:cNvSpPr/>
              <p:nvPr/>
            </p:nvSpPr>
            <p:spPr>
              <a:xfrm>
                <a:off x="7314840" y="4821480"/>
                <a:ext cx="13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7413480" y="4710240"/>
                <a:ext cx="180720" cy="216000"/>
              </a:xfrm>
              <a:custGeom>
                <a:avLst/>
                <a:gdLst>
                  <a:gd name="textAreaLeft" fmla="*/ 360 w 180720"/>
                  <a:gd name="textAreaRight" fmla="*/ 181440 w 18072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263" y="0"/>
                    </a:lnTo>
                    <a:lnTo>
                      <a:pt x="21600" y="10800"/>
                    </a:lnTo>
                    <a:lnTo>
                      <a:pt x="13263" y="21600"/>
                    </a:lnTo>
                    <a:lnTo>
                      <a:pt x="0" y="21600"/>
                    </a:lnTo>
                    <a:lnTo>
                      <a:pt x="8337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7619760" y="356724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Service four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19760" y="39481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Service requ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19760" y="432936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Package expor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19760" y="467856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Package impor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59680" y="5745240"/>
              <a:ext cx="156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Dépendance de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F6B-15FC-4481-BB87-752FF4AD3C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2917800" y="2752200"/>
            <a:ext cx="214200" cy="336960"/>
            <a:chOff x="2917800" y="2752200"/>
            <a:chExt cx="214200" cy="336960"/>
          </a:xfrm>
        </p:grpSpPr>
        <p:sp>
          <p:nvSpPr>
            <p:cNvPr id="698" name=""/>
            <p:cNvSpPr/>
            <p:nvPr/>
          </p:nvSpPr>
          <p:spPr>
            <a:xfrm flipV="1">
              <a:off x="3022560" y="2752200"/>
              <a:ext cx="0" cy="20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rot="16200000">
              <a:off x="2949120" y="290664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099040" y="2547720"/>
            <a:ext cx="379440" cy="215640"/>
            <a:chOff x="5099040" y="2547720"/>
            <a:chExt cx="379440" cy="215640"/>
          </a:xfrm>
        </p:grpSpPr>
        <p:sp>
          <p:nvSpPr>
            <p:cNvPr id="701" name=""/>
            <p:cNvSpPr/>
            <p:nvPr/>
          </p:nvSpPr>
          <p:spPr>
            <a:xfrm flipH="1">
              <a:off x="5313600" y="26510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rot="5400000">
              <a:off x="5099040" y="2547360"/>
              <a:ext cx="21564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5111640" y="2193840"/>
            <a:ext cx="368280" cy="216000"/>
            <a:chOff x="5111640" y="2193840"/>
            <a:chExt cx="368280" cy="216000"/>
          </a:xfrm>
        </p:grpSpPr>
        <p:sp>
          <p:nvSpPr>
            <p:cNvPr id="704" name=""/>
            <p:cNvSpPr/>
            <p:nvPr/>
          </p:nvSpPr>
          <p:spPr>
            <a:xfrm>
              <a:off x="5111640" y="219384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40240" y="230832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0184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épendance &amp; Dynamis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800600" y="2638440"/>
            <a:ext cx="434880" cy="6159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7520" y="3736800"/>
            <a:ext cx="727200" cy="3175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3054240" y="3083040"/>
            <a:ext cx="797040" cy="31104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371760" y="2295000"/>
            <a:ext cx="1695600" cy="478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-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72240" y="3057480"/>
            <a:ext cx="190440" cy="457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158920" y="1486080"/>
            <a:ext cx="4775400" cy="3936960"/>
          </a:xfrm>
          <a:custGeom>
            <a:avLst/>
            <a:gdLst/>
            <a:ahLst/>
            <a:rect l="l" t="t" r="r" b="b"/>
            <a:pathLst>
              <a:path w="3008" h="2480">
                <a:moveTo>
                  <a:pt x="8" y="1458"/>
                </a:moveTo>
                <a:cubicBezTo>
                  <a:pt x="0" y="1410"/>
                  <a:pt x="28" y="1343"/>
                  <a:pt x="32" y="1272"/>
                </a:cubicBezTo>
                <a:cubicBezTo>
                  <a:pt x="36" y="1201"/>
                  <a:pt x="0" y="1096"/>
                  <a:pt x="32" y="1032"/>
                </a:cubicBezTo>
                <a:cubicBezTo>
                  <a:pt x="64" y="968"/>
                  <a:pt x="200" y="952"/>
                  <a:pt x="224" y="888"/>
                </a:cubicBezTo>
                <a:cubicBezTo>
                  <a:pt x="248" y="824"/>
                  <a:pt x="176" y="728"/>
                  <a:pt x="176" y="648"/>
                </a:cubicBezTo>
                <a:cubicBezTo>
                  <a:pt x="176" y="568"/>
                  <a:pt x="168" y="472"/>
                  <a:pt x="224" y="408"/>
                </a:cubicBezTo>
                <a:cubicBezTo>
                  <a:pt x="280" y="344"/>
                  <a:pt x="408" y="288"/>
                  <a:pt x="512" y="264"/>
                </a:cubicBezTo>
                <a:cubicBezTo>
                  <a:pt x="616" y="240"/>
                  <a:pt x="760" y="272"/>
                  <a:pt x="848" y="264"/>
                </a:cubicBezTo>
                <a:cubicBezTo>
                  <a:pt x="936" y="256"/>
                  <a:pt x="968" y="256"/>
                  <a:pt x="1040" y="216"/>
                </a:cubicBezTo>
                <a:cubicBezTo>
                  <a:pt x="1112" y="176"/>
                  <a:pt x="1192" y="48"/>
                  <a:pt x="1280" y="24"/>
                </a:cubicBezTo>
                <a:cubicBezTo>
                  <a:pt x="1368" y="0"/>
                  <a:pt x="1496" y="40"/>
                  <a:pt x="1568" y="72"/>
                </a:cubicBezTo>
                <a:cubicBezTo>
                  <a:pt x="1640" y="104"/>
                  <a:pt x="1648" y="192"/>
                  <a:pt x="1712" y="216"/>
                </a:cubicBezTo>
                <a:cubicBezTo>
                  <a:pt x="1776" y="240"/>
                  <a:pt x="1840" y="232"/>
                  <a:pt x="1952" y="216"/>
                </a:cubicBezTo>
                <a:cubicBezTo>
                  <a:pt x="2064" y="200"/>
                  <a:pt x="2256" y="104"/>
                  <a:pt x="2384" y="120"/>
                </a:cubicBezTo>
                <a:cubicBezTo>
                  <a:pt x="2512" y="136"/>
                  <a:pt x="2640" y="216"/>
                  <a:pt x="2720" y="312"/>
                </a:cubicBezTo>
                <a:cubicBezTo>
                  <a:pt x="2800" y="408"/>
                  <a:pt x="2872" y="600"/>
                  <a:pt x="2864" y="696"/>
                </a:cubicBezTo>
                <a:cubicBezTo>
                  <a:pt x="2856" y="792"/>
                  <a:pt x="2704" y="808"/>
                  <a:pt x="2672" y="888"/>
                </a:cubicBezTo>
                <a:cubicBezTo>
                  <a:pt x="2640" y="968"/>
                  <a:pt x="2624" y="1080"/>
                  <a:pt x="2672" y="1176"/>
                </a:cubicBezTo>
                <a:cubicBezTo>
                  <a:pt x="2720" y="1272"/>
                  <a:pt x="2912" y="1360"/>
                  <a:pt x="2960" y="1464"/>
                </a:cubicBezTo>
                <a:cubicBezTo>
                  <a:pt x="3008" y="1568"/>
                  <a:pt x="2984" y="1728"/>
                  <a:pt x="2960" y="1800"/>
                </a:cubicBezTo>
                <a:cubicBezTo>
                  <a:pt x="2936" y="1872"/>
                  <a:pt x="2856" y="1840"/>
                  <a:pt x="2816" y="1896"/>
                </a:cubicBezTo>
                <a:cubicBezTo>
                  <a:pt x="2776" y="1952"/>
                  <a:pt x="2760" y="2072"/>
                  <a:pt x="2720" y="2136"/>
                </a:cubicBezTo>
                <a:cubicBezTo>
                  <a:pt x="2680" y="2200"/>
                  <a:pt x="2640" y="2264"/>
                  <a:pt x="2576" y="2280"/>
                </a:cubicBezTo>
                <a:cubicBezTo>
                  <a:pt x="2512" y="2296"/>
                  <a:pt x="2416" y="2256"/>
                  <a:pt x="2336" y="2232"/>
                </a:cubicBezTo>
                <a:cubicBezTo>
                  <a:pt x="2256" y="2208"/>
                  <a:pt x="2184" y="2120"/>
                  <a:pt x="2096" y="2136"/>
                </a:cubicBezTo>
                <a:cubicBezTo>
                  <a:pt x="2008" y="2152"/>
                  <a:pt x="1896" y="2272"/>
                  <a:pt x="1808" y="2328"/>
                </a:cubicBezTo>
                <a:cubicBezTo>
                  <a:pt x="1720" y="2384"/>
                  <a:pt x="1664" y="2480"/>
                  <a:pt x="1568" y="2472"/>
                </a:cubicBezTo>
                <a:cubicBezTo>
                  <a:pt x="1472" y="2464"/>
                  <a:pt x="1352" y="2312"/>
                  <a:pt x="1232" y="2280"/>
                </a:cubicBezTo>
                <a:cubicBezTo>
                  <a:pt x="1112" y="2248"/>
                  <a:pt x="979" y="2262"/>
                  <a:pt x="848" y="2280"/>
                </a:cubicBezTo>
                <a:cubicBezTo>
                  <a:pt x="717" y="2298"/>
                  <a:pt x="559" y="2417"/>
                  <a:pt x="446" y="2388"/>
                </a:cubicBezTo>
                <a:cubicBezTo>
                  <a:pt x="333" y="2359"/>
                  <a:pt x="215" y="2212"/>
                  <a:pt x="170" y="2106"/>
                </a:cubicBezTo>
                <a:cubicBezTo>
                  <a:pt x="125" y="2000"/>
                  <a:pt x="191" y="1843"/>
                  <a:pt x="176" y="1752"/>
                </a:cubicBezTo>
                <a:cubicBezTo>
                  <a:pt x="161" y="1661"/>
                  <a:pt x="108" y="1609"/>
                  <a:pt x="80" y="1560"/>
                </a:cubicBezTo>
                <a:cubicBezTo>
                  <a:pt x="52" y="1511"/>
                  <a:pt x="16" y="1506"/>
                  <a:pt x="8" y="145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82760" y="2247840"/>
            <a:ext cx="1501560" cy="882720"/>
          </a:xfrm>
          <a:prstGeom prst="rect">
            <a:avLst/>
          </a:prstGeom>
          <a:solidFill>
            <a:srgbClr val="66ffcc"/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&gt; start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711000" y="1079640"/>
            <a:ext cx="457560" cy="990000"/>
            <a:chOff x="711000" y="1079640"/>
            <a:chExt cx="457560" cy="990000"/>
          </a:xfrm>
        </p:grpSpPr>
        <p:sp>
          <p:nvSpPr>
            <p:cNvPr id="715" name=""/>
            <p:cNvSpPr/>
            <p:nvPr/>
          </p:nvSpPr>
          <p:spPr>
            <a:xfrm>
              <a:off x="787320" y="1079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39960" y="138420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711000" y="146016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1000" y="184140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39960" y="146016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39960" y="184140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1168920" y="132228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676840" y="2855880"/>
            <a:ext cx="216000" cy="379440"/>
            <a:chOff x="5676840" y="2855880"/>
            <a:chExt cx="216000" cy="379440"/>
          </a:xfrm>
        </p:grpSpPr>
        <p:sp>
          <p:nvSpPr>
            <p:cNvPr id="723" name=""/>
            <p:cNvSpPr/>
            <p:nvPr/>
          </p:nvSpPr>
          <p:spPr>
            <a:xfrm>
              <a:off x="5789520" y="285588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76840" y="3019320"/>
              <a:ext cx="21600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5486040" y="3921120"/>
            <a:ext cx="336960" cy="214200"/>
            <a:chOff x="5486040" y="3921120"/>
            <a:chExt cx="336960" cy="214200"/>
          </a:xfrm>
        </p:grpSpPr>
        <p:sp>
          <p:nvSpPr>
            <p:cNvPr id="726" name=""/>
            <p:cNvSpPr/>
            <p:nvPr/>
          </p:nvSpPr>
          <p:spPr>
            <a:xfrm>
              <a:off x="5613480" y="402588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485680" y="392112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5407200" y="2127240"/>
            <a:ext cx="469800" cy="77472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774720"/>
              <a:gd name="textAreaBottom" fmla="*/ 752040 h 774720"/>
            </a:gdLst>
            <a:ahLst/>
            <a:rect l="textAreaLeft" t="textAreaTop" r="textAreaRight" b="textAreaBottom"/>
            <a:pathLst>
              <a:path w="21600" h="35609">
                <a:moveTo>
                  <a:pt x="3600" y="0"/>
                </a:moveTo>
                <a:arcTo wR="3600" hR="3600" stAng="16200000" swAng="-5400000"/>
                <a:lnTo>
                  <a:pt x="0" y="32009"/>
                </a:lnTo>
                <a:arcTo wR="3600" hR="3600" stAng="10800000" swAng="-5400000"/>
                <a:lnTo>
                  <a:pt x="18000" y="35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472000" y="2322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5864040" y="3521160"/>
            <a:ext cx="215640" cy="368280"/>
            <a:chOff x="5864040" y="3521160"/>
            <a:chExt cx="215640" cy="368280"/>
          </a:xfrm>
        </p:grpSpPr>
        <p:sp>
          <p:nvSpPr>
            <p:cNvPr id="731" name=""/>
            <p:cNvSpPr/>
            <p:nvPr/>
          </p:nvSpPr>
          <p:spPr>
            <a:xfrm rot="5400000">
              <a:off x="5863680" y="3521160"/>
              <a:ext cx="216000" cy="2156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65560" y="374976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5721480" y="3797280"/>
            <a:ext cx="469800" cy="77472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774720"/>
              <a:gd name="textAreaBottom" fmla="*/ 752040 h 774720"/>
            </a:gdLst>
            <a:ahLst/>
            <a:rect l="textAreaLeft" t="textAreaTop" r="textAreaRight" b="textAreaBottom"/>
            <a:pathLst>
              <a:path w="21600" h="35609">
                <a:moveTo>
                  <a:pt x="3600" y="0"/>
                </a:moveTo>
                <a:arcTo wR="3600" hR="3600" stAng="16200000" swAng="-5400000"/>
                <a:lnTo>
                  <a:pt x="0" y="32009"/>
                </a:lnTo>
                <a:arcTo wR="3600" hR="3600" stAng="10800000" swAng="-5400000"/>
                <a:lnTo>
                  <a:pt x="18000" y="35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7560" y="3963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117960" y="2233440"/>
            <a:ext cx="379440" cy="216000"/>
            <a:chOff x="3117960" y="2233440"/>
            <a:chExt cx="379440" cy="216000"/>
          </a:xfrm>
        </p:grpSpPr>
        <p:sp>
          <p:nvSpPr>
            <p:cNvPr id="736" name=""/>
            <p:cNvSpPr/>
            <p:nvPr/>
          </p:nvSpPr>
          <p:spPr>
            <a:xfrm>
              <a:off x="3117960" y="233676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3281400" y="2233440"/>
              <a:ext cx="21600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20880" y="2079720"/>
            <a:ext cx="470160" cy="774720"/>
          </a:xfrm>
          <a:custGeom>
            <a:avLst/>
            <a:gdLst>
              <a:gd name="textAreaLeft" fmla="*/ 22680 w 470160"/>
              <a:gd name="textAreaRight" fmla="*/ 447480 w 470160"/>
              <a:gd name="textAreaTop" fmla="*/ 22680 h 774720"/>
              <a:gd name="textAreaBottom" fmla="*/ 752040 h 774720"/>
            </a:gdLst>
            <a:ahLst/>
            <a:rect l="textAreaLeft" t="textAreaTop" r="textAreaRight" b="textAreaBottom"/>
            <a:pathLst>
              <a:path w="21600" h="35581">
                <a:moveTo>
                  <a:pt x="3600" y="0"/>
                </a:moveTo>
                <a:arcTo wR="3600" hR="3600" stAng="16200000" swAng="-5400000"/>
                <a:lnTo>
                  <a:pt x="0" y="31981"/>
                </a:lnTo>
                <a:arcTo wR="3600" hR="3600" stAng="10800000" swAng="-5400000"/>
                <a:lnTo>
                  <a:pt x="18000" y="35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795760" y="227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746520" y="3662280"/>
            <a:ext cx="379440" cy="216000"/>
            <a:chOff x="3746520" y="3662280"/>
            <a:chExt cx="379440" cy="216000"/>
          </a:xfrm>
        </p:grpSpPr>
        <p:sp>
          <p:nvSpPr>
            <p:cNvPr id="741" name=""/>
            <p:cNvSpPr/>
            <p:nvPr/>
          </p:nvSpPr>
          <p:spPr>
            <a:xfrm flipH="1">
              <a:off x="3961080" y="376560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rot="5400000">
              <a:off x="3746520" y="3662280"/>
              <a:ext cx="21600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13120" y="3273480"/>
            <a:ext cx="279360" cy="216000"/>
            <a:chOff x="3813120" y="3273480"/>
            <a:chExt cx="279360" cy="216000"/>
          </a:xfrm>
        </p:grpSpPr>
        <p:sp>
          <p:nvSpPr>
            <p:cNvPr id="744" name=""/>
            <p:cNvSpPr/>
            <p:nvPr/>
          </p:nvSpPr>
          <p:spPr>
            <a:xfrm flipH="1">
              <a:off x="3958920" y="338472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13120" y="3273480"/>
              <a:ext cx="180720" cy="2160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4489560" y="3625920"/>
            <a:ext cx="279360" cy="216000"/>
            <a:chOff x="4489560" y="3625920"/>
            <a:chExt cx="279360" cy="216000"/>
          </a:xfrm>
        </p:grpSpPr>
        <p:sp>
          <p:nvSpPr>
            <p:cNvPr id="747" name=""/>
            <p:cNvSpPr/>
            <p:nvPr/>
          </p:nvSpPr>
          <p:spPr>
            <a:xfrm>
              <a:off x="4489560" y="373716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88200" y="362592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4454280" y="3298680"/>
            <a:ext cx="368280" cy="216000"/>
            <a:chOff x="4454280" y="3298680"/>
            <a:chExt cx="368280" cy="216000"/>
          </a:xfrm>
        </p:grpSpPr>
        <p:sp>
          <p:nvSpPr>
            <p:cNvPr id="750" name=""/>
            <p:cNvSpPr/>
            <p:nvPr/>
          </p:nvSpPr>
          <p:spPr>
            <a:xfrm flipH="1">
              <a:off x="4606560" y="329868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454280" y="341316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044960" y="3146400"/>
            <a:ext cx="469800" cy="774720"/>
            <a:chOff x="4044960" y="3146400"/>
            <a:chExt cx="469800" cy="774720"/>
          </a:xfrm>
        </p:grpSpPr>
        <p:sp>
          <p:nvSpPr>
            <p:cNvPr id="753" name=""/>
            <p:cNvSpPr/>
            <p:nvPr/>
          </p:nvSpPr>
          <p:spPr>
            <a:xfrm>
              <a:off x="4044960" y="3146400"/>
              <a:ext cx="469800" cy="774720"/>
            </a:xfrm>
            <a:custGeom>
              <a:avLst/>
              <a:gdLst>
                <a:gd name="textAreaLeft" fmla="*/ 22680 w 469800"/>
                <a:gd name="textAreaRight" fmla="*/ 447120 w 469800"/>
                <a:gd name="textAreaTop" fmla="*/ 22680 h 774720"/>
                <a:gd name="textAreaBottom" fmla="*/ 752040 h 774720"/>
              </a:gdLst>
              <a:ahLst/>
              <a:rect l="textAreaLeft" t="textAreaTop" r="textAreaRight" b="textAreaBottom"/>
              <a:pathLst>
                <a:path w="21600" h="35609">
                  <a:moveTo>
                    <a:pt x="3600" y="0"/>
                  </a:moveTo>
                  <a:arcTo wR="3600" hR="3600" stAng="16200000" swAng="-5400000"/>
                  <a:lnTo>
                    <a:pt x="0" y="32009"/>
                  </a:lnTo>
                  <a:arcTo wR="3600" hR="3600" stAng="10800000" swAng="-5400000"/>
                  <a:lnTo>
                    <a:pt x="18000" y="35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128840" y="3335400"/>
              <a:ext cx="293400" cy="3373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500040" y="279864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&gt; uninstall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451200" y="3352680"/>
            <a:ext cx="2768760" cy="2454480"/>
            <a:chOff x="6451200" y="3352680"/>
            <a:chExt cx="2768760" cy="2454480"/>
          </a:xfrm>
        </p:grpSpPr>
        <p:sp>
          <p:nvSpPr>
            <p:cNvPr id="757" name=""/>
            <p:cNvSpPr/>
            <p:nvPr/>
          </p:nvSpPr>
          <p:spPr>
            <a:xfrm>
              <a:off x="7258320" y="5236920"/>
              <a:ext cx="164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Dépendance de pack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6451200" y="5384520"/>
              <a:ext cx="850680" cy="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464160" y="5702040"/>
              <a:ext cx="85104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55080" y="492120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6501960" y="5102280"/>
              <a:ext cx="716040" cy="28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79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7315200" y="3429000"/>
              <a:ext cx="368280" cy="215640"/>
              <a:chOff x="7315200" y="3429000"/>
              <a:chExt cx="368280" cy="215640"/>
            </a:xfrm>
          </p:grpSpPr>
          <p:sp>
            <p:nvSpPr>
              <p:cNvPr id="763" name=""/>
              <p:cNvSpPr/>
              <p:nvPr/>
            </p:nvSpPr>
            <p:spPr>
              <a:xfrm>
                <a:off x="7315200" y="3429000"/>
                <a:ext cx="216000" cy="21564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543800" y="354312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7314840" y="4190760"/>
              <a:ext cx="336960" cy="214200"/>
              <a:chOff x="7314840" y="4190760"/>
              <a:chExt cx="336960" cy="214200"/>
            </a:xfrm>
          </p:grpSpPr>
          <p:sp>
            <p:nvSpPr>
              <p:cNvPr id="766" name=""/>
              <p:cNvSpPr/>
              <p:nvPr/>
            </p:nvSpPr>
            <p:spPr>
              <a:xfrm>
                <a:off x="7442280" y="429552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314480" y="4190760"/>
                <a:ext cx="150840" cy="21420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732" y="0"/>
                    </a:lnTo>
                    <a:lnTo>
                      <a:pt x="21600" y="10800"/>
                    </a:lnTo>
                    <a:lnTo>
                      <a:pt x="1273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7391160" y="3809880"/>
              <a:ext cx="379440" cy="216000"/>
              <a:chOff x="7391160" y="3809880"/>
              <a:chExt cx="379440" cy="216000"/>
            </a:xfrm>
          </p:grpSpPr>
          <p:sp>
            <p:nvSpPr>
              <p:cNvPr id="769" name=""/>
              <p:cNvSpPr/>
              <p:nvPr/>
            </p:nvSpPr>
            <p:spPr>
              <a:xfrm>
                <a:off x="7391160" y="3913200"/>
                <a:ext cx="164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6200000">
                <a:off x="7554600" y="3809880"/>
                <a:ext cx="216000" cy="2160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7391160" y="4495680"/>
              <a:ext cx="279360" cy="216000"/>
              <a:chOff x="7391160" y="4495680"/>
              <a:chExt cx="279360" cy="216000"/>
            </a:xfrm>
          </p:grpSpPr>
          <p:sp>
            <p:nvSpPr>
              <p:cNvPr id="772" name=""/>
              <p:cNvSpPr/>
              <p:nvPr/>
            </p:nvSpPr>
            <p:spPr>
              <a:xfrm>
                <a:off x="7391160" y="4606920"/>
                <a:ext cx="13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489800" y="4495680"/>
                <a:ext cx="180720" cy="216000"/>
              </a:xfrm>
              <a:custGeom>
                <a:avLst/>
                <a:gdLst>
                  <a:gd name="textAreaLeft" fmla="*/ 360 w 180720"/>
                  <a:gd name="textAreaRight" fmla="*/ 181440 w 18072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263" y="0"/>
                    </a:lnTo>
                    <a:lnTo>
                      <a:pt x="21600" y="10800"/>
                    </a:lnTo>
                    <a:lnTo>
                      <a:pt x="13263" y="21600"/>
                    </a:lnTo>
                    <a:lnTo>
                      <a:pt x="0" y="21600"/>
                    </a:lnTo>
                    <a:lnTo>
                      <a:pt x="8337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7696080" y="33526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Service four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96080" y="373356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Service requ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114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Package expor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696080" y="44640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Package impor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36000" y="5530680"/>
              <a:ext cx="156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Dépendance de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64D-623F-4259-BF65-270E6CC945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"/>
          <p:cNvGrpSpPr/>
          <p:nvPr/>
        </p:nvGrpSpPr>
        <p:grpSpPr>
          <a:xfrm>
            <a:off x="2841480" y="2904840"/>
            <a:ext cx="214200" cy="336960"/>
            <a:chOff x="2841480" y="2904840"/>
            <a:chExt cx="214200" cy="336960"/>
          </a:xfrm>
        </p:grpSpPr>
        <p:sp>
          <p:nvSpPr>
            <p:cNvPr id="780" name=""/>
            <p:cNvSpPr/>
            <p:nvPr/>
          </p:nvSpPr>
          <p:spPr>
            <a:xfrm flipV="1">
              <a:off x="2946240" y="2904840"/>
              <a:ext cx="0" cy="20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rot="16200000">
              <a:off x="2872800" y="305928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5022720" y="2700360"/>
            <a:ext cx="379440" cy="216000"/>
            <a:chOff x="5022720" y="2700360"/>
            <a:chExt cx="379440" cy="216000"/>
          </a:xfrm>
        </p:grpSpPr>
        <p:sp>
          <p:nvSpPr>
            <p:cNvPr id="783" name=""/>
            <p:cNvSpPr/>
            <p:nvPr/>
          </p:nvSpPr>
          <p:spPr>
            <a:xfrm flipH="1">
              <a:off x="5237280" y="280368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 rot="5400000">
              <a:off x="5022720" y="2700360"/>
              <a:ext cx="21600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035680" y="2346480"/>
            <a:ext cx="368280" cy="215640"/>
            <a:chOff x="5035680" y="2346480"/>
            <a:chExt cx="368280" cy="215640"/>
          </a:xfrm>
        </p:grpSpPr>
        <p:sp>
          <p:nvSpPr>
            <p:cNvPr id="786" name=""/>
            <p:cNvSpPr/>
            <p:nvPr/>
          </p:nvSpPr>
          <p:spPr>
            <a:xfrm>
              <a:off x="5035680" y="2346480"/>
              <a:ext cx="216000" cy="2156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64280" y="246060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325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épendance &amp; Dynamis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4723920" y="2790720"/>
            <a:ext cx="435240" cy="6159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651200" y="3889440"/>
            <a:ext cx="727200" cy="3175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2977920" y="3235320"/>
            <a:ext cx="796680" cy="31104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3295800" y="2448000"/>
            <a:ext cx="1695240" cy="47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-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695920" y="3209760"/>
            <a:ext cx="190440" cy="457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082960" y="1638360"/>
            <a:ext cx="4775040" cy="3936960"/>
          </a:xfrm>
          <a:custGeom>
            <a:avLst/>
            <a:gdLst/>
            <a:ahLst/>
            <a:rect l="l" t="t" r="r" b="b"/>
            <a:pathLst>
              <a:path w="3008" h="2480">
                <a:moveTo>
                  <a:pt x="8" y="1458"/>
                </a:moveTo>
                <a:cubicBezTo>
                  <a:pt x="0" y="1410"/>
                  <a:pt x="28" y="1343"/>
                  <a:pt x="32" y="1272"/>
                </a:cubicBezTo>
                <a:cubicBezTo>
                  <a:pt x="36" y="1201"/>
                  <a:pt x="0" y="1096"/>
                  <a:pt x="32" y="1032"/>
                </a:cubicBezTo>
                <a:cubicBezTo>
                  <a:pt x="64" y="968"/>
                  <a:pt x="200" y="952"/>
                  <a:pt x="224" y="888"/>
                </a:cubicBezTo>
                <a:cubicBezTo>
                  <a:pt x="248" y="824"/>
                  <a:pt x="176" y="728"/>
                  <a:pt x="176" y="648"/>
                </a:cubicBezTo>
                <a:cubicBezTo>
                  <a:pt x="176" y="568"/>
                  <a:pt x="168" y="472"/>
                  <a:pt x="224" y="408"/>
                </a:cubicBezTo>
                <a:cubicBezTo>
                  <a:pt x="280" y="344"/>
                  <a:pt x="408" y="288"/>
                  <a:pt x="512" y="264"/>
                </a:cubicBezTo>
                <a:cubicBezTo>
                  <a:pt x="616" y="240"/>
                  <a:pt x="760" y="272"/>
                  <a:pt x="848" y="264"/>
                </a:cubicBezTo>
                <a:cubicBezTo>
                  <a:pt x="936" y="256"/>
                  <a:pt x="968" y="256"/>
                  <a:pt x="1040" y="216"/>
                </a:cubicBezTo>
                <a:cubicBezTo>
                  <a:pt x="1112" y="176"/>
                  <a:pt x="1192" y="48"/>
                  <a:pt x="1280" y="24"/>
                </a:cubicBezTo>
                <a:cubicBezTo>
                  <a:pt x="1368" y="0"/>
                  <a:pt x="1496" y="40"/>
                  <a:pt x="1568" y="72"/>
                </a:cubicBezTo>
                <a:cubicBezTo>
                  <a:pt x="1640" y="104"/>
                  <a:pt x="1648" y="192"/>
                  <a:pt x="1712" y="216"/>
                </a:cubicBezTo>
                <a:cubicBezTo>
                  <a:pt x="1776" y="240"/>
                  <a:pt x="1840" y="232"/>
                  <a:pt x="1952" y="216"/>
                </a:cubicBezTo>
                <a:cubicBezTo>
                  <a:pt x="2064" y="200"/>
                  <a:pt x="2256" y="104"/>
                  <a:pt x="2384" y="120"/>
                </a:cubicBezTo>
                <a:cubicBezTo>
                  <a:pt x="2512" y="136"/>
                  <a:pt x="2640" y="216"/>
                  <a:pt x="2720" y="312"/>
                </a:cubicBezTo>
                <a:cubicBezTo>
                  <a:pt x="2800" y="408"/>
                  <a:pt x="2872" y="600"/>
                  <a:pt x="2864" y="696"/>
                </a:cubicBezTo>
                <a:cubicBezTo>
                  <a:pt x="2856" y="792"/>
                  <a:pt x="2704" y="808"/>
                  <a:pt x="2672" y="888"/>
                </a:cubicBezTo>
                <a:cubicBezTo>
                  <a:pt x="2640" y="968"/>
                  <a:pt x="2624" y="1080"/>
                  <a:pt x="2672" y="1176"/>
                </a:cubicBezTo>
                <a:cubicBezTo>
                  <a:pt x="2720" y="1272"/>
                  <a:pt x="2912" y="1360"/>
                  <a:pt x="2960" y="1464"/>
                </a:cubicBezTo>
                <a:cubicBezTo>
                  <a:pt x="3008" y="1568"/>
                  <a:pt x="2984" y="1728"/>
                  <a:pt x="2960" y="1800"/>
                </a:cubicBezTo>
                <a:cubicBezTo>
                  <a:pt x="2936" y="1872"/>
                  <a:pt x="2856" y="1840"/>
                  <a:pt x="2816" y="1896"/>
                </a:cubicBezTo>
                <a:cubicBezTo>
                  <a:pt x="2776" y="1952"/>
                  <a:pt x="2760" y="2072"/>
                  <a:pt x="2720" y="2136"/>
                </a:cubicBezTo>
                <a:cubicBezTo>
                  <a:pt x="2680" y="2200"/>
                  <a:pt x="2640" y="2264"/>
                  <a:pt x="2576" y="2280"/>
                </a:cubicBezTo>
                <a:cubicBezTo>
                  <a:pt x="2512" y="2296"/>
                  <a:pt x="2416" y="2256"/>
                  <a:pt x="2336" y="2232"/>
                </a:cubicBezTo>
                <a:cubicBezTo>
                  <a:pt x="2256" y="2208"/>
                  <a:pt x="2184" y="2120"/>
                  <a:pt x="2096" y="2136"/>
                </a:cubicBezTo>
                <a:cubicBezTo>
                  <a:pt x="2008" y="2152"/>
                  <a:pt x="1896" y="2272"/>
                  <a:pt x="1808" y="2328"/>
                </a:cubicBezTo>
                <a:cubicBezTo>
                  <a:pt x="1720" y="2384"/>
                  <a:pt x="1664" y="2480"/>
                  <a:pt x="1568" y="2472"/>
                </a:cubicBezTo>
                <a:cubicBezTo>
                  <a:pt x="1472" y="2464"/>
                  <a:pt x="1352" y="2312"/>
                  <a:pt x="1232" y="2280"/>
                </a:cubicBezTo>
                <a:cubicBezTo>
                  <a:pt x="1112" y="2248"/>
                  <a:pt x="979" y="2262"/>
                  <a:pt x="848" y="2280"/>
                </a:cubicBezTo>
                <a:cubicBezTo>
                  <a:pt x="717" y="2298"/>
                  <a:pt x="559" y="2417"/>
                  <a:pt x="446" y="2388"/>
                </a:cubicBezTo>
                <a:cubicBezTo>
                  <a:pt x="333" y="2359"/>
                  <a:pt x="215" y="2212"/>
                  <a:pt x="170" y="2106"/>
                </a:cubicBezTo>
                <a:cubicBezTo>
                  <a:pt x="125" y="2000"/>
                  <a:pt x="191" y="1843"/>
                  <a:pt x="176" y="1752"/>
                </a:cubicBezTo>
                <a:cubicBezTo>
                  <a:pt x="161" y="1661"/>
                  <a:pt x="108" y="1609"/>
                  <a:pt x="80" y="1560"/>
                </a:cubicBezTo>
                <a:cubicBezTo>
                  <a:pt x="52" y="1511"/>
                  <a:pt x="16" y="1506"/>
                  <a:pt x="8" y="145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34680" y="1231920"/>
            <a:ext cx="457560" cy="990720"/>
            <a:chOff x="634680" y="1231920"/>
            <a:chExt cx="457560" cy="990720"/>
          </a:xfrm>
        </p:grpSpPr>
        <p:sp>
          <p:nvSpPr>
            <p:cNvPr id="796" name=""/>
            <p:cNvSpPr/>
            <p:nvPr/>
          </p:nvSpPr>
          <p:spPr>
            <a:xfrm>
              <a:off x="711000" y="12319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63640" y="1536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34680" y="1612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34680" y="1994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63640" y="1612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63640" y="1994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092600" y="147492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600880" y="3008160"/>
            <a:ext cx="215640" cy="379440"/>
            <a:chOff x="5600880" y="3008160"/>
            <a:chExt cx="215640" cy="379440"/>
          </a:xfrm>
        </p:grpSpPr>
        <p:sp>
          <p:nvSpPr>
            <p:cNvPr id="804" name=""/>
            <p:cNvSpPr/>
            <p:nvPr/>
          </p:nvSpPr>
          <p:spPr>
            <a:xfrm>
              <a:off x="5713200" y="3008160"/>
              <a:ext cx="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00880" y="3171600"/>
              <a:ext cx="21564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5330880" y="2279520"/>
            <a:ext cx="469800" cy="77472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774720"/>
              <a:gd name="textAreaBottom" fmla="*/ 752040 h 774720"/>
            </a:gdLst>
            <a:ahLst/>
            <a:rect l="textAreaLeft" t="textAreaTop" r="textAreaRight" b="textAreaBottom"/>
            <a:pathLst>
              <a:path w="21600" h="35609">
                <a:moveTo>
                  <a:pt x="3600" y="0"/>
                </a:moveTo>
                <a:arcTo wR="3600" hR="3600" stAng="16200000" swAng="-5400000"/>
                <a:lnTo>
                  <a:pt x="0" y="32009"/>
                </a:lnTo>
                <a:arcTo wR="3600" hR="3600" stAng="10800000" swAng="-5400000"/>
                <a:lnTo>
                  <a:pt x="18000" y="35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396040" y="247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041640" y="2386080"/>
            <a:ext cx="379440" cy="216000"/>
            <a:chOff x="3041640" y="2386080"/>
            <a:chExt cx="379440" cy="216000"/>
          </a:xfrm>
        </p:grpSpPr>
        <p:sp>
          <p:nvSpPr>
            <p:cNvPr id="809" name=""/>
            <p:cNvSpPr/>
            <p:nvPr/>
          </p:nvSpPr>
          <p:spPr>
            <a:xfrm>
              <a:off x="3041640" y="248940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200000">
              <a:off x="3205080" y="2386080"/>
              <a:ext cx="21600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2644920" y="2232000"/>
            <a:ext cx="469800" cy="77472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774720"/>
              <a:gd name="textAreaBottom" fmla="*/ 752040 h 774720"/>
            </a:gdLst>
            <a:ahLst/>
            <a:rect l="textAreaLeft" t="textAreaTop" r="textAreaRight" b="textAreaBottom"/>
            <a:pathLst>
              <a:path w="21600" h="35609">
                <a:moveTo>
                  <a:pt x="3600" y="0"/>
                </a:moveTo>
                <a:arcTo wR="3600" hR="3600" stAng="16200000" swAng="-5400000"/>
                <a:lnTo>
                  <a:pt x="0" y="32009"/>
                </a:lnTo>
                <a:arcTo wR="3600" hR="3600" stAng="10800000" swAng="-5400000"/>
                <a:lnTo>
                  <a:pt x="18000" y="35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719440" y="242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670200" y="3814560"/>
            <a:ext cx="379440" cy="215640"/>
            <a:chOff x="3670200" y="3814560"/>
            <a:chExt cx="379440" cy="215640"/>
          </a:xfrm>
        </p:grpSpPr>
        <p:sp>
          <p:nvSpPr>
            <p:cNvPr id="814" name=""/>
            <p:cNvSpPr/>
            <p:nvPr/>
          </p:nvSpPr>
          <p:spPr>
            <a:xfrm flipH="1">
              <a:off x="3884760" y="391788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rot="5400000">
              <a:off x="3670200" y="3814200"/>
              <a:ext cx="21564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3736800" y="3425760"/>
            <a:ext cx="279360" cy="216000"/>
            <a:chOff x="3736800" y="3425760"/>
            <a:chExt cx="279360" cy="216000"/>
          </a:xfrm>
        </p:grpSpPr>
        <p:sp>
          <p:nvSpPr>
            <p:cNvPr id="817" name=""/>
            <p:cNvSpPr/>
            <p:nvPr/>
          </p:nvSpPr>
          <p:spPr>
            <a:xfrm flipH="1">
              <a:off x="3882600" y="3537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36800" y="3425760"/>
              <a:ext cx="180720" cy="2160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413240" y="3778200"/>
            <a:ext cx="279360" cy="216000"/>
            <a:chOff x="4413240" y="3778200"/>
            <a:chExt cx="279360" cy="216000"/>
          </a:xfrm>
        </p:grpSpPr>
        <p:sp>
          <p:nvSpPr>
            <p:cNvPr id="820" name=""/>
            <p:cNvSpPr/>
            <p:nvPr/>
          </p:nvSpPr>
          <p:spPr>
            <a:xfrm>
              <a:off x="4413240" y="388944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4511880" y="377820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377960" y="3451320"/>
            <a:ext cx="368280" cy="215640"/>
            <a:chOff x="4377960" y="3451320"/>
            <a:chExt cx="368280" cy="215640"/>
          </a:xfrm>
        </p:grpSpPr>
        <p:sp>
          <p:nvSpPr>
            <p:cNvPr id="823" name=""/>
            <p:cNvSpPr/>
            <p:nvPr/>
          </p:nvSpPr>
          <p:spPr>
            <a:xfrm flipH="1">
              <a:off x="4530240" y="3451320"/>
              <a:ext cx="216000" cy="2156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4377960" y="356544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3968640" y="3298680"/>
            <a:ext cx="469800" cy="774720"/>
            <a:chOff x="3968640" y="3298680"/>
            <a:chExt cx="469800" cy="774720"/>
          </a:xfrm>
        </p:grpSpPr>
        <p:sp>
          <p:nvSpPr>
            <p:cNvPr id="826" name=""/>
            <p:cNvSpPr/>
            <p:nvPr/>
          </p:nvSpPr>
          <p:spPr>
            <a:xfrm>
              <a:off x="3968640" y="3298680"/>
              <a:ext cx="469800" cy="774720"/>
            </a:xfrm>
            <a:custGeom>
              <a:avLst/>
              <a:gdLst>
                <a:gd name="textAreaLeft" fmla="*/ 22680 w 469800"/>
                <a:gd name="textAreaRight" fmla="*/ 447120 w 469800"/>
                <a:gd name="textAreaTop" fmla="*/ 22680 h 774720"/>
                <a:gd name="textAreaBottom" fmla="*/ 752040 h 774720"/>
              </a:gdLst>
              <a:ahLst/>
              <a:rect l="textAreaLeft" t="textAreaTop" r="textAreaRight" b="textAreaBottom"/>
              <a:pathLst>
                <a:path w="21600" h="35609">
                  <a:moveTo>
                    <a:pt x="3600" y="0"/>
                  </a:moveTo>
                  <a:arcTo wR="3600" hR="3600" stAng="16200000" swAng="-5400000"/>
                  <a:lnTo>
                    <a:pt x="0" y="32009"/>
                  </a:lnTo>
                  <a:arcTo wR="3600" hR="3600" stAng="10800000" swAng="-5400000"/>
                  <a:lnTo>
                    <a:pt x="18000" y="35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052520" y="3487680"/>
              <a:ext cx="293400" cy="3373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406440" y="2400480"/>
            <a:ext cx="1501560" cy="882360"/>
          </a:xfrm>
          <a:prstGeom prst="rect">
            <a:avLst/>
          </a:prstGeom>
          <a:solidFill>
            <a:srgbClr val="66ffcc"/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&gt; updat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4080" y="297180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&gt; refre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5409720" y="4133880"/>
            <a:ext cx="336960" cy="214200"/>
            <a:chOff x="5409720" y="4133880"/>
            <a:chExt cx="336960" cy="214200"/>
          </a:xfrm>
        </p:grpSpPr>
        <p:sp>
          <p:nvSpPr>
            <p:cNvPr id="831" name=""/>
            <p:cNvSpPr/>
            <p:nvPr/>
          </p:nvSpPr>
          <p:spPr>
            <a:xfrm>
              <a:off x="5537160" y="423864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5409360" y="413388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5788080" y="3733920"/>
            <a:ext cx="216000" cy="368280"/>
            <a:chOff x="5788080" y="3733920"/>
            <a:chExt cx="216000" cy="368280"/>
          </a:xfrm>
        </p:grpSpPr>
        <p:sp>
          <p:nvSpPr>
            <p:cNvPr id="834" name=""/>
            <p:cNvSpPr/>
            <p:nvPr/>
          </p:nvSpPr>
          <p:spPr>
            <a:xfrm rot="5400000">
              <a:off x="5788080" y="3733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89600" y="396252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5645160" y="4010040"/>
            <a:ext cx="469800" cy="774720"/>
          </a:xfrm>
          <a:custGeom>
            <a:avLst/>
            <a:gdLst>
              <a:gd name="textAreaLeft" fmla="*/ 22680 w 469800"/>
              <a:gd name="textAreaRight" fmla="*/ 447120 w 469800"/>
              <a:gd name="textAreaTop" fmla="*/ 22680 h 774720"/>
              <a:gd name="textAreaBottom" fmla="*/ 752040 h 774720"/>
            </a:gdLst>
            <a:ahLst/>
            <a:rect l="textAreaLeft" t="textAreaTop" r="textAreaRight" b="textAreaBottom"/>
            <a:pathLst>
              <a:path w="21600" h="35609">
                <a:moveTo>
                  <a:pt x="3600" y="0"/>
                </a:moveTo>
                <a:arcTo wR="3600" hR="3600" stAng="16200000" swAng="-5400000"/>
                <a:lnTo>
                  <a:pt x="0" y="32009"/>
                </a:lnTo>
                <a:arcTo wR="3600" hR="3600" stAng="10800000" swAng="-5400000"/>
                <a:lnTo>
                  <a:pt x="18000" y="35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691240" y="41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5409720" y="3733920"/>
            <a:ext cx="705240" cy="1050840"/>
            <a:chOff x="5409720" y="3733920"/>
            <a:chExt cx="705240" cy="1050840"/>
          </a:xfrm>
        </p:grpSpPr>
        <p:grpSp>
          <p:nvGrpSpPr>
            <p:cNvPr id="839" name=""/>
            <p:cNvGrpSpPr/>
            <p:nvPr/>
          </p:nvGrpSpPr>
          <p:grpSpPr>
            <a:xfrm>
              <a:off x="5409720" y="4133880"/>
              <a:ext cx="336960" cy="214200"/>
              <a:chOff x="5409720" y="4133880"/>
              <a:chExt cx="336960" cy="214200"/>
            </a:xfrm>
          </p:grpSpPr>
          <p:sp>
            <p:nvSpPr>
              <p:cNvPr id="840" name=""/>
              <p:cNvSpPr/>
              <p:nvPr/>
            </p:nvSpPr>
            <p:spPr>
              <a:xfrm>
                <a:off x="5537160" y="423864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5409360" y="4133880"/>
                <a:ext cx="150840" cy="21420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732" y="0"/>
                    </a:lnTo>
                    <a:lnTo>
                      <a:pt x="21600" y="10800"/>
                    </a:lnTo>
                    <a:lnTo>
                      <a:pt x="1273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5787720" y="3733920"/>
              <a:ext cx="215640" cy="368280"/>
              <a:chOff x="5787720" y="3733920"/>
              <a:chExt cx="215640" cy="368280"/>
            </a:xfrm>
          </p:grpSpPr>
          <p:sp>
            <p:nvSpPr>
              <p:cNvPr id="843" name=""/>
              <p:cNvSpPr/>
              <p:nvPr/>
            </p:nvSpPr>
            <p:spPr>
              <a:xfrm rot="5400000">
                <a:off x="5787360" y="3733920"/>
                <a:ext cx="216000" cy="21564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889240" y="3962520"/>
                <a:ext cx="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5645160" y="4010040"/>
              <a:ext cx="469800" cy="774720"/>
            </a:xfrm>
            <a:custGeom>
              <a:avLst/>
              <a:gdLst>
                <a:gd name="textAreaLeft" fmla="*/ 22680 w 469800"/>
                <a:gd name="textAreaRight" fmla="*/ 447120 w 469800"/>
                <a:gd name="textAreaTop" fmla="*/ 22680 h 774720"/>
                <a:gd name="textAreaBottom" fmla="*/ 752040 h 774720"/>
              </a:gdLst>
              <a:ahLst/>
              <a:rect l="textAreaLeft" t="textAreaTop" r="textAreaRight" b="textAreaBottom"/>
              <a:pathLst>
                <a:path w="21600" h="35609">
                  <a:moveTo>
                    <a:pt x="3600" y="0"/>
                  </a:moveTo>
                  <a:arcTo wR="3600" hR="3600" stAng="16200000" swAng="-5400000"/>
                  <a:lnTo>
                    <a:pt x="0" y="32009"/>
                  </a:lnTo>
                  <a:arcTo wR="3600" hR="3600" stAng="10800000" swAng="-5400000"/>
                  <a:lnTo>
                    <a:pt x="18000" y="35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1240" y="4176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815080" y="1347840"/>
            <a:ext cx="2780640" cy="912600"/>
            <a:chOff x="5815080" y="1347840"/>
            <a:chExt cx="2780640" cy="912600"/>
          </a:xfrm>
        </p:grpSpPr>
        <p:sp>
          <p:nvSpPr>
            <p:cNvPr id="848" name=""/>
            <p:cNvSpPr/>
            <p:nvPr/>
          </p:nvSpPr>
          <p:spPr>
            <a:xfrm flipH="1">
              <a:off x="5815080" y="1727280"/>
              <a:ext cx="571680" cy="5331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057360" y="1347840"/>
              <a:ext cx="2538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ndle/Service redémarr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374880" y="3505320"/>
            <a:ext cx="2768760" cy="2454480"/>
            <a:chOff x="6374880" y="3505320"/>
            <a:chExt cx="2768760" cy="2454480"/>
          </a:xfrm>
        </p:grpSpPr>
        <p:sp>
          <p:nvSpPr>
            <p:cNvPr id="851" name=""/>
            <p:cNvSpPr/>
            <p:nvPr/>
          </p:nvSpPr>
          <p:spPr>
            <a:xfrm>
              <a:off x="7182000" y="5389560"/>
              <a:ext cx="164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Dépendance de pack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374880" y="5537160"/>
              <a:ext cx="850680" cy="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387840" y="5854680"/>
              <a:ext cx="85104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78760" y="507384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6425640" y="5254920"/>
              <a:ext cx="716040" cy="28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79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7238880" y="3581640"/>
              <a:ext cx="368280" cy="215640"/>
              <a:chOff x="7238880" y="3581640"/>
              <a:chExt cx="368280" cy="215640"/>
            </a:xfrm>
          </p:grpSpPr>
          <p:sp>
            <p:nvSpPr>
              <p:cNvPr id="857" name=""/>
              <p:cNvSpPr/>
              <p:nvPr/>
            </p:nvSpPr>
            <p:spPr>
              <a:xfrm>
                <a:off x="7238880" y="3581640"/>
                <a:ext cx="216000" cy="21564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467480" y="369576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7238520" y="4343400"/>
              <a:ext cx="336960" cy="214200"/>
              <a:chOff x="7238520" y="4343400"/>
              <a:chExt cx="336960" cy="214200"/>
            </a:xfrm>
          </p:grpSpPr>
          <p:sp>
            <p:nvSpPr>
              <p:cNvPr id="860" name=""/>
              <p:cNvSpPr/>
              <p:nvPr/>
            </p:nvSpPr>
            <p:spPr>
              <a:xfrm>
                <a:off x="7365960" y="444816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7238160" y="4343400"/>
                <a:ext cx="150840" cy="21420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732" y="0"/>
                    </a:lnTo>
                    <a:lnTo>
                      <a:pt x="21600" y="10800"/>
                    </a:lnTo>
                    <a:lnTo>
                      <a:pt x="1273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7314840" y="3962520"/>
              <a:ext cx="379440" cy="216000"/>
              <a:chOff x="7314840" y="3962520"/>
              <a:chExt cx="379440" cy="216000"/>
            </a:xfrm>
          </p:grpSpPr>
          <p:sp>
            <p:nvSpPr>
              <p:cNvPr id="863" name=""/>
              <p:cNvSpPr/>
              <p:nvPr/>
            </p:nvSpPr>
            <p:spPr>
              <a:xfrm>
                <a:off x="7314840" y="4065840"/>
                <a:ext cx="164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7478280" y="3962520"/>
                <a:ext cx="216000" cy="2160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7314840" y="4648320"/>
              <a:ext cx="279360" cy="216000"/>
              <a:chOff x="7314840" y="4648320"/>
              <a:chExt cx="279360" cy="216000"/>
            </a:xfrm>
          </p:grpSpPr>
          <p:sp>
            <p:nvSpPr>
              <p:cNvPr id="866" name=""/>
              <p:cNvSpPr/>
              <p:nvPr/>
            </p:nvSpPr>
            <p:spPr>
              <a:xfrm>
                <a:off x="7314840" y="4759560"/>
                <a:ext cx="13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7413480" y="4648320"/>
                <a:ext cx="180720" cy="216000"/>
              </a:xfrm>
              <a:custGeom>
                <a:avLst/>
                <a:gdLst>
                  <a:gd name="textAreaLeft" fmla="*/ 360 w 180720"/>
                  <a:gd name="textAreaRight" fmla="*/ 181440 w 18072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263" y="0"/>
                    </a:lnTo>
                    <a:lnTo>
                      <a:pt x="21600" y="10800"/>
                    </a:lnTo>
                    <a:lnTo>
                      <a:pt x="13263" y="21600"/>
                    </a:lnTo>
                    <a:lnTo>
                      <a:pt x="0" y="21600"/>
                    </a:lnTo>
                    <a:lnTo>
                      <a:pt x="8337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7619760" y="35053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Service four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619760" y="38862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Service requ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19760" y="426744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Package expor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19760" y="461664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Package impor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59680" y="5683320"/>
              <a:ext cx="156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Dépendance de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080-4070-499B-87B8-053780C959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07880" y="296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 exemple plus complet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1C2-E180-42B0-8235-E177B98540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01840" y="-29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84456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interface et des implé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trouvent dans des packages diffé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émentation normalement non publ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s implémentations possi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emballées » dans les bund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fié par des propriét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52040" y="3941640"/>
            <a:ext cx="283248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br>
              <a:rPr sz="1400"/>
            </a:b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org.device.print.Print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82280" y="5270400"/>
            <a:ext cx="283248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br>
              <a:rPr sz="1400"/>
            </a:b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org.device.print.Print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3479760" y="3892680"/>
            <a:ext cx="510840" cy="299520"/>
            <a:chOff x="3479760" y="3892680"/>
            <a:chExt cx="510840" cy="299520"/>
          </a:xfrm>
        </p:grpSpPr>
        <p:sp>
          <p:nvSpPr>
            <p:cNvPr id="879" name=""/>
            <p:cNvSpPr/>
            <p:nvPr/>
          </p:nvSpPr>
          <p:spPr>
            <a:xfrm>
              <a:off x="3479760" y="3892680"/>
              <a:ext cx="299520" cy="2995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96920" y="4051440"/>
              <a:ext cx="19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3990960" y="3664080"/>
            <a:ext cx="733320" cy="7286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3479760" y="5264280"/>
            <a:ext cx="510840" cy="299520"/>
            <a:chOff x="3479760" y="5264280"/>
            <a:chExt cx="510840" cy="299520"/>
          </a:xfrm>
        </p:grpSpPr>
        <p:sp>
          <p:nvSpPr>
            <p:cNvPr id="883" name=""/>
            <p:cNvSpPr/>
            <p:nvPr/>
          </p:nvSpPr>
          <p:spPr>
            <a:xfrm>
              <a:off x="3479760" y="5264280"/>
              <a:ext cx="299520" cy="2995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96920" y="5423040"/>
              <a:ext cx="19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990960" y="5035680"/>
            <a:ext cx="733320" cy="7286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269680" y="4807080"/>
            <a:ext cx="35640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Classe d’implémentation </a:t>
            </a:r>
            <a:br>
              <a:rPr sz="1400"/>
            </a:b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om.lexmark.printer.laser.impl.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 Narrow"/>
              </a:rPr>
              <a:t>type=laser</a:t>
            </a:r>
            <a:br>
              <a:rPr sz="1400"/>
            </a:br>
            <a:r>
              <a:rPr b="1" lang="fr-FR" sz="1400" spc="-1" strike="noStrike">
                <a:solidFill>
                  <a:srgbClr val="ff3300"/>
                </a:solidFill>
                <a:latin typeface="Arial Narrow"/>
              </a:rPr>
              <a:t>location=1st fl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367240" y="3587760"/>
            <a:ext cx="338112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Classe d’implémentation</a:t>
            </a:r>
            <a:br>
              <a:rPr sz="1400"/>
            </a:b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om.hp.printer.laserjet.impl.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 Narrow"/>
              </a:rPr>
              <a:t>type=laser</a:t>
            </a:r>
            <a:br>
              <a:rPr sz="1400"/>
            </a:br>
            <a:r>
              <a:rPr b="1" lang="fr-FR" sz="1400" spc="-1" strike="noStrike">
                <a:solidFill>
                  <a:srgbClr val="ff3300"/>
                </a:solidFill>
                <a:latin typeface="Arial Narrow"/>
              </a:rPr>
              <a:t>location=4th fl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CF3-5030-4329-8DD8-70D01049A7D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e de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241640" y="914400"/>
            <a:ext cx="32745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br>
              <a:rPr sz="1600"/>
            </a:b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rg.device.print.Print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4008600" y="1785960"/>
            <a:ext cx="510480" cy="299520"/>
            <a:chOff x="4008600" y="1785960"/>
            <a:chExt cx="510480" cy="299520"/>
          </a:xfrm>
        </p:grpSpPr>
        <p:sp>
          <p:nvSpPr>
            <p:cNvPr id="891" name=""/>
            <p:cNvSpPr/>
            <p:nvPr/>
          </p:nvSpPr>
          <p:spPr>
            <a:xfrm>
              <a:off x="4008600" y="1785960"/>
              <a:ext cx="299520" cy="2995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25400" y="1944720"/>
              <a:ext cx="19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4519440" y="1557360"/>
            <a:ext cx="784440" cy="7286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819440" y="2438280"/>
            <a:ext cx="637992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58" y="675"/>
                </a:moveTo>
                <a:lnTo>
                  <a:pt x="-258" y="675"/>
                </a:lnTo>
                <a:lnTo>
                  <a:pt x="-258" y="-938"/>
                </a:lnTo>
                <a:lnTo>
                  <a:pt x="6852" y="-3000"/>
                </a:lnTo>
              </a:path>
            </a:pathLst>
          </a:cu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fr-FR" sz="1400" spc="-1" strike="noStrike">
                <a:solidFill>
                  <a:srgbClr val="33cc33"/>
                </a:solidFill>
                <a:latin typeface="Courier New"/>
              </a:rPr>
              <a:t>org.device.prin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fr-FR" sz="1400" spc="-1" strike="noStrike">
                <a:solidFill>
                  <a:srgbClr val="33cc33"/>
                </a:solidFill>
                <a:latin typeface="Courier New"/>
              </a:rPr>
              <a:t>PrintService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public int print(OutputStream out,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ing[] printparams)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throws PrintExce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public void kill(int jobnumber)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throws PrintExce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public Job[] list()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throws PrintExce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public Job status(int jobnumber)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throws PrintExce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718-42E1-4739-BFB0-C71F905CAA9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432320" y="1155600"/>
            <a:ext cx="368280" cy="216000"/>
            <a:chOff x="4432320" y="1155600"/>
            <a:chExt cx="368280" cy="216000"/>
          </a:xfrm>
        </p:grpSpPr>
        <p:sp>
          <p:nvSpPr>
            <p:cNvPr id="896" name=""/>
            <p:cNvSpPr/>
            <p:nvPr/>
          </p:nvSpPr>
          <p:spPr>
            <a:xfrm>
              <a:off x="4432320" y="11556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60920" y="127008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7324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e d’appl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553080" y="1905120"/>
            <a:ext cx="685800" cy="243828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2286000" y="1295280"/>
            <a:ext cx="2133720" cy="749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7162560" y="4421160"/>
            <a:ext cx="336960" cy="214200"/>
            <a:chOff x="7162560" y="4421160"/>
            <a:chExt cx="336960" cy="214200"/>
          </a:xfrm>
        </p:grpSpPr>
        <p:sp>
          <p:nvSpPr>
            <p:cNvPr id="902" name=""/>
            <p:cNvSpPr/>
            <p:nvPr/>
          </p:nvSpPr>
          <p:spPr>
            <a:xfrm>
              <a:off x="7290000" y="452592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162200" y="442116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1981080" y="1968480"/>
            <a:ext cx="379440" cy="216000"/>
            <a:chOff x="1981080" y="1968480"/>
            <a:chExt cx="379440" cy="216000"/>
          </a:xfrm>
        </p:grpSpPr>
        <p:sp>
          <p:nvSpPr>
            <p:cNvPr id="905" name=""/>
            <p:cNvSpPr/>
            <p:nvPr/>
          </p:nvSpPr>
          <p:spPr>
            <a:xfrm>
              <a:off x="1981080" y="207180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6200000">
              <a:off x="2144520" y="1968480"/>
              <a:ext cx="21600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800600" y="762120"/>
            <a:ext cx="1460520" cy="10666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HP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Deskjet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1981080" y="2971800"/>
            <a:ext cx="279360" cy="216000"/>
            <a:chOff x="1981080" y="2971800"/>
            <a:chExt cx="279360" cy="216000"/>
          </a:xfrm>
        </p:grpSpPr>
        <p:sp>
          <p:nvSpPr>
            <p:cNvPr id="909" name=""/>
            <p:cNvSpPr/>
            <p:nvPr/>
          </p:nvSpPr>
          <p:spPr>
            <a:xfrm>
              <a:off x="1981080" y="308304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2079720" y="297180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51920" y="4191120"/>
            <a:ext cx="1905480" cy="1190880"/>
            <a:chOff x="151920" y="4191120"/>
            <a:chExt cx="1905480" cy="1190880"/>
          </a:xfrm>
        </p:grpSpPr>
        <p:grpSp>
          <p:nvGrpSpPr>
            <p:cNvPr id="912" name=""/>
            <p:cNvGrpSpPr/>
            <p:nvPr/>
          </p:nvGrpSpPr>
          <p:grpSpPr>
            <a:xfrm>
              <a:off x="152280" y="4267440"/>
              <a:ext cx="368280" cy="215640"/>
              <a:chOff x="152280" y="4267440"/>
              <a:chExt cx="368280" cy="215640"/>
            </a:xfrm>
          </p:grpSpPr>
          <p:sp>
            <p:nvSpPr>
              <p:cNvPr id="913" name=""/>
              <p:cNvSpPr/>
              <p:nvPr/>
            </p:nvSpPr>
            <p:spPr>
              <a:xfrm>
                <a:off x="152280" y="4267440"/>
                <a:ext cx="216000" cy="21564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80880" y="438156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151920" y="4876920"/>
              <a:ext cx="336960" cy="214200"/>
              <a:chOff x="151920" y="4876920"/>
              <a:chExt cx="336960" cy="214200"/>
            </a:xfrm>
          </p:grpSpPr>
          <p:sp>
            <p:nvSpPr>
              <p:cNvPr id="916" name=""/>
              <p:cNvSpPr/>
              <p:nvPr/>
            </p:nvSpPr>
            <p:spPr>
              <a:xfrm>
                <a:off x="279360" y="498168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151560" y="4876920"/>
                <a:ext cx="150840" cy="21420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732" y="0"/>
                    </a:lnTo>
                    <a:lnTo>
                      <a:pt x="21600" y="10800"/>
                    </a:lnTo>
                    <a:lnTo>
                      <a:pt x="1273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228600" y="4572000"/>
              <a:ext cx="379440" cy="216000"/>
              <a:chOff x="228600" y="4572000"/>
              <a:chExt cx="379440" cy="216000"/>
            </a:xfrm>
          </p:grpSpPr>
          <p:sp>
            <p:nvSpPr>
              <p:cNvPr id="919" name=""/>
              <p:cNvSpPr/>
              <p:nvPr/>
            </p:nvSpPr>
            <p:spPr>
              <a:xfrm>
                <a:off x="228600" y="4675320"/>
                <a:ext cx="164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6200000">
                <a:off x="392040" y="4572000"/>
                <a:ext cx="216000" cy="2160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228600" y="5137200"/>
              <a:ext cx="279360" cy="216000"/>
              <a:chOff x="228600" y="5137200"/>
              <a:chExt cx="279360" cy="216000"/>
            </a:xfrm>
          </p:grpSpPr>
          <p:sp>
            <p:nvSpPr>
              <p:cNvPr id="922" name=""/>
              <p:cNvSpPr/>
              <p:nvPr/>
            </p:nvSpPr>
            <p:spPr>
              <a:xfrm>
                <a:off x="228600" y="5248440"/>
                <a:ext cx="13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327240" y="5137200"/>
                <a:ext cx="180720" cy="216000"/>
              </a:xfrm>
              <a:custGeom>
                <a:avLst/>
                <a:gdLst>
                  <a:gd name="textAreaLeft" fmla="*/ 360 w 180720"/>
                  <a:gd name="textAreaRight" fmla="*/ 181440 w 18072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263" y="0"/>
                    </a:lnTo>
                    <a:lnTo>
                      <a:pt x="21600" y="10800"/>
                    </a:lnTo>
                    <a:lnTo>
                      <a:pt x="13263" y="21600"/>
                    </a:lnTo>
                    <a:lnTo>
                      <a:pt x="0" y="21600"/>
                    </a:lnTo>
                    <a:lnTo>
                      <a:pt x="8337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533160" y="419112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Service four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3160" y="449604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Service requ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160" y="4800600"/>
              <a:ext cx="152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Package expor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3160" y="5105520"/>
              <a:ext cx="152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Package impor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533520" y="1816200"/>
            <a:ext cx="1447560" cy="152388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523880"/>
              <a:gd name="textAreaBottom" fmla="*/ 1453320 h 1523880"/>
            </a:gdLst>
            <a:ahLst/>
            <a:rect l="textAreaLeft" t="textAreaTop" r="textAreaRight" b="textAreaBottom"/>
            <a:pathLst>
              <a:path w="21600" h="22739">
                <a:moveTo>
                  <a:pt x="3600" y="0"/>
                </a:moveTo>
                <a:arcTo wR="3600" hR="3600" stAng="16200000" swAng="-5400000"/>
                <a:lnTo>
                  <a:pt x="0" y="19139"/>
                </a:lnTo>
                <a:arcTo wR="3600" hR="3600" stAng="10800000" swAng="-5400000"/>
                <a:lnTo>
                  <a:pt x="18000" y="227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Text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981080" y="99072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 Narrow"/>
              </a:rPr>
              <a:t>org.device.print.</a:t>
            </a:r>
            <a:r>
              <a:rPr b="1" i="1" lang="fr-FR" sz="1000" spc="-1" strike="noStrike">
                <a:solidFill>
                  <a:srgbClr val="000000"/>
                </a:solidFill>
                <a:latin typeface="Arial Narrow"/>
              </a:rPr>
              <a:t>Print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6248520" y="1600200"/>
            <a:ext cx="279360" cy="216000"/>
            <a:chOff x="6248520" y="1600200"/>
            <a:chExt cx="279360" cy="216000"/>
          </a:xfrm>
        </p:grpSpPr>
        <p:sp>
          <p:nvSpPr>
            <p:cNvPr id="931" name=""/>
            <p:cNvSpPr/>
            <p:nvPr/>
          </p:nvSpPr>
          <p:spPr>
            <a:xfrm>
              <a:off x="6248520" y="171144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6347160" y="160020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419720" y="2819520"/>
            <a:ext cx="368280" cy="215640"/>
            <a:chOff x="4419720" y="2819520"/>
            <a:chExt cx="368280" cy="215640"/>
          </a:xfrm>
        </p:grpSpPr>
        <p:sp>
          <p:nvSpPr>
            <p:cNvPr id="934" name=""/>
            <p:cNvSpPr/>
            <p:nvPr/>
          </p:nvSpPr>
          <p:spPr>
            <a:xfrm>
              <a:off x="4419720" y="2819520"/>
              <a:ext cx="216000" cy="2156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648320" y="293364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4788000" y="2425680"/>
            <a:ext cx="1460520" cy="10666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Lexmark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Laser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6235560" y="3263760"/>
            <a:ext cx="279360" cy="216000"/>
            <a:chOff x="6235560" y="3263760"/>
            <a:chExt cx="279360" cy="216000"/>
          </a:xfrm>
        </p:grpSpPr>
        <p:sp>
          <p:nvSpPr>
            <p:cNvPr id="938" name=""/>
            <p:cNvSpPr/>
            <p:nvPr/>
          </p:nvSpPr>
          <p:spPr>
            <a:xfrm>
              <a:off x="6235560" y="3375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6334200" y="326376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419720" y="4114800"/>
            <a:ext cx="368280" cy="216000"/>
            <a:chOff x="4419720" y="4114800"/>
            <a:chExt cx="368280" cy="216000"/>
          </a:xfrm>
        </p:grpSpPr>
        <p:sp>
          <p:nvSpPr>
            <p:cNvPr id="941" name=""/>
            <p:cNvSpPr/>
            <p:nvPr/>
          </p:nvSpPr>
          <p:spPr>
            <a:xfrm>
              <a:off x="4419720" y="41148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48320" y="422928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4788000" y="3873600"/>
            <a:ext cx="1460520" cy="10666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HP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OfficeDesk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Fax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235560" y="4711680"/>
            <a:ext cx="279360" cy="216000"/>
            <a:chOff x="6235560" y="4711680"/>
            <a:chExt cx="279360" cy="216000"/>
          </a:xfrm>
        </p:grpSpPr>
        <p:sp>
          <p:nvSpPr>
            <p:cNvPr id="945" name=""/>
            <p:cNvSpPr/>
            <p:nvPr/>
          </p:nvSpPr>
          <p:spPr>
            <a:xfrm>
              <a:off x="6235560" y="482292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334200" y="471168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2286000" y="2120760"/>
            <a:ext cx="2133720" cy="7621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467480" y="4025880"/>
            <a:ext cx="1600200" cy="609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553080" y="3416400"/>
            <a:ext cx="609840" cy="10033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6553080" y="4495680"/>
            <a:ext cx="533520" cy="2923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200400" y="1600200"/>
            <a:ext cx="2057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 Narrow"/>
              </a:rPr>
              <a:t>type=bub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 Narrow"/>
              </a:rPr>
              <a:t>dpi=72,150,300,600,1200,24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 Narrow"/>
              </a:rPr>
              <a:t>color=167772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000000"/>
                </a:solidFill>
                <a:latin typeface="Arial Narrow"/>
              </a:rPr>
              <a:t>location=1st flo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200400" y="3021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 Narrow"/>
              </a:rPr>
              <a:t>type=la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 Narrow"/>
              </a:rPr>
              <a:t>dpi=72,150,300,600,1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000000"/>
                </a:solidFill>
                <a:latin typeface="Arial Narrow"/>
              </a:rPr>
              <a:t>location=1st flo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200400" y="41306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 Narrow"/>
              </a:rPr>
              <a:t>type=la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 Narrow"/>
              </a:rPr>
              <a:t>dpi=72,150,300,600,1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 Narrow"/>
              </a:rPr>
              <a:t>location=4th flo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286000" y="3111480"/>
            <a:ext cx="4876920" cy="2755800"/>
          </a:xfrm>
          <a:custGeom>
            <a:avLst/>
            <a:gdLst/>
            <a:ahLst/>
            <a:rect l="l" t="t" r="r" b="b"/>
            <a:pathLst>
              <a:path w="3168" h="1736">
                <a:moveTo>
                  <a:pt x="0" y="0"/>
                </a:moveTo>
                <a:cubicBezTo>
                  <a:pt x="52" y="32"/>
                  <a:pt x="104" y="64"/>
                  <a:pt x="144" y="144"/>
                </a:cubicBezTo>
                <a:cubicBezTo>
                  <a:pt x="184" y="224"/>
                  <a:pt x="224" y="296"/>
                  <a:pt x="240" y="480"/>
                </a:cubicBezTo>
                <a:cubicBezTo>
                  <a:pt x="256" y="664"/>
                  <a:pt x="208" y="1064"/>
                  <a:pt x="240" y="1248"/>
                </a:cubicBezTo>
                <a:cubicBezTo>
                  <a:pt x="272" y="1432"/>
                  <a:pt x="184" y="1520"/>
                  <a:pt x="432" y="1584"/>
                </a:cubicBezTo>
                <a:cubicBezTo>
                  <a:pt x="680" y="1648"/>
                  <a:pt x="1272" y="1736"/>
                  <a:pt x="1728" y="1632"/>
                </a:cubicBezTo>
                <a:cubicBezTo>
                  <a:pt x="2184" y="1528"/>
                  <a:pt x="2676" y="1244"/>
                  <a:pt x="3168" y="960"/>
                </a:cubicBezTo>
              </a:path>
            </a:pathLst>
          </a:custGeom>
          <a:noFill/>
          <a:ln w="28440">
            <a:solidFill>
              <a:srgbClr val="33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4419720" y="4584600"/>
            <a:ext cx="368280" cy="216000"/>
            <a:chOff x="4419720" y="4584600"/>
            <a:chExt cx="368280" cy="216000"/>
          </a:xfrm>
        </p:grpSpPr>
        <p:sp>
          <p:nvSpPr>
            <p:cNvPr id="956" name=""/>
            <p:cNvSpPr/>
            <p:nvPr/>
          </p:nvSpPr>
          <p:spPr>
            <a:xfrm>
              <a:off x="4419720" y="45846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48320" y="469908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7162560" y="5348160"/>
            <a:ext cx="336960" cy="214200"/>
            <a:chOff x="7162560" y="5348160"/>
            <a:chExt cx="336960" cy="214200"/>
          </a:xfrm>
        </p:grpSpPr>
        <p:sp>
          <p:nvSpPr>
            <p:cNvPr id="959" name=""/>
            <p:cNvSpPr/>
            <p:nvPr/>
          </p:nvSpPr>
          <p:spPr>
            <a:xfrm>
              <a:off x="7290000" y="545292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7162200" y="534816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7467480" y="4952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Fax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6553080" y="4508280"/>
            <a:ext cx="533520" cy="2919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553080" y="4863960"/>
            <a:ext cx="609840" cy="5461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952880" y="5715000"/>
            <a:ext cx="251460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9467"/>
              <a:gd name="adj5" fmla="val -283333"/>
              <a:gd name="adj6" fmla="val -16162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 Narrow"/>
              </a:rPr>
              <a:t>org.device.fax.</a:t>
            </a:r>
            <a:r>
              <a:rPr b="1" i="1" lang="fr-FR" sz="1000" spc="-1" strike="noStrike">
                <a:solidFill>
                  <a:srgbClr val="000000"/>
                </a:solidFill>
                <a:latin typeface="Arial Narrow"/>
              </a:rPr>
              <a:t>Fax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9D4-D268-4EA1-8CE5-6F4F0DA416E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4432320" y="1231920"/>
            <a:ext cx="368280" cy="216000"/>
            <a:chOff x="4432320" y="1231920"/>
            <a:chExt cx="368280" cy="216000"/>
          </a:xfrm>
        </p:grpSpPr>
        <p:sp>
          <p:nvSpPr>
            <p:cNvPr id="966" name=""/>
            <p:cNvSpPr/>
            <p:nvPr/>
          </p:nvSpPr>
          <p:spPr>
            <a:xfrm>
              <a:off x="4432320" y="1231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60920" y="134640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17324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Exemple de manifest (i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553080" y="1981080"/>
            <a:ext cx="685800" cy="243864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2286000" y="1371240"/>
            <a:ext cx="2133720" cy="7491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7162560" y="4497480"/>
            <a:ext cx="336960" cy="214200"/>
            <a:chOff x="7162560" y="4497480"/>
            <a:chExt cx="336960" cy="214200"/>
          </a:xfrm>
        </p:grpSpPr>
        <p:sp>
          <p:nvSpPr>
            <p:cNvPr id="972" name=""/>
            <p:cNvSpPr/>
            <p:nvPr/>
          </p:nvSpPr>
          <p:spPr>
            <a:xfrm>
              <a:off x="7290000" y="460224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7162200" y="449748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981080" y="2044440"/>
            <a:ext cx="379440" cy="215640"/>
            <a:chOff x="1981080" y="2044440"/>
            <a:chExt cx="379440" cy="215640"/>
          </a:xfrm>
        </p:grpSpPr>
        <p:sp>
          <p:nvSpPr>
            <p:cNvPr id="975" name=""/>
            <p:cNvSpPr/>
            <p:nvPr/>
          </p:nvSpPr>
          <p:spPr>
            <a:xfrm>
              <a:off x="1981080" y="214776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16200000">
              <a:off x="2144520" y="2044080"/>
              <a:ext cx="21564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4800600" y="838080"/>
            <a:ext cx="1460520" cy="10670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HP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Deskjet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981080" y="3048120"/>
            <a:ext cx="279360" cy="215640"/>
            <a:chOff x="1981080" y="3048120"/>
            <a:chExt cx="279360" cy="215640"/>
          </a:xfrm>
        </p:grpSpPr>
        <p:sp>
          <p:nvSpPr>
            <p:cNvPr id="979" name=""/>
            <p:cNvSpPr/>
            <p:nvPr/>
          </p:nvSpPr>
          <p:spPr>
            <a:xfrm>
              <a:off x="1981080" y="3159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079720" y="3048120"/>
              <a:ext cx="180720" cy="2156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533520" y="1892160"/>
            <a:ext cx="1447560" cy="152424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524240"/>
              <a:gd name="textAreaBottom" fmla="*/ 1453680 h 1524240"/>
            </a:gdLst>
            <a:ahLst/>
            <a:rect l="textAreaLeft" t="textAreaTop" r="textAreaRight" b="textAreaBottom"/>
            <a:pathLst>
              <a:path w="21600" h="22744">
                <a:moveTo>
                  <a:pt x="3600" y="0"/>
                </a:moveTo>
                <a:arcTo wR="3600" hR="3600" stAng="16200000" swAng="-5400000"/>
                <a:lnTo>
                  <a:pt x="0" y="19144"/>
                </a:lnTo>
                <a:arcTo wR="3600" hR="3600" stAng="10800000" swAng="-5400000"/>
                <a:lnTo>
                  <a:pt x="18000" y="22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Text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 Narrow"/>
              </a:rPr>
              <a:t>org.device.print.</a:t>
            </a:r>
            <a:r>
              <a:rPr b="1" i="1" lang="fr-FR" sz="1000" spc="-1" strike="noStrike">
                <a:solidFill>
                  <a:srgbClr val="000000"/>
                </a:solidFill>
                <a:latin typeface="Arial Narrow"/>
              </a:rPr>
              <a:t>Print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6248520" y="1676520"/>
            <a:ext cx="279360" cy="215640"/>
            <a:chOff x="6248520" y="1676520"/>
            <a:chExt cx="279360" cy="215640"/>
          </a:xfrm>
        </p:grpSpPr>
        <p:sp>
          <p:nvSpPr>
            <p:cNvPr id="984" name=""/>
            <p:cNvSpPr/>
            <p:nvPr/>
          </p:nvSpPr>
          <p:spPr>
            <a:xfrm>
              <a:off x="6248520" y="17874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6347160" y="1676520"/>
              <a:ext cx="180720" cy="2156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4419720" y="2895480"/>
            <a:ext cx="368280" cy="216000"/>
            <a:chOff x="4419720" y="2895480"/>
            <a:chExt cx="368280" cy="216000"/>
          </a:xfrm>
        </p:grpSpPr>
        <p:sp>
          <p:nvSpPr>
            <p:cNvPr id="987" name=""/>
            <p:cNvSpPr/>
            <p:nvPr/>
          </p:nvSpPr>
          <p:spPr>
            <a:xfrm>
              <a:off x="4419720" y="289548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48320" y="300996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4788000" y="2502000"/>
            <a:ext cx="1460520" cy="10666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Lexmark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Laser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235560" y="3340080"/>
            <a:ext cx="279360" cy="216000"/>
            <a:chOff x="6235560" y="3340080"/>
            <a:chExt cx="279360" cy="216000"/>
          </a:xfrm>
        </p:grpSpPr>
        <p:sp>
          <p:nvSpPr>
            <p:cNvPr id="991" name=""/>
            <p:cNvSpPr/>
            <p:nvPr/>
          </p:nvSpPr>
          <p:spPr>
            <a:xfrm>
              <a:off x="6235560" y="345132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6334200" y="334008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419720" y="4191120"/>
            <a:ext cx="368280" cy="215640"/>
            <a:chOff x="4419720" y="4191120"/>
            <a:chExt cx="368280" cy="215640"/>
          </a:xfrm>
        </p:grpSpPr>
        <p:sp>
          <p:nvSpPr>
            <p:cNvPr id="994" name=""/>
            <p:cNvSpPr/>
            <p:nvPr/>
          </p:nvSpPr>
          <p:spPr>
            <a:xfrm>
              <a:off x="4419720" y="4191120"/>
              <a:ext cx="216000" cy="2156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48320" y="430524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4788000" y="3949560"/>
            <a:ext cx="1460520" cy="10670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HP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OfficeDesk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Fax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235560" y="4788000"/>
            <a:ext cx="279360" cy="215640"/>
            <a:chOff x="6235560" y="4788000"/>
            <a:chExt cx="279360" cy="215640"/>
          </a:xfrm>
        </p:grpSpPr>
        <p:sp>
          <p:nvSpPr>
            <p:cNvPr id="998" name=""/>
            <p:cNvSpPr/>
            <p:nvPr/>
          </p:nvSpPr>
          <p:spPr>
            <a:xfrm>
              <a:off x="6235560" y="489888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6334200" y="4788000"/>
              <a:ext cx="180720" cy="2156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2286000" y="2197080"/>
            <a:ext cx="2133720" cy="7621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467480" y="4102200"/>
            <a:ext cx="1600200" cy="609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553080" y="3492360"/>
            <a:ext cx="609840" cy="10033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553080" y="4571640"/>
            <a:ext cx="533520" cy="2919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286000" y="3187800"/>
            <a:ext cx="4876920" cy="2755800"/>
          </a:xfrm>
          <a:custGeom>
            <a:avLst/>
            <a:gdLst/>
            <a:ahLst/>
            <a:rect l="l" t="t" r="r" b="b"/>
            <a:pathLst>
              <a:path w="3168" h="1736">
                <a:moveTo>
                  <a:pt x="0" y="0"/>
                </a:moveTo>
                <a:cubicBezTo>
                  <a:pt x="52" y="32"/>
                  <a:pt x="104" y="64"/>
                  <a:pt x="144" y="144"/>
                </a:cubicBezTo>
                <a:cubicBezTo>
                  <a:pt x="184" y="224"/>
                  <a:pt x="224" y="296"/>
                  <a:pt x="240" y="480"/>
                </a:cubicBezTo>
                <a:cubicBezTo>
                  <a:pt x="256" y="664"/>
                  <a:pt x="208" y="1064"/>
                  <a:pt x="240" y="1248"/>
                </a:cubicBezTo>
                <a:cubicBezTo>
                  <a:pt x="272" y="1432"/>
                  <a:pt x="184" y="1520"/>
                  <a:pt x="432" y="1584"/>
                </a:cubicBezTo>
                <a:cubicBezTo>
                  <a:pt x="680" y="1648"/>
                  <a:pt x="1272" y="1736"/>
                  <a:pt x="1728" y="1632"/>
                </a:cubicBezTo>
                <a:cubicBezTo>
                  <a:pt x="2184" y="1528"/>
                  <a:pt x="2676" y="1244"/>
                  <a:pt x="3168" y="960"/>
                </a:cubicBezTo>
              </a:path>
            </a:pathLst>
          </a:custGeom>
          <a:noFill/>
          <a:ln w="28440">
            <a:solidFill>
              <a:srgbClr val="33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4419720" y="4660920"/>
            <a:ext cx="368280" cy="216000"/>
            <a:chOff x="4419720" y="4660920"/>
            <a:chExt cx="368280" cy="216000"/>
          </a:xfrm>
        </p:grpSpPr>
        <p:sp>
          <p:nvSpPr>
            <p:cNvPr id="1006" name=""/>
            <p:cNvSpPr/>
            <p:nvPr/>
          </p:nvSpPr>
          <p:spPr>
            <a:xfrm>
              <a:off x="4419720" y="4660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648320" y="477540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7162560" y="5424480"/>
            <a:ext cx="336960" cy="214200"/>
            <a:chOff x="7162560" y="5424480"/>
            <a:chExt cx="336960" cy="214200"/>
          </a:xfrm>
        </p:grpSpPr>
        <p:sp>
          <p:nvSpPr>
            <p:cNvPr id="1009" name=""/>
            <p:cNvSpPr/>
            <p:nvPr/>
          </p:nvSpPr>
          <p:spPr>
            <a:xfrm>
              <a:off x="7290000" y="552924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7162200" y="542448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7467480" y="5029200"/>
            <a:ext cx="1600200" cy="609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Fax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6553080" y="4584600"/>
            <a:ext cx="533520" cy="2923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553080" y="4940280"/>
            <a:ext cx="609840" cy="5461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952880" y="5791320"/>
            <a:ext cx="251460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9467"/>
              <a:gd name="adj5" fmla="val -283333"/>
              <a:gd name="adj6" fmla="val -16162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 Narrow"/>
              </a:rPr>
              <a:t>org.device.fax.</a:t>
            </a:r>
            <a:r>
              <a:rPr b="1" i="1" lang="fr-FR" sz="1000" spc="-1" strike="noStrike">
                <a:solidFill>
                  <a:srgbClr val="000000"/>
                </a:solidFill>
                <a:latin typeface="Arial Narrow"/>
              </a:rPr>
              <a:t>Fax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495680" y="1828800"/>
            <a:ext cx="350532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05842"/>
              <a:gd name="adj5" fmla="val 270833"/>
              <a:gd name="adj6" fmla="val 109782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Export-Package: </a:t>
            </a:r>
            <a:r>
              <a:rPr b="1" lang="fr-FR" sz="1200" spc="-1" strike="noStrike">
                <a:solidFill>
                  <a:srgbClr val="3366cc"/>
                </a:solidFill>
                <a:latin typeface="Arial Narrow"/>
              </a:rPr>
              <a:t>org.device.print;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Bundle-Name: </a:t>
            </a:r>
            <a:r>
              <a:rPr b="1" lang="fr-FR" sz="1200" spc="-1" strike="noStrike">
                <a:solidFill>
                  <a:srgbClr val="ff3300"/>
                </a:solidFill>
                <a:latin typeface="Arial Narrow"/>
              </a:rPr>
              <a:t>Print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Bundle-Version: </a:t>
            </a:r>
            <a:r>
              <a:rPr b="1" lang="fr-FR" sz="1200" spc="-1" strike="noStrike">
                <a:solidFill>
                  <a:srgbClr val="ff3300"/>
                </a:solidFill>
                <a:latin typeface="Arial Narrow"/>
              </a:rPr>
              <a:t>2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191120" y="3048120"/>
            <a:ext cx="350496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04620"/>
              <a:gd name="adj5" fmla="val 244444"/>
              <a:gd name="adj6" fmla="val 107245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Export-Package: </a:t>
            </a:r>
            <a:r>
              <a:rPr b="1" lang="fr-FR" sz="1200" spc="-1" strike="noStrike">
                <a:solidFill>
                  <a:srgbClr val="3366cc"/>
                </a:solidFill>
                <a:latin typeface="Arial Narrow"/>
              </a:rPr>
              <a:t>org.device.fax;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Bundle-Name: </a:t>
            </a:r>
            <a:r>
              <a:rPr b="1" lang="fr-FR" sz="1200" spc="-1" strike="noStrike">
                <a:solidFill>
                  <a:srgbClr val="ff3300"/>
                </a:solidFill>
                <a:latin typeface="Arial Narrow"/>
              </a:rPr>
              <a:t>Fax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Bundle-Version: </a:t>
            </a:r>
            <a:r>
              <a:rPr b="1" lang="fr-FR" sz="1200" spc="-1" strike="noStrike">
                <a:solidFill>
                  <a:srgbClr val="ff3300"/>
                </a:solidFill>
                <a:latin typeface="Arial Narrow"/>
              </a:rPr>
              <a:t>3.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8153280" y="76320"/>
            <a:ext cx="584280" cy="609480"/>
            <a:chOff x="8153280" y="76320"/>
            <a:chExt cx="584280" cy="609480"/>
          </a:xfrm>
        </p:grpSpPr>
        <p:sp>
          <p:nvSpPr>
            <p:cNvPr id="1018" name=""/>
            <p:cNvSpPr/>
            <p:nvPr/>
          </p:nvSpPr>
          <p:spPr>
            <a:xfrm>
              <a:off x="8153280" y="76320"/>
              <a:ext cx="533520" cy="609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229600" y="1522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29600" y="2286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229600" y="3049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229600" y="380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381880" y="457200"/>
              <a:ext cx="3556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Verdana"/>
                </a:rPr>
                <a:t>.m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1CB-6235-4080-8AC7-1C692354B9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"/>
          <p:cNvGrpSpPr/>
          <p:nvPr/>
        </p:nvGrpSpPr>
        <p:grpSpPr>
          <a:xfrm>
            <a:off x="4432320" y="1231920"/>
            <a:ext cx="368280" cy="216000"/>
            <a:chOff x="4432320" y="1231920"/>
            <a:chExt cx="368280" cy="216000"/>
          </a:xfrm>
        </p:grpSpPr>
        <p:sp>
          <p:nvSpPr>
            <p:cNvPr id="1025" name=""/>
            <p:cNvSpPr/>
            <p:nvPr/>
          </p:nvSpPr>
          <p:spPr>
            <a:xfrm>
              <a:off x="4432320" y="1231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60920" y="134640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7324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Exemple de manifest (ii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553080" y="1981080"/>
            <a:ext cx="685800" cy="243864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2286000" y="1371240"/>
            <a:ext cx="2133720" cy="7491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7162560" y="4497480"/>
            <a:ext cx="336960" cy="214200"/>
            <a:chOff x="7162560" y="4497480"/>
            <a:chExt cx="336960" cy="214200"/>
          </a:xfrm>
        </p:grpSpPr>
        <p:sp>
          <p:nvSpPr>
            <p:cNvPr id="1031" name=""/>
            <p:cNvSpPr/>
            <p:nvPr/>
          </p:nvSpPr>
          <p:spPr>
            <a:xfrm>
              <a:off x="7290000" y="460224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7162200" y="449748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1981080" y="2044440"/>
            <a:ext cx="379440" cy="215640"/>
            <a:chOff x="1981080" y="2044440"/>
            <a:chExt cx="379440" cy="215640"/>
          </a:xfrm>
        </p:grpSpPr>
        <p:sp>
          <p:nvSpPr>
            <p:cNvPr id="1034" name=""/>
            <p:cNvSpPr/>
            <p:nvPr/>
          </p:nvSpPr>
          <p:spPr>
            <a:xfrm>
              <a:off x="1981080" y="214776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16200000">
              <a:off x="2144520" y="2044080"/>
              <a:ext cx="21564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4800600" y="838080"/>
            <a:ext cx="1460520" cy="10670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HP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Deskjet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1981080" y="3048120"/>
            <a:ext cx="279360" cy="215640"/>
            <a:chOff x="1981080" y="3048120"/>
            <a:chExt cx="279360" cy="215640"/>
          </a:xfrm>
        </p:grpSpPr>
        <p:sp>
          <p:nvSpPr>
            <p:cNvPr id="1038" name=""/>
            <p:cNvSpPr/>
            <p:nvPr/>
          </p:nvSpPr>
          <p:spPr>
            <a:xfrm>
              <a:off x="1981080" y="3159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2079720" y="3048120"/>
              <a:ext cx="180720" cy="2156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533520" y="1892160"/>
            <a:ext cx="1447560" cy="152424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524240"/>
              <a:gd name="textAreaBottom" fmla="*/ 1453680 h 1524240"/>
            </a:gdLst>
            <a:ahLst/>
            <a:rect l="textAreaLeft" t="textAreaTop" r="textAreaRight" b="textAreaBottom"/>
            <a:pathLst>
              <a:path w="21600" h="22744">
                <a:moveTo>
                  <a:pt x="3600" y="0"/>
                </a:moveTo>
                <a:arcTo wR="3600" hR="3600" stAng="16200000" swAng="-5400000"/>
                <a:lnTo>
                  <a:pt x="0" y="19144"/>
                </a:lnTo>
                <a:arcTo wR="3600" hR="3600" stAng="10800000" swAng="-5400000"/>
                <a:lnTo>
                  <a:pt x="18000" y="22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Text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81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 Narrow"/>
              </a:rPr>
              <a:t>org.device.print.</a:t>
            </a:r>
            <a:r>
              <a:rPr b="1" i="1" lang="fr-FR" sz="1000" spc="-1" strike="noStrike">
                <a:solidFill>
                  <a:srgbClr val="000000"/>
                </a:solidFill>
                <a:latin typeface="Arial Narrow"/>
              </a:rPr>
              <a:t>Print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6248520" y="1676520"/>
            <a:ext cx="279360" cy="215640"/>
            <a:chOff x="6248520" y="1676520"/>
            <a:chExt cx="279360" cy="215640"/>
          </a:xfrm>
        </p:grpSpPr>
        <p:sp>
          <p:nvSpPr>
            <p:cNvPr id="1043" name=""/>
            <p:cNvSpPr/>
            <p:nvPr/>
          </p:nvSpPr>
          <p:spPr>
            <a:xfrm>
              <a:off x="6248520" y="17874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6347160" y="1676520"/>
              <a:ext cx="180720" cy="2156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4419720" y="2895480"/>
            <a:ext cx="368280" cy="216000"/>
            <a:chOff x="4419720" y="2895480"/>
            <a:chExt cx="368280" cy="216000"/>
          </a:xfrm>
        </p:grpSpPr>
        <p:sp>
          <p:nvSpPr>
            <p:cNvPr id="1046" name=""/>
            <p:cNvSpPr/>
            <p:nvPr/>
          </p:nvSpPr>
          <p:spPr>
            <a:xfrm>
              <a:off x="4419720" y="289548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8320" y="300996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4788000" y="2502000"/>
            <a:ext cx="1460520" cy="10666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Lexmark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Laser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6235560" y="3340080"/>
            <a:ext cx="279360" cy="216000"/>
            <a:chOff x="6235560" y="3340080"/>
            <a:chExt cx="279360" cy="216000"/>
          </a:xfrm>
        </p:grpSpPr>
        <p:sp>
          <p:nvSpPr>
            <p:cNvPr id="1050" name=""/>
            <p:cNvSpPr/>
            <p:nvPr/>
          </p:nvSpPr>
          <p:spPr>
            <a:xfrm>
              <a:off x="6235560" y="345132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6334200" y="334008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4419720" y="4191120"/>
            <a:ext cx="368280" cy="215640"/>
            <a:chOff x="4419720" y="4191120"/>
            <a:chExt cx="368280" cy="215640"/>
          </a:xfrm>
        </p:grpSpPr>
        <p:sp>
          <p:nvSpPr>
            <p:cNvPr id="1053" name=""/>
            <p:cNvSpPr/>
            <p:nvPr/>
          </p:nvSpPr>
          <p:spPr>
            <a:xfrm>
              <a:off x="4419720" y="4191120"/>
              <a:ext cx="216000" cy="2156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8320" y="430524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788000" y="3949560"/>
            <a:ext cx="1460520" cy="10670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HP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OfficeDesk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Fax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6235560" y="4788000"/>
            <a:ext cx="279360" cy="215640"/>
            <a:chOff x="6235560" y="4788000"/>
            <a:chExt cx="279360" cy="215640"/>
          </a:xfrm>
        </p:grpSpPr>
        <p:sp>
          <p:nvSpPr>
            <p:cNvPr id="1057" name=""/>
            <p:cNvSpPr/>
            <p:nvPr/>
          </p:nvSpPr>
          <p:spPr>
            <a:xfrm>
              <a:off x="6235560" y="489888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6334200" y="4788000"/>
              <a:ext cx="180720" cy="2156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2286000" y="2197080"/>
            <a:ext cx="2133720" cy="7621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467480" y="4102200"/>
            <a:ext cx="1600200" cy="609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553080" y="3492360"/>
            <a:ext cx="609840" cy="10033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6553080" y="4571640"/>
            <a:ext cx="533520" cy="2919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286000" y="3187800"/>
            <a:ext cx="4876920" cy="2755800"/>
          </a:xfrm>
          <a:custGeom>
            <a:avLst/>
            <a:gdLst/>
            <a:ahLst/>
            <a:rect l="l" t="t" r="r" b="b"/>
            <a:pathLst>
              <a:path w="3168" h="1736">
                <a:moveTo>
                  <a:pt x="0" y="0"/>
                </a:moveTo>
                <a:cubicBezTo>
                  <a:pt x="52" y="32"/>
                  <a:pt x="104" y="64"/>
                  <a:pt x="144" y="144"/>
                </a:cubicBezTo>
                <a:cubicBezTo>
                  <a:pt x="184" y="224"/>
                  <a:pt x="224" y="296"/>
                  <a:pt x="240" y="480"/>
                </a:cubicBezTo>
                <a:cubicBezTo>
                  <a:pt x="256" y="664"/>
                  <a:pt x="208" y="1064"/>
                  <a:pt x="240" y="1248"/>
                </a:cubicBezTo>
                <a:cubicBezTo>
                  <a:pt x="272" y="1432"/>
                  <a:pt x="184" y="1520"/>
                  <a:pt x="432" y="1584"/>
                </a:cubicBezTo>
                <a:cubicBezTo>
                  <a:pt x="680" y="1648"/>
                  <a:pt x="1272" y="1736"/>
                  <a:pt x="1728" y="1632"/>
                </a:cubicBezTo>
                <a:cubicBezTo>
                  <a:pt x="2184" y="1528"/>
                  <a:pt x="2676" y="1244"/>
                  <a:pt x="3168" y="960"/>
                </a:cubicBezTo>
              </a:path>
            </a:pathLst>
          </a:custGeom>
          <a:noFill/>
          <a:ln w="28440">
            <a:solidFill>
              <a:srgbClr val="33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4419720" y="4660920"/>
            <a:ext cx="368280" cy="216000"/>
            <a:chOff x="4419720" y="4660920"/>
            <a:chExt cx="368280" cy="216000"/>
          </a:xfrm>
        </p:grpSpPr>
        <p:sp>
          <p:nvSpPr>
            <p:cNvPr id="1065" name=""/>
            <p:cNvSpPr/>
            <p:nvPr/>
          </p:nvSpPr>
          <p:spPr>
            <a:xfrm>
              <a:off x="4419720" y="4660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8320" y="477540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7162560" y="5424480"/>
            <a:ext cx="336960" cy="214200"/>
            <a:chOff x="7162560" y="5424480"/>
            <a:chExt cx="336960" cy="214200"/>
          </a:xfrm>
        </p:grpSpPr>
        <p:sp>
          <p:nvSpPr>
            <p:cNvPr id="1068" name=""/>
            <p:cNvSpPr/>
            <p:nvPr/>
          </p:nvSpPr>
          <p:spPr>
            <a:xfrm>
              <a:off x="7290000" y="552924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7162200" y="542448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7467480" y="5029200"/>
            <a:ext cx="1600200" cy="609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Fax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6553080" y="4584600"/>
            <a:ext cx="533520" cy="2923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3080" y="4940280"/>
            <a:ext cx="609840" cy="5461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952880" y="5791320"/>
            <a:ext cx="251460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9467"/>
              <a:gd name="adj5" fmla="val -283333"/>
              <a:gd name="adj6" fmla="val -16162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 Narrow"/>
              </a:rPr>
              <a:t>org.device.fax.</a:t>
            </a:r>
            <a:r>
              <a:rPr b="1" i="1" lang="fr-FR" sz="1000" spc="-1" strike="noStrike">
                <a:solidFill>
                  <a:srgbClr val="000000"/>
                </a:solidFill>
                <a:latin typeface="Arial Narrow"/>
              </a:rPr>
              <a:t>Fax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638680" y="1295280"/>
            <a:ext cx="3505320" cy="2667240"/>
          </a:xfrm>
          <a:prstGeom prst="borderCallout2">
            <a:avLst>
              <a:gd name="adj1" fmla="val 18750"/>
              <a:gd name="adj2" fmla="val -8333"/>
              <a:gd name="adj3" fmla="val 4287"/>
              <a:gd name="adj4" fmla="val -10689"/>
              <a:gd name="adj5" fmla="val 117620"/>
              <a:gd name="adj6" fmla="val -19925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Import-Package:</a:t>
            </a:r>
            <a:br>
              <a:rPr sz="1200"/>
            </a:br>
            <a:r>
              <a:rPr b="1" lang="fr-FR" sz="1200" spc="-1" strike="noStrike">
                <a:solidFill>
                  <a:srgbClr val="3366cc"/>
                </a:solidFill>
                <a:latin typeface="Arial Narrow"/>
              </a:rPr>
              <a:t>org.device.print; 1.1,</a:t>
            </a:r>
            <a:br>
              <a:rPr sz="1200"/>
            </a:br>
            <a:r>
              <a:rPr b="1" lang="fr-FR" sz="1200" spc="-1" strike="noStrike">
                <a:solidFill>
                  <a:srgbClr val="3366cc"/>
                </a:solidFill>
                <a:latin typeface="Arial Narrow"/>
              </a:rPr>
              <a:t>org.device.fax;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 Narrow"/>
              </a:rPr>
              <a:t>Export-Service: </a:t>
            </a:r>
            <a:r>
              <a:rPr b="1" i="1" lang="fr-FR" sz="1200" spc="-1" strike="noStrike">
                <a:solidFill>
                  <a:srgbClr val="33cc33"/>
                </a:solidFill>
                <a:latin typeface="Arial Narrow"/>
              </a:rPr>
              <a:t>org.device.print.PrintSer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33cc33"/>
                </a:solidFill>
                <a:latin typeface="Arial Narrow"/>
              </a:rPr>
              <a:t>org.device.fax.Fax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Bundle-Activator: </a:t>
            </a:r>
            <a:r>
              <a:rPr b="1" lang="fr-FR" sz="1200" spc="-1" strike="noStrike">
                <a:solidFill>
                  <a:srgbClr val="ff3300"/>
                </a:solidFill>
                <a:latin typeface="Arial Narrow"/>
              </a:rPr>
              <a:t>com.hp.printer.officedesk.impl.Activ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Bundle-Name: </a:t>
            </a:r>
            <a:r>
              <a:rPr b="1" lang="fr-FR" sz="1200" spc="-1" strike="noStrike">
                <a:solidFill>
                  <a:srgbClr val="ff3300"/>
                </a:solidFill>
                <a:latin typeface="Arial Narrow"/>
              </a:rPr>
              <a:t>HP OfficeDesk Fax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85800" y="762120"/>
            <a:ext cx="3352680" cy="2057400"/>
          </a:xfrm>
          <a:prstGeom prst="borderCallout2">
            <a:avLst>
              <a:gd name="adj1" fmla="val 18750"/>
              <a:gd name="adj2" fmla="val -8333"/>
              <a:gd name="adj3" fmla="val 5555"/>
              <a:gd name="adj4" fmla="val 114537"/>
              <a:gd name="adj5" fmla="val 21217"/>
              <a:gd name="adj6" fmla="val 127791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Import-Package:</a:t>
            </a:r>
            <a:br>
              <a:rPr sz="1200"/>
            </a:br>
            <a:r>
              <a:rPr b="1" lang="fr-FR" sz="1200" spc="-1" strike="noStrike">
                <a:solidFill>
                  <a:srgbClr val="3366cc"/>
                </a:solidFill>
                <a:latin typeface="Arial Narrow"/>
              </a:rPr>
              <a:t>org.device.print; 1.0,</a:t>
            </a:r>
            <a:br>
              <a:rPr sz="1200"/>
            </a:br>
            <a:r>
              <a:rPr b="1" i="1" lang="fr-FR" sz="1200" spc="-1" strike="noStrike">
                <a:solidFill>
                  <a:srgbClr val="000000"/>
                </a:solidFill>
                <a:latin typeface="Arial Narrow"/>
              </a:rPr>
              <a:t>Export-Service: </a:t>
            </a:r>
            <a:r>
              <a:rPr b="1" i="1" lang="fr-FR" sz="1200" spc="-1" strike="noStrike">
                <a:solidFill>
                  <a:srgbClr val="33cc33"/>
                </a:solidFill>
                <a:latin typeface="Arial Narrow"/>
              </a:rPr>
              <a:t>org.device.print.PrintSer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Bundle-Activator: </a:t>
            </a:r>
            <a:r>
              <a:rPr b="1" lang="fr-FR" sz="1200" spc="-1" strike="noStrike">
                <a:solidFill>
                  <a:srgbClr val="ff3300"/>
                </a:solidFill>
                <a:latin typeface="Arial Narrow"/>
              </a:rPr>
              <a:t>com.hp.printer.deskjet.impl.Activ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Bundle-Name: </a:t>
            </a:r>
            <a:r>
              <a:rPr b="1" lang="fr-FR" sz="1200" spc="-1" strike="noStrike">
                <a:solidFill>
                  <a:srgbClr val="ff3300"/>
                </a:solidFill>
                <a:latin typeface="Arial Narrow"/>
              </a:rPr>
              <a:t>HP Deskjet 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8077320" y="152280"/>
            <a:ext cx="583560" cy="609480"/>
            <a:chOff x="8077320" y="152280"/>
            <a:chExt cx="583560" cy="609480"/>
          </a:xfrm>
        </p:grpSpPr>
        <p:sp>
          <p:nvSpPr>
            <p:cNvPr id="1077" name=""/>
            <p:cNvSpPr/>
            <p:nvPr/>
          </p:nvSpPr>
          <p:spPr>
            <a:xfrm>
              <a:off x="8077320" y="152280"/>
              <a:ext cx="533160" cy="609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153280" y="22824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153280" y="30456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153280" y="38088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153280" y="45684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305560" y="533160"/>
              <a:ext cx="3553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Verdana"/>
                </a:rPr>
                <a:t>.m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3D9-B945-4C52-9C10-529488B08D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lasse Activator du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ass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plémente les 2 méthodes start() et stop() de BundleActiv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 reçoivent une référence sur un contex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tart(BundleContext c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herche et obtient des services requis auprès du context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/ou positionne des listeners sur des évén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 les services fournis auprès du con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BundleContext c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senregistre les services four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lâche les servic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92120" indent="-349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pendant le FW fait ces opérations si stop() en oublie !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asse définie dans le manifest pour « démarrer » l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59F-FAB7-4BF1-8CC8-D877F41E1C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"/>
          <p:cNvGrpSpPr/>
          <p:nvPr/>
        </p:nvGrpSpPr>
        <p:grpSpPr>
          <a:xfrm>
            <a:off x="4432320" y="1308240"/>
            <a:ext cx="368280" cy="215640"/>
            <a:chOff x="4432320" y="1308240"/>
            <a:chExt cx="368280" cy="215640"/>
          </a:xfrm>
        </p:grpSpPr>
        <p:sp>
          <p:nvSpPr>
            <p:cNvPr id="1084" name=""/>
            <p:cNvSpPr/>
            <p:nvPr/>
          </p:nvSpPr>
          <p:spPr>
            <a:xfrm>
              <a:off x="4432320" y="1308240"/>
              <a:ext cx="216000" cy="2156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60920" y="142236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1732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Exemple de manifest (iii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553080" y="2057400"/>
            <a:ext cx="685800" cy="243828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2286000" y="1447560"/>
            <a:ext cx="2133720" cy="7491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7162560" y="4573440"/>
            <a:ext cx="336960" cy="214200"/>
            <a:chOff x="7162560" y="4573440"/>
            <a:chExt cx="336960" cy="214200"/>
          </a:xfrm>
        </p:grpSpPr>
        <p:sp>
          <p:nvSpPr>
            <p:cNvPr id="1090" name=""/>
            <p:cNvSpPr/>
            <p:nvPr/>
          </p:nvSpPr>
          <p:spPr>
            <a:xfrm>
              <a:off x="7290000" y="467820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7162200" y="457344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1981080" y="2120760"/>
            <a:ext cx="379440" cy="216000"/>
            <a:chOff x="1981080" y="2120760"/>
            <a:chExt cx="379440" cy="216000"/>
          </a:xfrm>
        </p:grpSpPr>
        <p:sp>
          <p:nvSpPr>
            <p:cNvPr id="1093" name=""/>
            <p:cNvSpPr/>
            <p:nvPr/>
          </p:nvSpPr>
          <p:spPr>
            <a:xfrm>
              <a:off x="1981080" y="222408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6200000">
              <a:off x="2144520" y="2120760"/>
              <a:ext cx="21600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4800600" y="914400"/>
            <a:ext cx="1460520" cy="10666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HP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Deskjet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81080" y="3124080"/>
            <a:ext cx="279360" cy="216000"/>
            <a:chOff x="1981080" y="3124080"/>
            <a:chExt cx="279360" cy="216000"/>
          </a:xfrm>
        </p:grpSpPr>
        <p:sp>
          <p:nvSpPr>
            <p:cNvPr id="1097" name=""/>
            <p:cNvSpPr/>
            <p:nvPr/>
          </p:nvSpPr>
          <p:spPr>
            <a:xfrm>
              <a:off x="1981080" y="323532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079720" y="312408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533520" y="1968480"/>
            <a:ext cx="1447560" cy="152388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523880"/>
              <a:gd name="textAreaBottom" fmla="*/ 1453320 h 1523880"/>
            </a:gdLst>
            <a:ahLst/>
            <a:rect l="textAreaLeft" t="textAreaTop" r="textAreaRight" b="textAreaBottom"/>
            <a:pathLst>
              <a:path w="21600" h="22739">
                <a:moveTo>
                  <a:pt x="3600" y="0"/>
                </a:moveTo>
                <a:arcTo wR="3600" hR="3600" stAng="16200000" swAng="-5400000"/>
                <a:lnTo>
                  <a:pt x="0" y="19139"/>
                </a:lnTo>
                <a:arcTo wR="3600" hR="3600" stAng="10800000" swAng="-5400000"/>
                <a:lnTo>
                  <a:pt x="18000" y="227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Text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981080" y="11430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 Narrow"/>
              </a:rPr>
              <a:t>org.device.print.</a:t>
            </a:r>
            <a:r>
              <a:rPr b="1" i="1" lang="fr-FR" sz="1000" spc="-1" strike="noStrike">
                <a:solidFill>
                  <a:srgbClr val="000000"/>
                </a:solidFill>
                <a:latin typeface="Arial Narrow"/>
              </a:rPr>
              <a:t>Print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6248520" y="1752480"/>
            <a:ext cx="279360" cy="216000"/>
            <a:chOff x="6248520" y="1752480"/>
            <a:chExt cx="279360" cy="216000"/>
          </a:xfrm>
        </p:grpSpPr>
        <p:sp>
          <p:nvSpPr>
            <p:cNvPr id="1102" name=""/>
            <p:cNvSpPr/>
            <p:nvPr/>
          </p:nvSpPr>
          <p:spPr>
            <a:xfrm>
              <a:off x="6248520" y="186372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347160" y="175248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4419720" y="2971800"/>
            <a:ext cx="368280" cy="216000"/>
            <a:chOff x="4419720" y="2971800"/>
            <a:chExt cx="368280" cy="216000"/>
          </a:xfrm>
        </p:grpSpPr>
        <p:sp>
          <p:nvSpPr>
            <p:cNvPr id="1105" name=""/>
            <p:cNvSpPr/>
            <p:nvPr/>
          </p:nvSpPr>
          <p:spPr>
            <a:xfrm>
              <a:off x="4419720" y="29718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8320" y="308628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4788000" y="2577960"/>
            <a:ext cx="1460520" cy="10670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Lexmark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Laser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6235560" y="3416400"/>
            <a:ext cx="279360" cy="215640"/>
            <a:chOff x="6235560" y="3416400"/>
            <a:chExt cx="279360" cy="215640"/>
          </a:xfrm>
        </p:grpSpPr>
        <p:sp>
          <p:nvSpPr>
            <p:cNvPr id="1109" name=""/>
            <p:cNvSpPr/>
            <p:nvPr/>
          </p:nvSpPr>
          <p:spPr>
            <a:xfrm>
              <a:off x="6235560" y="352728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6334200" y="3416400"/>
              <a:ext cx="180720" cy="2156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4419720" y="4267080"/>
            <a:ext cx="368280" cy="216000"/>
            <a:chOff x="4419720" y="4267080"/>
            <a:chExt cx="368280" cy="216000"/>
          </a:xfrm>
        </p:grpSpPr>
        <p:sp>
          <p:nvSpPr>
            <p:cNvPr id="1112" name=""/>
            <p:cNvSpPr/>
            <p:nvPr/>
          </p:nvSpPr>
          <p:spPr>
            <a:xfrm>
              <a:off x="4419720" y="4267080"/>
              <a:ext cx="216000" cy="2160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8320" y="438156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4788000" y="4025880"/>
            <a:ext cx="1460520" cy="10666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HP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OfficeDesk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FaxPr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6235560" y="4863960"/>
            <a:ext cx="279360" cy="216000"/>
            <a:chOff x="6235560" y="4863960"/>
            <a:chExt cx="279360" cy="216000"/>
          </a:xfrm>
        </p:grpSpPr>
        <p:sp>
          <p:nvSpPr>
            <p:cNvPr id="1116" name=""/>
            <p:cNvSpPr/>
            <p:nvPr/>
          </p:nvSpPr>
          <p:spPr>
            <a:xfrm>
              <a:off x="6235560" y="49752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34200" y="4863960"/>
              <a:ext cx="180720" cy="2160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2286000" y="2273400"/>
            <a:ext cx="2133720" cy="7617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467480" y="417816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int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553080" y="3568680"/>
            <a:ext cx="609840" cy="10033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553080" y="4647960"/>
            <a:ext cx="533520" cy="2919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286000" y="3263760"/>
            <a:ext cx="4876920" cy="2756160"/>
          </a:xfrm>
          <a:custGeom>
            <a:avLst/>
            <a:gdLst/>
            <a:ahLst/>
            <a:rect l="l" t="t" r="r" b="b"/>
            <a:pathLst>
              <a:path w="3168" h="1736">
                <a:moveTo>
                  <a:pt x="0" y="0"/>
                </a:moveTo>
                <a:cubicBezTo>
                  <a:pt x="52" y="32"/>
                  <a:pt x="104" y="64"/>
                  <a:pt x="144" y="144"/>
                </a:cubicBezTo>
                <a:cubicBezTo>
                  <a:pt x="184" y="224"/>
                  <a:pt x="224" y="296"/>
                  <a:pt x="240" y="480"/>
                </a:cubicBezTo>
                <a:cubicBezTo>
                  <a:pt x="256" y="664"/>
                  <a:pt x="208" y="1064"/>
                  <a:pt x="240" y="1248"/>
                </a:cubicBezTo>
                <a:cubicBezTo>
                  <a:pt x="272" y="1432"/>
                  <a:pt x="184" y="1520"/>
                  <a:pt x="432" y="1584"/>
                </a:cubicBezTo>
                <a:cubicBezTo>
                  <a:pt x="680" y="1648"/>
                  <a:pt x="1272" y="1736"/>
                  <a:pt x="1728" y="1632"/>
                </a:cubicBezTo>
                <a:cubicBezTo>
                  <a:pt x="2184" y="1528"/>
                  <a:pt x="2676" y="1244"/>
                  <a:pt x="3168" y="960"/>
                </a:cubicBezTo>
              </a:path>
            </a:pathLst>
          </a:custGeom>
          <a:noFill/>
          <a:ln w="28440">
            <a:solidFill>
              <a:srgbClr val="33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4419720" y="4737240"/>
            <a:ext cx="368280" cy="215640"/>
            <a:chOff x="4419720" y="4737240"/>
            <a:chExt cx="368280" cy="215640"/>
          </a:xfrm>
        </p:grpSpPr>
        <p:sp>
          <p:nvSpPr>
            <p:cNvPr id="1124" name=""/>
            <p:cNvSpPr/>
            <p:nvPr/>
          </p:nvSpPr>
          <p:spPr>
            <a:xfrm>
              <a:off x="4419720" y="4737240"/>
              <a:ext cx="216000" cy="2156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8320" y="485136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162560" y="5500800"/>
            <a:ext cx="336960" cy="214200"/>
            <a:chOff x="7162560" y="5500800"/>
            <a:chExt cx="336960" cy="214200"/>
          </a:xfrm>
        </p:grpSpPr>
        <p:sp>
          <p:nvSpPr>
            <p:cNvPr id="1127" name=""/>
            <p:cNvSpPr/>
            <p:nvPr/>
          </p:nvSpPr>
          <p:spPr>
            <a:xfrm>
              <a:off x="7290000" y="5605560"/>
              <a:ext cx="20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7162200" y="5500800"/>
              <a:ext cx="150840" cy="2142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7467480" y="5105520"/>
            <a:ext cx="1600200" cy="609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Fax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6553080" y="4660560"/>
            <a:ext cx="533520" cy="2919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553080" y="5016600"/>
            <a:ext cx="609840" cy="5461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952880" y="5867280"/>
            <a:ext cx="251460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9467"/>
              <a:gd name="adj5" fmla="val -283333"/>
              <a:gd name="adj6" fmla="val -16162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 Narrow"/>
              </a:rPr>
              <a:t>org.device.fax.</a:t>
            </a:r>
            <a:r>
              <a:rPr b="1" i="1" lang="fr-FR" sz="1000" spc="-1" strike="noStrike">
                <a:solidFill>
                  <a:srgbClr val="000000"/>
                </a:solidFill>
                <a:latin typeface="Arial Narrow"/>
              </a:rPr>
              <a:t>Fax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219320" y="3657600"/>
            <a:ext cx="3352680" cy="2057400"/>
          </a:xfrm>
          <a:prstGeom prst="borderCallout2">
            <a:avLst>
              <a:gd name="adj1" fmla="val 18750"/>
              <a:gd name="adj2" fmla="val -8333"/>
              <a:gd name="adj3" fmla="val 5555"/>
              <a:gd name="adj4" fmla="val -3550"/>
              <a:gd name="adj5" fmla="val -14199"/>
              <a:gd name="adj6" fmla="val -4925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Import-Package: </a:t>
            </a:r>
            <a:r>
              <a:rPr b="1" lang="fr-FR" sz="1200" spc="-1" strike="noStrike">
                <a:solidFill>
                  <a:srgbClr val="3366cc"/>
                </a:solidFill>
                <a:latin typeface="Arial Narrow"/>
              </a:rPr>
              <a:t>org.device.print;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 Narrow"/>
              </a:rPr>
              <a:t>Import-Service: </a:t>
            </a:r>
            <a:r>
              <a:rPr b="1" i="1" lang="fr-FR" sz="1200" spc="-1" strike="noStrike">
                <a:solidFill>
                  <a:srgbClr val="33cc33"/>
                </a:solidFill>
                <a:latin typeface="Arial Narrow"/>
              </a:rPr>
              <a:t>org.device.print.Print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Bundle-Activator: </a:t>
            </a:r>
            <a:r>
              <a:rPr b="1" lang="fr-FR" sz="1200" spc="-1" strike="noStrike">
                <a:solidFill>
                  <a:srgbClr val="ff3300"/>
                </a:solidFill>
                <a:latin typeface="Arial Narrow"/>
              </a:rPr>
              <a:t>org.eclipse.texteditor.impl.Activ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Bundle-Classpath</a:t>
            </a:r>
            <a:r>
              <a:rPr b="1" lang="fr-FR" sz="1200" spc="-1" strike="noStrike">
                <a:solidFill>
                  <a:srgbClr val="c10000"/>
                </a:solidFill>
                <a:latin typeface="Arial Narrow"/>
              </a:rPr>
              <a:t>: .;/lib/resources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Bundle-Name: </a:t>
            </a:r>
            <a:r>
              <a:rPr b="1" lang="fr-FR" sz="1200" spc="-1" strike="noStrike">
                <a:solidFill>
                  <a:srgbClr val="ff3300"/>
                </a:solidFill>
                <a:latin typeface="Arial Narrow"/>
              </a:rPr>
              <a:t>Text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8077320" y="76320"/>
            <a:ext cx="583560" cy="609480"/>
            <a:chOff x="8077320" y="76320"/>
            <a:chExt cx="583560" cy="609480"/>
          </a:xfrm>
        </p:grpSpPr>
        <p:sp>
          <p:nvSpPr>
            <p:cNvPr id="1135" name=""/>
            <p:cNvSpPr/>
            <p:nvPr/>
          </p:nvSpPr>
          <p:spPr>
            <a:xfrm>
              <a:off x="8077320" y="76320"/>
              <a:ext cx="533160" cy="609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153280" y="15228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153280" y="22860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153280" y="30492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153280" y="38088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305560" y="457200"/>
              <a:ext cx="3553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Verdana"/>
                </a:rPr>
                <a:t>.m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5E4-8B83-49CE-BD8E-4A4CFC6D04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Enregistrement de services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(Lexmark Laser Printer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28600" y="1600200"/>
            <a:ext cx="8534520" cy="40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com.lexmark.printer.laser.imp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publi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ctivator 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implem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BundleActiva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priva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rviceRegistration reg=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priva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rintService theService=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publi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c00000"/>
                </a:solidFill>
                <a:latin typeface="Arial"/>
              </a:rPr>
              <a:t>voi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tart(</a:t>
            </a:r>
            <a:r>
              <a:rPr b="0" lang="fr-FR" sz="1600" spc="-1" strike="noStrike">
                <a:solidFill>
                  <a:srgbClr val="33cc33"/>
                </a:solidFill>
                <a:latin typeface="Arial"/>
              </a:rPr>
              <a:t>BundleContext ctx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throw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Bundle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Service=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ne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rintServiceImpl();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perties props=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ne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roperties();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ps.put(</a:t>
            </a:r>
            <a:r>
              <a:rPr b="0" lang="fr-FR" sz="1600" spc="-1" strike="noStrike">
                <a:solidFill>
                  <a:srgbClr val="c10000"/>
                </a:solidFill>
                <a:latin typeface="Arial"/>
              </a:rPr>
              <a:t>"type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c10000"/>
                </a:solidFill>
                <a:latin typeface="Arial"/>
              </a:rPr>
              <a:t>"laser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ps.put(</a:t>
            </a:r>
            <a:r>
              <a:rPr b="0" lang="fr-FR" sz="1600" spc="-1" strike="noStrike">
                <a:solidFill>
                  <a:srgbClr val="c10000"/>
                </a:solidFill>
                <a:latin typeface="Arial"/>
              </a:rPr>
              <a:t>"dpi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600" spc="-1" strike="noStrike">
                <a:solidFill>
                  <a:srgbClr val="c10000"/>
                </a:solidFill>
                <a:latin typeface="Arial"/>
              </a:rPr>
              <a:t> "72,150,300,600,1200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ps.put(</a:t>
            </a:r>
            <a:r>
              <a:rPr b="0" lang="fr-FR" sz="1600" spc="-1" strike="noStrike">
                <a:solidFill>
                  <a:srgbClr val="c10000"/>
                </a:solidFill>
                <a:latin typeface="Arial"/>
              </a:rPr>
              <a:t>"location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c10000"/>
                </a:solidFill>
                <a:latin typeface="Arial"/>
              </a:rPr>
              <a:t>"1st floor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g=</a:t>
            </a:r>
            <a:r>
              <a:rPr b="0" lang="fr-FR" sz="1600" spc="-1" strike="noStrike">
                <a:solidFill>
                  <a:srgbClr val="33cc33"/>
                </a:solidFill>
                <a:latin typeface="Arial"/>
              </a:rPr>
              <a:t>ctx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registerService(</a:t>
            </a:r>
            <a:r>
              <a:rPr b="0" lang="fr-FR" sz="1600" spc="-1" strike="noStrike">
                <a:solidFill>
                  <a:srgbClr val="c10000"/>
                </a:solidFill>
                <a:latin typeface="Arial"/>
              </a:rPr>
              <a:t>"org.device.print.PrintService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theService, prop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publi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c00000"/>
                </a:solidFill>
                <a:latin typeface="Arial"/>
              </a:rPr>
              <a:t>voi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top(</a:t>
            </a:r>
            <a:r>
              <a:rPr b="0" lang="fr-FR" sz="1600" spc="-1" strike="noStrike">
                <a:solidFill>
                  <a:srgbClr val="33cc33"/>
                </a:solidFill>
                <a:latin typeface="Arial"/>
              </a:rPr>
              <a:t>BundleContext ctx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throw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Bundle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i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reg != </a:t>
            </a:r>
            <a:r>
              <a:rPr b="0" lang="fr-FR" sz="1600" spc="-1" strike="noStrike">
                <a:solidFill>
                  <a:srgbClr val="0000c0"/>
                </a:solidFill>
                <a:latin typeface="Arial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reg.unregist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2286000" y="4343400"/>
            <a:ext cx="532800" cy="293400"/>
            <a:chOff x="2286000" y="4343400"/>
            <a:chExt cx="532800" cy="293400"/>
          </a:xfrm>
        </p:grpSpPr>
        <p:sp>
          <p:nvSpPr>
            <p:cNvPr id="1144" name=""/>
            <p:cNvSpPr/>
            <p:nvPr/>
          </p:nvSpPr>
          <p:spPr>
            <a:xfrm>
              <a:off x="2286000" y="4343400"/>
              <a:ext cx="312480" cy="2934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616840" y="4498920"/>
              <a:ext cx="20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233-960E-4F0D-B482-DD8C23216C1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172880" y="7596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Recherche de services (TextEditor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62120" y="1333440"/>
            <a:ext cx="7137360" cy="453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ckage org.eclipse.texteditor.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mport org.device.print.PrintServi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0"/>
                </a:solidFill>
                <a:latin typeface="Arial"/>
              </a:rPr>
              <a:t>clas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Activator </a:t>
            </a:r>
            <a:r>
              <a:rPr b="1" lang="fr-FR" sz="1600" spc="-1" strike="noStrike">
                <a:solidFill>
                  <a:srgbClr val="0000c0"/>
                </a:solidFill>
                <a:latin typeface="Arial"/>
              </a:rPr>
              <a:t>implement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BundleActiva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c0"/>
                </a:solidFill>
                <a:latin typeface="Arial"/>
              </a:rPr>
              <a:t>public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c00000"/>
                </a:solidFill>
                <a:latin typeface="Arial"/>
              </a:rPr>
              <a:t>void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start(BundleContext ctxt) </a:t>
            </a:r>
            <a:r>
              <a:rPr b="1" lang="fr-FR" sz="1600" spc="-1" strike="noStrike">
                <a:solidFill>
                  <a:srgbClr val="0000c0"/>
                </a:solidFill>
                <a:latin typeface="Arial"/>
              </a:rPr>
              <a:t>throw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Bundle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c0"/>
                </a:solidFill>
                <a:latin typeface="Arial"/>
              </a:rPr>
              <a:t>privat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PrintService s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8000"/>
                </a:solidFill>
                <a:latin typeface="Arial"/>
              </a:rPr>
              <a:t>// On va voir si quelqu'un offre un PrintServic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rviceReference[] tempR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=ctxt.getService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c10000"/>
                </a:solidFill>
                <a:latin typeface="Arial"/>
              </a:rPr>
              <a:t>"org.device.print.PrintService"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fr-FR" sz="1600" spc="-1" strike="noStrike">
                <a:solidFill>
                  <a:srgbClr val="c10000"/>
                </a:solidFill>
                <a:latin typeface="Arial"/>
              </a:rPr>
              <a:t>"(location=1st floor)"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c0"/>
                </a:solidFill>
                <a:latin typeface="Arial"/>
              </a:rPr>
              <a:t>if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tempRefs!=</a:t>
            </a:r>
            <a:r>
              <a:rPr b="1" lang="fr-FR" sz="1600" spc="-1" strike="noStrike">
                <a:solidFill>
                  <a:srgbClr val="0000c0"/>
                </a:solidFill>
                <a:latin typeface="Arial"/>
              </a:rPr>
              <a:t>null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fr-FR" sz="1600" spc="-1" strike="noStrike">
                <a:solidFill>
                  <a:srgbClr val="c10000"/>
                </a:solidFill>
                <a:latin typeface="Arial"/>
              </a:rPr>
              <a:t>"Found a PrintService! I will use it!!!"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8000"/>
                </a:solidFill>
                <a:latin typeface="Arial"/>
              </a:rPr>
              <a:t>// On prend le premier offer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r=(PrintService) ctxt.getService(tempRefs[</a:t>
            </a:r>
            <a:r>
              <a:rPr b="1" lang="fr-FR" sz="1600" spc="-1" strike="noStrike">
                <a:solidFill>
                  <a:srgbClr val="c200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]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304920" y="4564080"/>
            <a:ext cx="567720" cy="267840"/>
            <a:chOff x="304920" y="4564080"/>
            <a:chExt cx="567720" cy="267840"/>
          </a:xfrm>
        </p:grpSpPr>
        <p:sp>
          <p:nvSpPr>
            <p:cNvPr id="1149" name=""/>
            <p:cNvSpPr/>
            <p:nvPr/>
          </p:nvSpPr>
          <p:spPr>
            <a:xfrm>
              <a:off x="304920" y="4692240"/>
              <a:ext cx="24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16200000">
              <a:off x="577080" y="4536360"/>
              <a:ext cx="267840" cy="323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353880" y="1650960"/>
            <a:ext cx="380520" cy="259920"/>
            <a:chOff x="353880" y="1650960"/>
            <a:chExt cx="380520" cy="259920"/>
          </a:xfrm>
        </p:grpSpPr>
        <p:sp>
          <p:nvSpPr>
            <p:cNvPr id="1152" name=""/>
            <p:cNvSpPr/>
            <p:nvPr/>
          </p:nvSpPr>
          <p:spPr>
            <a:xfrm>
              <a:off x="353880" y="1784880"/>
              <a:ext cx="18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88160" y="1650960"/>
              <a:ext cx="246240" cy="259920"/>
            </a:xfrm>
            <a:custGeom>
              <a:avLst/>
              <a:gdLst>
                <a:gd name="textAreaLeft" fmla="*/ 360 w 246240"/>
                <a:gd name="textAreaRight" fmla="*/ 246960 w 246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01C-CB0F-4EDE-84CE-BE3A21CE03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endre en compte l’enregistrement et le retrait de service (i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647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bundles « requesters » doivent impérativement prendre en compte l’enregistrement et le retrait de services « importé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11560" y="2787480"/>
            <a:ext cx="6260040" cy="272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class PrintListenerActivator implements BundleActiva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start(BundleContext contex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/ this bundle is interested in all events in the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PrintServiceListener listener = new PrintServiceListener(contex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context.addServiceListener(liste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stop(BundleContext contex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/ we don't have to do any thing because the framework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/ going to remove all our liste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373-B9FF-4051-9B00-7B590411276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Prendre en compte l’enregistrement</a:t>
            </a:r>
            <a:br>
              <a:rPr sz="4000"/>
            </a:b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et le retrait de service (ii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80520" y="1165320"/>
            <a:ext cx="8412120" cy="472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ass PrintServiceListener implements ServiceListen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fr-FR" sz="1600" spc="-1" strike="noStrike">
                <a:solidFill>
                  <a:srgbClr val="66ff33"/>
                </a:solidFill>
                <a:latin typeface="Arial"/>
              </a:rPr>
              <a:t>serviceChange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600" spc="-1" strike="noStrike">
                <a:solidFill>
                  <a:srgbClr val="3366cc"/>
                </a:solidFill>
                <a:latin typeface="Arial"/>
              </a:rPr>
              <a:t>ServiceEvent 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Reference ref = </a:t>
            </a:r>
            <a:r>
              <a:rPr b="0" lang="fr-FR" sz="1600" spc="-1" strike="noStrike">
                <a:solidFill>
                  <a:srgbClr val="3366cc"/>
                </a:solidFill>
                <a:latin typeface="Arial"/>
              </a:rPr>
              <a:t>e.getServiceReferenc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(((String)ref.getProperty("</a:t>
            </a: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objectClas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").equals("</a:t>
            </a: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org.device.print.PrintServic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"))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itch (</a:t>
            </a:r>
            <a:r>
              <a:rPr b="0" lang="fr-FR" sz="1600" spc="-1" strike="noStrike">
                <a:solidFill>
                  <a:srgbClr val="3366cc"/>
                </a:solidFill>
                <a:latin typeface="Arial"/>
              </a:rPr>
              <a:t>e.getType(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ServiceEvent.REGISTER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ntln(ref + " has been registered by "+ ref.getBundle().getLocation());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ServiceEvent.UNREGISTER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ntln(ref + " is being unregistered"); brea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ServiceEvent.MODIFI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ntln("properties of "+ref+" have been modified: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ing[] keys = ref.getPropertyKey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 (int i=0; i&lt;keys.length; i++) println(keys[i] + "=" + ref.getProperty(keys[i]));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}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println(String msg) {System.out.println("events: "+msg); }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06D-CD48-4046-8B80-51AB98BCF7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Prendre en compte l’enregistrement</a:t>
            </a:r>
            <a:br>
              <a:rPr sz="4000"/>
            </a:b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et le retrait de service (iii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255240" y="2230560"/>
            <a:ext cx="8327880" cy="28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ublic class Activator implements BundleActivato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inal static String filterStr ="(&amp;(objectClass=org.device.print.PrintService)(location=4th floor))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Map printservices; /*&lt;ServiceReference,PrintService&gt;*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33cc33"/>
                </a:solidFill>
                <a:latin typeface="Arial"/>
              </a:rPr>
              <a:t>BundleContext cont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ublic void start(</a:t>
            </a:r>
            <a:r>
              <a:rPr b="1" lang="fr-FR" sz="1400" spc="-1" strike="noStrike">
                <a:solidFill>
                  <a:srgbClr val="33cc33"/>
                </a:solidFill>
                <a:latin typeface="Arial"/>
              </a:rPr>
              <a:t>BundleContext contex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) throws BundleExcep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400" spc="-1" strike="noStrike">
                <a:solidFill>
                  <a:srgbClr val="33cc33"/>
                </a:solidFill>
                <a:latin typeface="Arial"/>
              </a:rPr>
              <a:t>this.context=cont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printservice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new HashMa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fr-FR" sz="1400" spc="-1" strike="noStrike">
                <a:solidFill>
                  <a:srgbClr val="3366cc"/>
                </a:solidFill>
                <a:latin typeface="Arial"/>
              </a:rPr>
              <a:t>BindingController ctlr=new BindingController(</a:t>
            </a:r>
            <a:r>
              <a:rPr b="1" lang="fr-FR" sz="1400" spc="-1" strike="noStrike">
                <a:solidFill>
                  <a:srgbClr val="33cc33"/>
                </a:solidFill>
                <a:latin typeface="Arial"/>
              </a:rPr>
              <a:t>context</a:t>
            </a:r>
            <a:r>
              <a:rPr b="1" lang="fr-FR" sz="1400" spc="-1" strike="noStrike">
                <a:solidFill>
                  <a:srgbClr val="3366cc"/>
                </a:solidFill>
                <a:latin typeface="Arial"/>
              </a:rPr>
              <a:t>,filterStr,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printservices</a:t>
            </a:r>
            <a:r>
              <a:rPr b="1" lang="fr-FR" sz="1400" spc="-1" strike="noStrike">
                <a:solidFill>
                  <a:srgbClr val="3366cc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fr-FR" sz="1400" spc="-1" strike="noStrike">
                <a:solidFill>
                  <a:srgbClr val="3366cc"/>
                </a:solidFill>
                <a:latin typeface="Arial"/>
              </a:rPr>
              <a:t>ctlr.fillService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fr-FR" sz="1400" spc="-1" strike="noStrike">
                <a:solidFill>
                  <a:srgbClr val="3366cc"/>
                </a:solidFill>
                <a:latin typeface="Arial"/>
              </a:rPr>
              <a:t>context.addServiceListener(ctl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A2D-B256-4242-879F-B88A9D14D91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Prendre en compte l’enregistrement</a:t>
            </a:r>
            <a:br>
              <a:rPr sz="4000"/>
            </a:b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et le retrait de service (iv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793000" cy="31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class BindingController implements </a:t>
            </a:r>
            <a:r>
              <a:rPr b="0" lang="fr-FR" sz="1600" spc="-1" strike="noStrike">
                <a:solidFill>
                  <a:srgbClr val="3366cc"/>
                </a:solidFill>
                <a:latin typeface="Arial"/>
              </a:rPr>
              <a:t>ServiceListene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Map services; /*&lt;ServiceReference,Object&gt;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ing filterS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lter fil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33cc33"/>
                </a:solidFill>
                <a:latin typeface="Arial"/>
              </a:rPr>
              <a:t>BundleContext cont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indingController(</a:t>
            </a:r>
            <a:r>
              <a:rPr b="0" lang="fr-FR" sz="1600" spc="-1" strike="noStrike">
                <a:solidFill>
                  <a:srgbClr val="33cc33"/>
                </a:solidFill>
                <a:latin typeface="Arial"/>
              </a:rPr>
              <a:t>BundleContext contex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String filterStr,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Map servic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is.context=cont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is.filterStr=filterS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is.services=servic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lter=context.createFilter(filter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F92-CF5A-4857-919D-7499984AF0C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endre en compte l’enregistrement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t le retrait de service (v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380520" y="1719000"/>
            <a:ext cx="8412120" cy="286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/ fill the services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fillServices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/ get references on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Reference[] refs=</a:t>
            </a:r>
            <a:r>
              <a:rPr b="0" lang="fr-FR" sz="1600" spc="-1" strike="noStrike">
                <a:solidFill>
                  <a:srgbClr val="33cc33"/>
                </a:solidFill>
                <a:latin typeface="Arial"/>
              </a:rPr>
              <a:t>context.getServiceReferences(null,filterSt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(int i=0;i&lt;refs.length;i++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svc = </a:t>
            </a:r>
            <a:r>
              <a:rPr b="0" lang="fr-FR" sz="1600" spc="-1" strike="noStrike">
                <a:solidFill>
                  <a:srgbClr val="33cc33"/>
                </a:solidFill>
                <a:latin typeface="Arial"/>
              </a:rPr>
              <a:t>context.getService(refs[i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(svc!=null)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services.put(refs[i],sv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72C-61A5-4D50-8E27-BE8709E4D22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Prendre en compte l’enregistrement</a:t>
            </a:r>
            <a:br>
              <a:rPr sz="4000"/>
            </a:b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et le retrait de service (vi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2400" y="1752120"/>
            <a:ext cx="8945280" cy="369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serviceChanged(ServiceEvent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Reference servref = e.getServiceReferenc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 re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itch (e.getType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se ServiceEvent.REGISTER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(filter.match(servref)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println(servref + " (from "+ servref.getBundle().getLocation() + ") is added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services.put(servref,</a:t>
            </a:r>
            <a:r>
              <a:rPr b="0" lang="fr-FR" sz="1600" spc="-1" strike="noStrike">
                <a:solidFill>
                  <a:srgbClr val="33cc33"/>
                </a:solidFill>
                <a:latin typeface="Arial"/>
              </a:rPr>
              <a:t>context.getService(servref)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2D6-F164-4FAE-A852-4710A16C13D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Prendre en compte l’enregistrement</a:t>
            </a:r>
            <a:br>
              <a:rPr sz="4000"/>
            </a:b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et le retrait de service (vii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12120" cy="419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1" marL="84384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se ServiceEvent.UNREGISTER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ref=services.remove(servre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(ref!=null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println(servref + " is removed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600" spc="-1" strike="noStrike">
                <a:solidFill>
                  <a:srgbClr val="33cc33"/>
                </a:solidFill>
                <a:latin typeface="Arial"/>
              </a:rPr>
              <a:t>context.ungetService(servre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se ServiceEvent.MODIFI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ref=services.get(servre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(ref!=null &amp;&amp; !filter.match(servref)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println(servref + " is removed since properties has changed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services.remove(servre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600" spc="-1" strike="noStrike">
                <a:solidFill>
                  <a:srgbClr val="33cc33"/>
                </a:solidFill>
                <a:latin typeface="Arial"/>
              </a:rPr>
              <a:t>context.ungetService(servre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 brea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77B-194D-4866-872E-79173CB4623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rvi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service est la brique de la programmation orientée Service (S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se décompose en deux part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interface de de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le cas d'OSGi c'est une interface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ou plusieurs classes d'impla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description d'un service n'est pas liée à un bundle particu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tilis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u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faut demander au framework s'il existe un service qui met en œuvre une interface particulière (interface==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une seconde étape demander à obtenir une implantation de c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tt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à disposition u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faut fabriquer une instance d'implant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ttre à disposition du framework cette implantation sous l'interface vou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74B-9886-4067-909D-F773863ED9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07880" y="296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lément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7B8-D84B-46B6-831E-BFF0D2BEBA7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MultiTh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64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ervice peut utiliser des threads (en poll ou non) pour s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s threads doivent être terminées dans le stop() de l’activ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20960" y="2919240"/>
            <a:ext cx="8879760" cy="283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blic class PrimeSearchActivator implements BundleActivator,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meSearch t;boolean co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blic void start(BundleContext context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=new PrimeSearchImpl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.star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blic void stop(BundleContext context) { </a:t>
            </a: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cont=false;t=null;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blic void run(){ </a:t>
            </a: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while(cont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{ /* compute primes */  }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586-0EC3-4794-9B96-E745344ACED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écurit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79600" y="981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sé sur les permissions du JDK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SecurityManager vérifie les permissions de chaque bundle (FilePermission, DialPermission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cès aux fich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ux du cache et aux ressources du bu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 permissions propres à O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ProductusOSGiBook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ProductusOSGiBookc"/>
              </a:rPr>
              <a:t>AdminPer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Proforma-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Proforma-Book"/>
              </a:rPr>
              <a:t>Autorise l’accès aux fonctions d’administration du framewor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ProductusOSGiBook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ProductusOSGiBookc"/>
              </a:rPr>
              <a:t>ServicePer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Proforma-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Proforma-Book"/>
              </a:rPr>
              <a:t>Contrôle l’enregistrement et la récupération de services (G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ProductusOSGiBook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ProductusOSGiBookc"/>
              </a:rPr>
              <a:t>PackagePer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Proforma-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Proforma-Book"/>
              </a:rPr>
              <a:t>Contrôle l’import et l’export de packages (EXPORT/IM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g.osgi.service.Permission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 de gestion des permissions des bundles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539720" y="1913040"/>
            <a:ext cx="74091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ava -Djava.security.manager -Djava.security.policy=java.policy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ant codeBase "file:/home/rickhall/projects/oscar/bundle/servicelookup.jar"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mission org.osgi.framework.ServicePermission "org.*", "get";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24B-008B-4DFB-B148-4030E3564A2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Interface AdminPermiss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1960" y="1090080"/>
            <a:ext cx="8700840" cy="242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final class AdminPermission extends java.security.BasicPermiss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/ Cycle de vie des bu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AdminPermiss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AdminPermission(String name, String action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oolean equals (Object ob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oolean implies(java.security.Permision 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java.security.PermissionCollection newPermissionCollect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0240" y="3595680"/>
            <a:ext cx="87008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final class PackagePermision extends java.security.BasicPermiss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tatic final String EXPORT, IMPO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4280" y="4873680"/>
            <a:ext cx="87012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final class ServicePermission extends java.security.BasicPermiss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tatic final String REGISTER, G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5B4-5609-4439-8FB3-2329C613AA9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face Configur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rmet la configuration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si AdminPermi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 travers d’un objet de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ervice doit être une instance de l’interface Config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va.lang.Object getConfigurationObjec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m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bjet de configuration peut être un JavaBean (setXXX/getXXX) pour faciliter l’introspection de l’objet de configuration par des « outils » (services) de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745-5216-476A-8D2E-B0872DDE05A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e de Configu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f(sv instanceof Configurabl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 o=sv.getConfigurationObje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f(o instanceof SerialPortConfigurationObjec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ialPortConfigurationObject cfg=(SerialPortConfigurationObject) 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em.out.println("Previous configuration : " + cfg.getPort()+ "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cfg.getBaudRate() + " bauds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fg.setPort("COM1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fg.setBaudRate(48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else { ...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else { ...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FC3-D413-4196-BF67-2FA92CABC80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Interface Configurab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31760" y="1949400"/>
            <a:ext cx="8701200" cy="12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org.osgi.framewor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Configur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Object getConfigurationObject() throws java.lang.Security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803-75B9-491B-AE4F-14128B68C4C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erviceFac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01600" y="107964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tron de conception de la fabrique (Gam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tourne une instance par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fférentes instances pour un mêm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parent pour le bundle client, uniquement utilisé par l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met de donner la main au développeur pour gérer le cycle de vie du service indépendamment du cycle de vie du bu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EC0-CAEF-4CB2-9980-B77465D7736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Interface Fac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31760" y="1949400"/>
            <a:ext cx="8701200" cy="15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org.osgi.framewor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Service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Object getService (Bundle bundle, ServiceRegistration registra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ungetService (Bundle bundle, ServiceRegistration registration, Object serv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704-5CB5-45E2-B2C5-7E52928670D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173240" y="4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package org.osgi.frame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894960" y="1425600"/>
            <a:ext cx="3133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undleActiv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undle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undleListe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figu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ameworkListe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Liste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rvice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ynchronousBundleListe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224240" y="1406520"/>
            <a:ext cx="29037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minPer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undle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amework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Per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Per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xce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ndle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validSyntax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124-FB28-46B3-BD41-17623C9DC13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3580920" y="2768760"/>
            <a:ext cx="381240" cy="152280"/>
            <a:chOff x="3580920" y="2768760"/>
            <a:chExt cx="381240" cy="152280"/>
          </a:xfrm>
        </p:grpSpPr>
        <p:sp>
          <p:nvSpPr>
            <p:cNvPr id="200" name=""/>
            <p:cNvSpPr/>
            <p:nvPr/>
          </p:nvSpPr>
          <p:spPr>
            <a:xfrm flipH="1">
              <a:off x="3580560" y="276876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560" y="2845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énario: Utilisation d'un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3301920"/>
            <a:ext cx="5029200" cy="3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24000" y="3378240"/>
            <a:ext cx="89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3835440"/>
            <a:ext cx="5029200" cy="380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83080" y="3911760"/>
            <a:ext cx="1468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JAVA VIRTUAL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76360" y="2540160"/>
            <a:ext cx="93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undles Acti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410080" y="2921040"/>
            <a:ext cx="1479960" cy="380520"/>
            <a:chOff x="5410080" y="2921040"/>
            <a:chExt cx="1479960" cy="380520"/>
          </a:xfrm>
        </p:grpSpPr>
        <p:sp>
          <p:nvSpPr>
            <p:cNvPr id="209" name=""/>
            <p:cNvSpPr/>
            <p:nvPr/>
          </p:nvSpPr>
          <p:spPr>
            <a:xfrm>
              <a:off x="5410080" y="2997000"/>
              <a:ext cx="1066680" cy="30456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672" y="624"/>
                  </a:moveTo>
                  <a:cubicBezTo>
                    <a:pt x="664" y="564"/>
                    <a:pt x="656" y="504"/>
                    <a:pt x="624" y="432"/>
                  </a:cubicBezTo>
                  <a:cubicBezTo>
                    <a:pt x="592" y="360"/>
                    <a:pt x="544" y="256"/>
                    <a:pt x="480" y="192"/>
                  </a:cubicBezTo>
                  <a:cubicBezTo>
                    <a:pt x="416" y="128"/>
                    <a:pt x="320" y="80"/>
                    <a:pt x="240" y="48"/>
                  </a:cubicBezTo>
                  <a:cubicBezTo>
                    <a:pt x="160" y="16"/>
                    <a:pt x="80" y="8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7040" y="2921040"/>
              <a:ext cx="60300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start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438280" y="1854360"/>
            <a:ext cx="380880" cy="152280"/>
            <a:chOff x="2438280" y="1854360"/>
            <a:chExt cx="380880" cy="152280"/>
          </a:xfrm>
        </p:grpSpPr>
        <p:sp>
          <p:nvSpPr>
            <p:cNvPr id="212" name=""/>
            <p:cNvSpPr/>
            <p:nvPr/>
          </p:nvSpPr>
          <p:spPr>
            <a:xfrm>
              <a:off x="2438280" y="185436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07480" y="193068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76720" y="1854000"/>
            <a:ext cx="304560" cy="152280"/>
            <a:chOff x="3276720" y="1854000"/>
            <a:chExt cx="304560" cy="152280"/>
          </a:xfrm>
        </p:grpSpPr>
        <p:sp>
          <p:nvSpPr>
            <p:cNvPr id="215" name=""/>
            <p:cNvSpPr/>
            <p:nvPr/>
          </p:nvSpPr>
          <p:spPr>
            <a:xfrm>
              <a:off x="3276720" y="193068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3430440" y="1855440"/>
              <a:ext cx="15228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38280" y="2082960"/>
            <a:ext cx="380880" cy="152280"/>
            <a:chOff x="2438280" y="2082960"/>
            <a:chExt cx="380880" cy="152280"/>
          </a:xfrm>
        </p:grpSpPr>
        <p:sp>
          <p:nvSpPr>
            <p:cNvPr id="218" name=""/>
            <p:cNvSpPr/>
            <p:nvPr/>
          </p:nvSpPr>
          <p:spPr>
            <a:xfrm>
              <a:off x="2438280" y="208296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07480" y="215928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276720" y="2082600"/>
            <a:ext cx="304560" cy="152280"/>
            <a:chOff x="3276720" y="2082600"/>
            <a:chExt cx="304560" cy="152280"/>
          </a:xfrm>
        </p:grpSpPr>
        <p:sp>
          <p:nvSpPr>
            <p:cNvPr id="221" name=""/>
            <p:cNvSpPr/>
            <p:nvPr/>
          </p:nvSpPr>
          <p:spPr>
            <a:xfrm>
              <a:off x="3276720" y="215928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3430440" y="2084040"/>
              <a:ext cx="15228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438280" y="1625760"/>
            <a:ext cx="380880" cy="152280"/>
            <a:chOff x="2438280" y="1625760"/>
            <a:chExt cx="380880" cy="152280"/>
          </a:xfrm>
        </p:grpSpPr>
        <p:sp>
          <p:nvSpPr>
            <p:cNvPr id="224" name=""/>
            <p:cNvSpPr/>
            <p:nvPr/>
          </p:nvSpPr>
          <p:spPr>
            <a:xfrm>
              <a:off x="2438280" y="162576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07480" y="170208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505320" y="2387520"/>
            <a:ext cx="380880" cy="152640"/>
            <a:chOff x="3505320" y="2387520"/>
            <a:chExt cx="380880" cy="152640"/>
          </a:xfrm>
        </p:grpSpPr>
        <p:sp>
          <p:nvSpPr>
            <p:cNvPr id="227" name=""/>
            <p:cNvSpPr/>
            <p:nvPr/>
          </p:nvSpPr>
          <p:spPr>
            <a:xfrm>
              <a:off x="3505320" y="2387520"/>
              <a:ext cx="169200" cy="152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4520" y="246384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886200" y="162576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343400" y="2158920"/>
            <a:ext cx="304560" cy="152640"/>
            <a:chOff x="4343400" y="2158920"/>
            <a:chExt cx="304560" cy="152640"/>
          </a:xfrm>
        </p:grpSpPr>
        <p:sp>
          <p:nvSpPr>
            <p:cNvPr id="231" name=""/>
            <p:cNvSpPr/>
            <p:nvPr/>
          </p:nvSpPr>
          <p:spPr>
            <a:xfrm>
              <a:off x="4343400" y="223524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4497120" y="2160720"/>
              <a:ext cx="15264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505320" y="2146320"/>
            <a:ext cx="88920" cy="241200"/>
          </a:xfrm>
          <a:custGeom>
            <a:avLst/>
            <a:gdLst/>
            <a:ahLst/>
            <a:rect l="l" t="t" r="r" b="b"/>
            <a:pathLst>
              <a:path w="56" h="152">
                <a:moveTo>
                  <a:pt x="0" y="8"/>
                </a:moveTo>
                <a:cubicBezTo>
                  <a:pt x="20" y="4"/>
                  <a:pt x="40" y="0"/>
                  <a:pt x="48" y="8"/>
                </a:cubicBezTo>
                <a:cubicBezTo>
                  <a:pt x="56" y="16"/>
                  <a:pt x="48" y="32"/>
                  <a:pt x="48" y="56"/>
                </a:cubicBezTo>
                <a:cubicBezTo>
                  <a:pt x="48" y="80"/>
                  <a:pt x="48" y="116"/>
                  <a:pt x="48" y="152"/>
                </a:cubicBez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1219320"/>
            <a:ext cx="2413080" cy="1015920"/>
          </a:xfrm>
          <a:custGeom>
            <a:avLst/>
            <a:gdLst/>
            <a:ahLst/>
            <a:rect l="l" t="t" r="r" b="b"/>
            <a:pathLst>
              <a:path w="1520" h="640">
                <a:moveTo>
                  <a:pt x="1456" y="640"/>
                </a:moveTo>
                <a:cubicBezTo>
                  <a:pt x="1476" y="640"/>
                  <a:pt x="1496" y="640"/>
                  <a:pt x="1504" y="592"/>
                </a:cubicBezTo>
                <a:cubicBezTo>
                  <a:pt x="1512" y="544"/>
                  <a:pt x="1520" y="432"/>
                  <a:pt x="1504" y="352"/>
                </a:cubicBezTo>
                <a:cubicBezTo>
                  <a:pt x="1488" y="272"/>
                  <a:pt x="1472" y="168"/>
                  <a:pt x="1408" y="112"/>
                </a:cubicBezTo>
                <a:cubicBezTo>
                  <a:pt x="1344" y="56"/>
                  <a:pt x="1264" y="32"/>
                  <a:pt x="1120" y="16"/>
                </a:cubicBezTo>
                <a:cubicBezTo>
                  <a:pt x="976" y="0"/>
                  <a:pt x="712" y="8"/>
                  <a:pt x="544" y="16"/>
                </a:cubicBezTo>
                <a:cubicBezTo>
                  <a:pt x="376" y="24"/>
                  <a:pt x="200" y="40"/>
                  <a:pt x="112" y="64"/>
                </a:cubicBezTo>
                <a:cubicBezTo>
                  <a:pt x="24" y="88"/>
                  <a:pt x="32" y="128"/>
                  <a:pt x="16" y="160"/>
                </a:cubicBezTo>
                <a:cubicBezTo>
                  <a:pt x="0" y="192"/>
                  <a:pt x="0" y="232"/>
                  <a:pt x="16" y="256"/>
                </a:cubicBezTo>
                <a:cubicBezTo>
                  <a:pt x="32" y="280"/>
                  <a:pt x="72" y="292"/>
                  <a:pt x="112" y="304"/>
                </a:cubicBez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162576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11280" y="914400"/>
            <a:ext cx="4406760" cy="1930320"/>
          </a:xfrm>
          <a:custGeom>
            <a:avLst/>
            <a:gdLst/>
            <a:ahLst/>
            <a:rect l="l" t="t" r="r" b="b"/>
            <a:pathLst>
              <a:path w="2776" h="1216">
                <a:moveTo>
                  <a:pt x="2600" y="592"/>
                </a:moveTo>
                <a:cubicBezTo>
                  <a:pt x="2660" y="568"/>
                  <a:pt x="2720" y="544"/>
                  <a:pt x="2744" y="496"/>
                </a:cubicBezTo>
                <a:cubicBezTo>
                  <a:pt x="2768" y="448"/>
                  <a:pt x="2776" y="368"/>
                  <a:pt x="2744" y="304"/>
                </a:cubicBezTo>
                <a:cubicBezTo>
                  <a:pt x="2712" y="240"/>
                  <a:pt x="2736" y="152"/>
                  <a:pt x="2552" y="112"/>
                </a:cubicBezTo>
                <a:cubicBezTo>
                  <a:pt x="2368" y="72"/>
                  <a:pt x="2024" y="56"/>
                  <a:pt x="1640" y="64"/>
                </a:cubicBezTo>
                <a:cubicBezTo>
                  <a:pt x="1256" y="72"/>
                  <a:pt x="496" y="0"/>
                  <a:pt x="248" y="160"/>
                </a:cubicBezTo>
                <a:cubicBezTo>
                  <a:pt x="0" y="320"/>
                  <a:pt x="96" y="848"/>
                  <a:pt x="152" y="1024"/>
                </a:cubicBezTo>
                <a:cubicBezTo>
                  <a:pt x="208" y="1200"/>
                  <a:pt x="396" y="1208"/>
                  <a:pt x="584" y="1216"/>
                </a:cubicBezTo>
              </a:path>
            </a:pathLst>
          </a:custGeom>
          <a:noFill/>
          <a:ln w="190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437920" y="2768760"/>
            <a:ext cx="381240" cy="152280"/>
            <a:chOff x="2437920" y="2768760"/>
            <a:chExt cx="381240" cy="152280"/>
          </a:xfrm>
        </p:grpSpPr>
        <p:sp>
          <p:nvSpPr>
            <p:cNvPr id="238" name=""/>
            <p:cNvSpPr/>
            <p:nvPr/>
          </p:nvSpPr>
          <p:spPr>
            <a:xfrm flipH="1">
              <a:off x="2437560" y="276876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0560" y="2845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276720" y="2768760"/>
            <a:ext cx="304200" cy="152280"/>
            <a:chOff x="3276720" y="2768760"/>
            <a:chExt cx="304200" cy="152280"/>
          </a:xfrm>
        </p:grpSpPr>
        <p:sp>
          <p:nvSpPr>
            <p:cNvPr id="241" name=""/>
            <p:cNvSpPr/>
            <p:nvPr/>
          </p:nvSpPr>
          <p:spPr>
            <a:xfrm>
              <a:off x="3276720" y="284508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390120" y="2768760"/>
              <a:ext cx="190440" cy="15228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571640" y="1600200"/>
            <a:ext cx="1142640" cy="1523880"/>
            <a:chOff x="4571640" y="1600200"/>
            <a:chExt cx="1142640" cy="1523880"/>
          </a:xfrm>
        </p:grpSpPr>
        <p:sp>
          <p:nvSpPr>
            <p:cNvPr id="244" name=""/>
            <p:cNvSpPr/>
            <p:nvPr/>
          </p:nvSpPr>
          <p:spPr>
            <a:xfrm>
              <a:off x="4952880" y="1600200"/>
              <a:ext cx="457200" cy="15238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4571640" y="2514600"/>
              <a:ext cx="381240" cy="152280"/>
              <a:chOff x="4571640" y="2514600"/>
              <a:chExt cx="381240" cy="15228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4571280" y="2514600"/>
                <a:ext cx="152280" cy="152280"/>
              </a:xfrm>
              <a:custGeom>
                <a:avLst/>
                <a:gdLst>
                  <a:gd name="textAreaLeft" fmla="*/ -360 w 152280"/>
                  <a:gd name="textAreaRight" fmla="*/ 15228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724280" y="2590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5410080" y="1752480"/>
              <a:ext cx="304200" cy="152640"/>
              <a:chOff x="5410080" y="1752480"/>
              <a:chExt cx="304200" cy="152640"/>
            </a:xfrm>
          </p:grpSpPr>
          <p:sp>
            <p:nvSpPr>
              <p:cNvPr id="249" name=""/>
              <p:cNvSpPr/>
              <p:nvPr/>
            </p:nvSpPr>
            <p:spPr>
              <a:xfrm>
                <a:off x="5410080" y="1828800"/>
                <a:ext cx="19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523480" y="1752480"/>
                <a:ext cx="190440" cy="152640"/>
              </a:xfrm>
              <a:custGeom>
                <a:avLst/>
                <a:gdLst>
                  <a:gd name="textAreaLeft" fmla="*/ -360 w 190440"/>
                  <a:gd name="textAreaRight" fmla="*/ 190440 w 1904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2819520" y="292104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292104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292104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95280" y="4902120"/>
            <a:ext cx="6019560" cy="1143000"/>
            <a:chOff x="1295280" y="4902120"/>
            <a:chExt cx="6019560" cy="1143000"/>
          </a:xfrm>
        </p:grpSpPr>
        <p:sp>
          <p:nvSpPr>
            <p:cNvPr id="255" name=""/>
            <p:cNvSpPr/>
            <p:nvPr/>
          </p:nvSpPr>
          <p:spPr>
            <a:xfrm>
              <a:off x="5790960" y="5130720"/>
              <a:ext cx="457200" cy="228600"/>
            </a:xfrm>
            <a:prstGeom prst="rect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41400" y="5130720"/>
              <a:ext cx="5007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Ac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90960" y="5435280"/>
              <a:ext cx="457200" cy="2286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44640" y="5435280"/>
              <a:ext cx="6609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Verdana"/>
                </a:rPr>
                <a:t>Resolv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90960" y="5740200"/>
              <a:ext cx="457200" cy="228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44280" y="5740200"/>
              <a:ext cx="6408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Verdana"/>
                </a:rPr>
                <a:t>Install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37240" y="5176800"/>
              <a:ext cx="164664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Évènements du Framewor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523880" y="5687640"/>
              <a:ext cx="380880" cy="152640"/>
              <a:chOff x="1523880" y="5687640"/>
              <a:chExt cx="38088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1523880" y="5687640"/>
                <a:ext cx="169200" cy="1526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93080" y="57639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523880" y="5359320"/>
              <a:ext cx="457200" cy="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12400" y="5397480"/>
              <a:ext cx="107388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ackage expor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15640" y="5626080"/>
              <a:ext cx="9151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rvice fourn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5280" y="5054400"/>
              <a:ext cx="6019560" cy="990720"/>
            </a:xfrm>
            <a:prstGeom prst="rect">
              <a:avLst/>
            </a:prstGeom>
            <a:noFill/>
            <a:ln w="936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82480" y="4902120"/>
              <a:ext cx="672840" cy="21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égend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523520" y="5459040"/>
              <a:ext cx="381240" cy="152640"/>
              <a:chOff x="1523520" y="5459040"/>
              <a:chExt cx="381240" cy="152640"/>
            </a:xfrm>
          </p:grpSpPr>
          <p:sp>
            <p:nvSpPr>
              <p:cNvPr id="271" name=""/>
              <p:cNvSpPr/>
              <p:nvPr/>
            </p:nvSpPr>
            <p:spPr>
              <a:xfrm flipH="1">
                <a:off x="1523160" y="5459040"/>
                <a:ext cx="152280" cy="152640"/>
              </a:xfrm>
              <a:custGeom>
                <a:avLst/>
                <a:gdLst>
                  <a:gd name="textAreaLeft" fmla="*/ -360 w 152280"/>
                  <a:gd name="textAreaRight" fmla="*/ 152280 w 1522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76160" y="5535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148280" y="5397480"/>
              <a:ext cx="11149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ackage importé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52240" y="5626080"/>
              <a:ext cx="9259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rvice requ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733560" y="5687640"/>
              <a:ext cx="304560" cy="152640"/>
              <a:chOff x="3733560" y="5687640"/>
              <a:chExt cx="304560" cy="152640"/>
            </a:xfrm>
          </p:grpSpPr>
          <p:sp>
            <p:nvSpPr>
              <p:cNvPr id="276" name=""/>
              <p:cNvSpPr/>
              <p:nvPr/>
            </p:nvSpPr>
            <p:spPr>
              <a:xfrm>
                <a:off x="3733560" y="5763960"/>
                <a:ext cx="15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6200000">
                <a:off x="3887280" y="5689440"/>
                <a:ext cx="152640" cy="149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733560" y="5459040"/>
              <a:ext cx="304200" cy="152640"/>
              <a:chOff x="3733560" y="5459040"/>
              <a:chExt cx="304200" cy="152640"/>
            </a:xfrm>
          </p:grpSpPr>
          <p:sp>
            <p:nvSpPr>
              <p:cNvPr id="279" name=""/>
              <p:cNvSpPr/>
              <p:nvPr/>
            </p:nvSpPr>
            <p:spPr>
              <a:xfrm>
                <a:off x="3733560" y="5535360"/>
                <a:ext cx="19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846960" y="5459040"/>
                <a:ext cx="190440" cy="152640"/>
              </a:xfrm>
              <a:custGeom>
                <a:avLst/>
                <a:gdLst>
                  <a:gd name="textAreaLeft" fmla="*/ -360 w 190440"/>
                  <a:gd name="textAreaRight" fmla="*/ 190440 w 1904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1758960" y="2365200"/>
            <a:ext cx="4133880" cy="1675080"/>
          </a:xfrm>
          <a:custGeom>
            <a:avLst/>
            <a:gdLst/>
            <a:ahLst/>
            <a:rect l="l" t="t" r="r" b="b"/>
            <a:pathLst>
              <a:path w="2604" h="1055">
                <a:moveTo>
                  <a:pt x="2604" y="673"/>
                </a:moveTo>
                <a:cubicBezTo>
                  <a:pt x="2530" y="811"/>
                  <a:pt x="2457" y="949"/>
                  <a:pt x="2209" y="1002"/>
                </a:cubicBezTo>
                <a:cubicBezTo>
                  <a:pt x="1961" y="1055"/>
                  <a:pt x="1463" y="1022"/>
                  <a:pt x="1114" y="989"/>
                </a:cubicBezTo>
                <a:cubicBezTo>
                  <a:pt x="765" y="956"/>
                  <a:pt x="224" y="969"/>
                  <a:pt x="112" y="804"/>
                </a:cubicBezTo>
                <a:cubicBezTo>
                  <a:pt x="0" y="639"/>
                  <a:pt x="387" y="135"/>
                  <a:pt x="442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35480" y="2333160"/>
            <a:ext cx="3911400" cy="998640"/>
            <a:chOff x="5235480" y="2333160"/>
            <a:chExt cx="3911400" cy="998640"/>
          </a:xfrm>
        </p:grpSpPr>
        <p:grpSp>
          <p:nvGrpSpPr>
            <p:cNvPr id="283" name=""/>
            <p:cNvGrpSpPr/>
            <p:nvPr/>
          </p:nvGrpSpPr>
          <p:grpSpPr>
            <a:xfrm>
              <a:off x="5235480" y="2477880"/>
              <a:ext cx="3911400" cy="853920"/>
              <a:chOff x="5235480" y="2477880"/>
              <a:chExt cx="3911400" cy="853920"/>
            </a:xfrm>
          </p:grpSpPr>
          <p:sp>
            <p:nvSpPr>
              <p:cNvPr id="284" name=""/>
              <p:cNvSpPr/>
              <p:nvPr/>
            </p:nvSpPr>
            <p:spPr>
              <a:xfrm>
                <a:off x="5235480" y="2963880"/>
                <a:ext cx="685800" cy="304560"/>
              </a:xfrm>
              <a:custGeom>
                <a:avLst/>
                <a:gdLst/>
                <a:ahLst/>
                <a:rect l="l" t="t" r="r" b="b"/>
                <a:pathLst>
                  <a:path w="432" h="816">
                    <a:moveTo>
                      <a:pt x="0" y="0"/>
                    </a:moveTo>
                    <a:cubicBezTo>
                      <a:pt x="92" y="16"/>
                      <a:pt x="184" y="32"/>
                      <a:pt x="240" y="96"/>
                    </a:cubicBezTo>
                    <a:cubicBezTo>
                      <a:pt x="296" y="160"/>
                      <a:pt x="304" y="264"/>
                      <a:pt x="336" y="384"/>
                    </a:cubicBezTo>
                    <a:cubicBezTo>
                      <a:pt x="368" y="504"/>
                      <a:pt x="400" y="660"/>
                      <a:pt x="432" y="816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94240" y="2477880"/>
                <a:ext cx="3752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Verdana"/>
                  </a:rPr>
                  <a:t>Récupérer une implant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Verdana"/>
                  </a:rPr>
                  <a:t>service=(Service)bc.getService (sr)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Verdana"/>
                  </a:rPr>
                  <a:t>        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424480" y="2333160"/>
              <a:ext cx="304560" cy="152280"/>
              <a:chOff x="5424480" y="2333160"/>
              <a:chExt cx="304560" cy="152280"/>
            </a:xfrm>
          </p:grpSpPr>
          <p:sp>
            <p:nvSpPr>
              <p:cNvPr id="287" name=""/>
              <p:cNvSpPr/>
              <p:nvPr/>
            </p:nvSpPr>
            <p:spPr>
              <a:xfrm>
                <a:off x="5424480" y="2409840"/>
                <a:ext cx="15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200000">
                <a:off x="5578200" y="2334600"/>
                <a:ext cx="152280" cy="149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5235480" y="2331720"/>
            <a:ext cx="3911400" cy="935280"/>
            <a:chOff x="5235480" y="2331720"/>
            <a:chExt cx="3911400" cy="935280"/>
          </a:xfrm>
        </p:grpSpPr>
        <p:grpSp>
          <p:nvGrpSpPr>
            <p:cNvPr id="290" name=""/>
            <p:cNvGrpSpPr/>
            <p:nvPr/>
          </p:nvGrpSpPr>
          <p:grpSpPr>
            <a:xfrm>
              <a:off x="5235480" y="2331720"/>
              <a:ext cx="3911400" cy="935280"/>
              <a:chOff x="5235480" y="2331720"/>
              <a:chExt cx="3911400" cy="9352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5235480" y="2476440"/>
                <a:ext cx="3911400" cy="790560"/>
                <a:chOff x="5235480" y="2476440"/>
                <a:chExt cx="3911400" cy="7905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235480" y="2962440"/>
                  <a:ext cx="685800" cy="304560"/>
                </a:xfrm>
                <a:custGeom>
                  <a:avLst/>
                  <a:gdLst/>
                  <a:ahLst/>
                  <a:rect l="l" t="t" r="r" b="b"/>
                  <a:pathLst>
                    <a:path w="432" h="816">
                      <a:moveTo>
                        <a:pt x="0" y="0"/>
                      </a:moveTo>
                      <a:cubicBezTo>
                        <a:pt x="92" y="16"/>
                        <a:pt x="184" y="32"/>
                        <a:pt x="240" y="96"/>
                      </a:cubicBezTo>
                      <a:cubicBezTo>
                        <a:pt x="296" y="160"/>
                        <a:pt x="304" y="264"/>
                        <a:pt x="336" y="384"/>
                      </a:cubicBezTo>
                      <a:cubicBezTo>
                        <a:pt x="368" y="504"/>
                        <a:pt x="400" y="660"/>
                        <a:pt x="432" y="816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82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394240" y="2476440"/>
                  <a:ext cx="375264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t">
                  <a:spAutoFit/>
                </a:bodyPr>
                <a:p>
                  <a:pPr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Verdana"/>
                    </a:rPr>
                    <a:t>L ’interface est elle disponible ?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Verdana"/>
                    </a:rPr>
                    <a:t>sr=bc.getServiceReference(« test.Service »);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424480" y="2331720"/>
                <a:ext cx="304560" cy="152280"/>
                <a:chOff x="5424480" y="2331720"/>
                <a:chExt cx="304560" cy="1522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424480" y="2408400"/>
                  <a:ext cx="155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16200000">
                  <a:off x="5578200" y="2333160"/>
                  <a:ext cx="152280" cy="1490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7" name=""/>
            <p:cNvSpPr/>
            <p:nvPr/>
          </p:nvSpPr>
          <p:spPr>
            <a:xfrm>
              <a:off x="5736600" y="2954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5400" y="1090440"/>
            <a:ext cx="4219560" cy="1393560"/>
            <a:chOff x="1895400" y="1090440"/>
            <a:chExt cx="4219560" cy="1393560"/>
          </a:xfrm>
        </p:grpSpPr>
        <p:sp>
          <p:nvSpPr>
            <p:cNvPr id="299" name=""/>
            <p:cNvSpPr/>
            <p:nvPr/>
          </p:nvSpPr>
          <p:spPr>
            <a:xfrm>
              <a:off x="1895400" y="1090440"/>
              <a:ext cx="4219560" cy="1382760"/>
            </a:xfrm>
            <a:custGeom>
              <a:avLst/>
              <a:gdLst/>
              <a:ahLst/>
              <a:rect l="l" t="t" r="r" b="b"/>
              <a:pathLst>
                <a:path w="2658" h="871">
                  <a:moveTo>
                    <a:pt x="2379" y="823"/>
                  </a:moveTo>
                  <a:cubicBezTo>
                    <a:pt x="2415" y="819"/>
                    <a:pt x="2561" y="871"/>
                    <a:pt x="2597" y="797"/>
                  </a:cubicBezTo>
                  <a:cubicBezTo>
                    <a:pt x="2633" y="723"/>
                    <a:pt x="2603" y="495"/>
                    <a:pt x="2595" y="377"/>
                  </a:cubicBezTo>
                  <a:cubicBezTo>
                    <a:pt x="2587" y="259"/>
                    <a:pt x="2658" y="146"/>
                    <a:pt x="2547" y="89"/>
                  </a:cubicBezTo>
                  <a:cubicBezTo>
                    <a:pt x="2436" y="32"/>
                    <a:pt x="2204" y="48"/>
                    <a:pt x="1931" y="33"/>
                  </a:cubicBezTo>
                  <a:cubicBezTo>
                    <a:pt x="1658" y="18"/>
                    <a:pt x="1180" y="0"/>
                    <a:pt x="907" y="1"/>
                  </a:cubicBezTo>
                  <a:cubicBezTo>
                    <a:pt x="634" y="2"/>
                    <a:pt x="436" y="12"/>
                    <a:pt x="291" y="41"/>
                  </a:cubicBezTo>
                  <a:cubicBezTo>
                    <a:pt x="146" y="70"/>
                    <a:pt x="70" y="114"/>
                    <a:pt x="35" y="177"/>
                  </a:cubicBezTo>
                  <a:cubicBezTo>
                    <a:pt x="0" y="240"/>
                    <a:pt x="51" y="361"/>
                    <a:pt x="83" y="417"/>
                  </a:cubicBezTo>
                  <a:cubicBezTo>
                    <a:pt x="115" y="473"/>
                    <a:pt x="187" y="497"/>
                    <a:pt x="227" y="513"/>
                  </a:cubicBezTo>
                  <a:cubicBezTo>
                    <a:pt x="267" y="529"/>
                    <a:pt x="295" y="521"/>
                    <a:pt x="323" y="513"/>
                  </a:cubicBezTo>
                </a:path>
              </a:pathLst>
            </a:custGeom>
            <a:noFill/>
            <a:ln w="1908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5418000" y="2331720"/>
              <a:ext cx="304560" cy="152280"/>
              <a:chOff x="5418000" y="2331720"/>
              <a:chExt cx="304560" cy="152280"/>
            </a:xfrm>
          </p:grpSpPr>
          <p:sp>
            <p:nvSpPr>
              <p:cNvPr id="301" name=""/>
              <p:cNvSpPr/>
              <p:nvPr/>
            </p:nvSpPr>
            <p:spPr>
              <a:xfrm>
                <a:off x="5418000" y="2408400"/>
                <a:ext cx="15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6200000">
                <a:off x="5571720" y="2333160"/>
                <a:ext cx="152280" cy="149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4952880" y="1600200"/>
            <a:ext cx="460440" cy="131616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55B-14DA-49D7-8938-B72228A7A4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/>
          </p:nvPr>
        </p:nvSpPr>
        <p:spPr>
          <a:xfrm>
            <a:off x="412920" y="1238400"/>
            <a:ext cx="8564400" cy="13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stener invoqués avant BundleLis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s bloquent le passage à l'état sui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title"/>
          </p:nvPr>
        </p:nvSpPr>
        <p:spPr>
          <a:xfrm>
            <a:off x="1173240" y="11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ynchronousBundleListen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863640" y="3592440"/>
            <a:ext cx="6889680" cy="3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SynchronousBundleListener extends BundleListener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8B8-5263-4109-95A7-3334627FE6A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Service Referen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2203200" y="1550520"/>
            <a:ext cx="3749400" cy="177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ServiceReferen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undle getBund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Object getProperty(String ke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tring[] getPropertyKey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undle[] getUsingBundle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DDD-FCC1-4AA1-A2D8-3EEFA7580FB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Bund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98280" y="1238400"/>
            <a:ext cx="9012240" cy="478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Bund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ublic static final int ACTIVE, INSTALLED, RESOLVED, STARTING, STOPPING, UNINSTALL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long getBundleId();  /* unique (même après suppression), persistant (aussi si update)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Dictionnary getHeaders() throws SecurityException; /* Manifes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tring getLocation() throws SecurityException; /* start file://…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erviceReference[] getRegisteredServices() throws IllegalStateException; /*null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URL getResource(String name) throws IllegalStateExcepti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erviceReference[] getServicesInUse() throws IllegalStateException; /*services utilisés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 getStat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oolean hasPermission(Object permission) thows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start() throws BundleException, IllegalStateException, Security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stop() throws BundleException, IllegalStateException, Security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uninstall() throws BundleException, IllegalStateException, Security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update() throws BundleException, IllegalStateException, Security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void update(InputStream in) throws Bundl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150-59A1-4EEA-9253-0344401205E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nstantes (1/2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8280" y="1238400"/>
            <a:ext cx="9012240" cy="478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ublic interface Constants { //toutes static final String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ACTIVATOR;  //Bundle-Activator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CATEGORY;  //Bundle-Category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CLASSPATH; //Bundle-ClassPath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CONTACTADDRESS; //Bundle-ContactAddress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COPYRIGHT; //Bundle-Copyright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DESCRIPTION; //Bundle-Description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DOCURL; //Bundle-DocURL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NAME; //Bundle-Name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NATIVECODE; //Bundle-NativeCode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NATIVECODE_LANGUAGE; //language (Bundle-NativeCode: http.so; osname=Lin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NATIVECODE_OSVERSION; //osversion (;osversion="2.34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NATIVECOE_PROCESSOR; ///processor (;processor=x8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UPDATELOCATION; //Bundle-UpdateLocation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VENDOR; //Bundle-Vendor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NDLE_VERSION;//Bundle-Version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PORT_PACKAGE;//Export-Package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PORT_SERVICE;//Export-Service (Bundle::getHeaders()) /****** INFORMATIF !! *****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E33-52A0-46E2-9CCC-D8FC0369269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nstantes (2/2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98280" y="1238400"/>
            <a:ext cx="9012240" cy="44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ublic interface Constants { //toutes static final String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RAMEWORK_OS_NAME; //BundleContext::getProperty(String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RAMEWORK_OS_VERSION; //BundleContext::getProperty(String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RAMEWORK_PROCESSOR; //BundleContext::getProperty(String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RAMEWORK_VENDOR; //BundleContext::getProperty(String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RAMEWORK_VERSION; //BundleContext::getProperty(String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MPORT_PACKAGE; //Import-Package (Bundle::getHeader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MPORT_SERVICE; //Import-Service (Bundle::getHeaders()) /****** INFORMATIF !!! *****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BJECT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CKAGE_SPECIFICATION_VERSION; //Import-Package: org.osgi.framework; specification-           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version="1.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RVICE_DESCRIPTION; //service.description, dans Dictionnaire de register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RVICE_ID; //service.id, attribué par le framework (valeur non persistante sur plusieurs lanc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RVICE_PID; //service.pid fournie par le dictionnaire (unique et persiste sur les lanc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RVICE_RANKING; // Utilisé pour sélectionner le meilleur service pour la même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RVICE_VENDOR; // service.vendor (Dictionnaire registerServ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YSTEM_BUNDLE_LOCATIO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AF4-FCE1-4B4C-82C4-2CDDA9DE1FD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framework" descr=""/>
          <p:cNvPicPr/>
          <p:nvPr/>
        </p:nvPicPr>
        <p:blipFill>
          <a:blip r:embed="rId1"/>
          <a:stretch/>
        </p:blipFill>
        <p:spPr>
          <a:xfrm>
            <a:off x="188136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3CF-44EE-4E65-A2CC-F6DBCA8D382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12280" y="2195280"/>
            <a:ext cx="847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f 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n passe aux services standards…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 92/28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6F0-D13B-4AF0-82A1-850882C6776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6035760" y="3924360"/>
            <a:ext cx="2962080" cy="2469960"/>
          </a:xfrm>
          <a:prstGeom prst="roundRect">
            <a:avLst>
              <a:gd name="adj" fmla="val 6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659480" y="2619360"/>
            <a:ext cx="3809880" cy="1279440"/>
          </a:xfrm>
          <a:prstGeom prst="roundRect">
            <a:avLst>
              <a:gd name="adj" fmla="val 12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4343400" y="3060720"/>
            <a:ext cx="366480" cy="214200"/>
            <a:chOff x="4343400" y="3060720"/>
            <a:chExt cx="366480" cy="214200"/>
          </a:xfrm>
        </p:grpSpPr>
        <p:sp>
          <p:nvSpPr>
            <p:cNvPr id="1209" name=""/>
            <p:cNvSpPr/>
            <p:nvPr/>
          </p:nvSpPr>
          <p:spPr>
            <a:xfrm>
              <a:off x="4343400" y="3060720"/>
              <a:ext cx="214920" cy="2142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570920" y="3173760"/>
              <a:ext cx="13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6095880" y="3490920"/>
            <a:ext cx="789120" cy="1584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200320" y="3173400"/>
            <a:ext cx="2057400" cy="14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6932520" y="3384720"/>
            <a:ext cx="334800" cy="212400"/>
            <a:chOff x="6932520" y="3384720"/>
            <a:chExt cx="334800" cy="212400"/>
          </a:xfrm>
        </p:grpSpPr>
        <p:sp>
          <p:nvSpPr>
            <p:cNvPr id="1215" name=""/>
            <p:cNvSpPr/>
            <p:nvPr/>
          </p:nvSpPr>
          <p:spPr>
            <a:xfrm>
              <a:off x="7058880" y="3488400"/>
              <a:ext cx="208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932520" y="3384720"/>
              <a:ext cx="150120" cy="212400"/>
            </a:xfrm>
            <a:custGeom>
              <a:avLst/>
              <a:gdLst/>
              <a:ahLst/>
              <a:rect l="l" t="t" r="r" b="b"/>
              <a:pathLst>
                <a:path w="421" h="596">
                  <a:moveTo>
                    <a:pt x="420" y="0"/>
                  </a:moveTo>
                  <a:lnTo>
                    <a:pt x="173" y="0"/>
                  </a:lnTo>
                  <a:lnTo>
                    <a:pt x="0" y="297"/>
                  </a:lnTo>
                  <a:lnTo>
                    <a:pt x="173" y="595"/>
                  </a:lnTo>
                  <a:lnTo>
                    <a:pt x="420" y="595"/>
                  </a:lnTo>
                  <a:lnTo>
                    <a:pt x="420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1905120" y="3048120"/>
            <a:ext cx="377640" cy="214200"/>
            <a:chOff x="1905120" y="3048120"/>
            <a:chExt cx="377640" cy="214200"/>
          </a:xfrm>
        </p:grpSpPr>
        <p:sp>
          <p:nvSpPr>
            <p:cNvPr id="1218" name=""/>
            <p:cNvSpPr/>
            <p:nvPr/>
          </p:nvSpPr>
          <p:spPr>
            <a:xfrm>
              <a:off x="1905120" y="3151080"/>
              <a:ext cx="164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2068560" y="3048120"/>
              <a:ext cx="214200" cy="214200"/>
              <a:chOff x="2068560" y="3048120"/>
              <a:chExt cx="214200" cy="214200"/>
            </a:xfrm>
          </p:grpSpPr>
          <p:sp>
            <p:nvSpPr>
              <p:cNvPr id="1220" name=""/>
              <p:cNvSpPr/>
              <p:nvPr/>
            </p:nvSpPr>
            <p:spPr>
              <a:xfrm>
                <a:off x="2068560" y="3048120"/>
                <a:ext cx="106920" cy="214200"/>
              </a:xfrm>
              <a:custGeom>
                <a:avLst/>
                <a:gdLst/>
                <a:ahLst/>
                <a:rect l="l" t="t" r="r" b="b"/>
                <a:pathLst>
                  <a:path w="301" h="600">
                    <a:moveTo>
                      <a:pt x="300" y="0"/>
                    </a:moveTo>
                    <a:lnTo>
                      <a:pt x="285" y="0"/>
                    </a:lnTo>
                    <a:lnTo>
                      <a:pt x="270" y="2"/>
                    </a:lnTo>
                    <a:lnTo>
                      <a:pt x="255" y="3"/>
                    </a:lnTo>
                    <a:lnTo>
                      <a:pt x="240" y="6"/>
                    </a:lnTo>
                    <a:lnTo>
                      <a:pt x="225" y="10"/>
                    </a:lnTo>
                    <a:lnTo>
                      <a:pt x="210" y="14"/>
                    </a:lnTo>
                    <a:lnTo>
                      <a:pt x="196" y="19"/>
                    </a:lnTo>
                    <a:lnTo>
                      <a:pt x="182" y="24"/>
                    </a:lnTo>
                    <a:lnTo>
                      <a:pt x="168" y="31"/>
                    </a:lnTo>
                    <a:lnTo>
                      <a:pt x="154" y="38"/>
                    </a:lnTo>
                    <a:lnTo>
                      <a:pt x="141" y="45"/>
                    </a:lnTo>
                    <a:lnTo>
                      <a:pt x="129" y="54"/>
                    </a:lnTo>
                    <a:lnTo>
                      <a:pt x="116" y="63"/>
                    </a:lnTo>
                    <a:lnTo>
                      <a:pt x="105" y="72"/>
                    </a:lnTo>
                    <a:lnTo>
                      <a:pt x="93" y="83"/>
                    </a:lnTo>
                    <a:lnTo>
                      <a:pt x="83" y="93"/>
                    </a:lnTo>
                    <a:lnTo>
                      <a:pt x="72" y="105"/>
                    </a:lnTo>
                    <a:lnTo>
                      <a:pt x="63" y="116"/>
                    </a:lnTo>
                    <a:lnTo>
                      <a:pt x="54" y="129"/>
                    </a:lnTo>
                    <a:lnTo>
                      <a:pt x="45" y="141"/>
                    </a:lnTo>
                    <a:lnTo>
                      <a:pt x="38" y="154"/>
                    </a:lnTo>
                    <a:lnTo>
                      <a:pt x="31" y="168"/>
                    </a:lnTo>
                    <a:lnTo>
                      <a:pt x="24" y="182"/>
                    </a:lnTo>
                    <a:lnTo>
                      <a:pt x="19" y="196"/>
                    </a:lnTo>
                    <a:lnTo>
                      <a:pt x="14" y="210"/>
                    </a:lnTo>
                    <a:lnTo>
                      <a:pt x="10" y="225"/>
                    </a:lnTo>
                    <a:lnTo>
                      <a:pt x="6" y="240"/>
                    </a:lnTo>
                    <a:lnTo>
                      <a:pt x="3" y="255"/>
                    </a:lnTo>
                    <a:lnTo>
                      <a:pt x="2" y="270"/>
                    </a:lnTo>
                    <a:lnTo>
                      <a:pt x="0" y="285"/>
                    </a:lnTo>
                    <a:lnTo>
                      <a:pt x="0" y="300"/>
                    </a:lnTo>
                    <a:lnTo>
                      <a:pt x="0" y="314"/>
                    </a:lnTo>
                    <a:lnTo>
                      <a:pt x="2" y="329"/>
                    </a:lnTo>
                    <a:lnTo>
                      <a:pt x="3" y="344"/>
                    </a:lnTo>
                    <a:lnTo>
                      <a:pt x="6" y="359"/>
                    </a:lnTo>
                    <a:lnTo>
                      <a:pt x="10" y="374"/>
                    </a:lnTo>
                    <a:lnTo>
                      <a:pt x="14" y="389"/>
                    </a:lnTo>
                    <a:lnTo>
                      <a:pt x="19" y="403"/>
                    </a:lnTo>
                    <a:lnTo>
                      <a:pt x="24" y="417"/>
                    </a:lnTo>
                    <a:lnTo>
                      <a:pt x="31" y="431"/>
                    </a:lnTo>
                    <a:lnTo>
                      <a:pt x="38" y="445"/>
                    </a:lnTo>
                    <a:lnTo>
                      <a:pt x="45" y="458"/>
                    </a:lnTo>
                    <a:lnTo>
                      <a:pt x="54" y="470"/>
                    </a:lnTo>
                    <a:lnTo>
                      <a:pt x="63" y="483"/>
                    </a:lnTo>
                    <a:lnTo>
                      <a:pt x="72" y="494"/>
                    </a:lnTo>
                    <a:lnTo>
                      <a:pt x="83" y="506"/>
                    </a:lnTo>
                    <a:lnTo>
                      <a:pt x="93" y="516"/>
                    </a:lnTo>
                    <a:lnTo>
                      <a:pt x="105" y="527"/>
                    </a:lnTo>
                    <a:lnTo>
                      <a:pt x="116" y="536"/>
                    </a:lnTo>
                    <a:lnTo>
                      <a:pt x="129" y="545"/>
                    </a:lnTo>
                    <a:lnTo>
                      <a:pt x="141" y="554"/>
                    </a:lnTo>
                    <a:lnTo>
                      <a:pt x="154" y="561"/>
                    </a:lnTo>
                    <a:lnTo>
                      <a:pt x="168" y="568"/>
                    </a:lnTo>
                    <a:lnTo>
                      <a:pt x="182" y="575"/>
                    </a:lnTo>
                    <a:lnTo>
                      <a:pt x="196" y="580"/>
                    </a:lnTo>
                    <a:lnTo>
                      <a:pt x="210" y="585"/>
                    </a:lnTo>
                    <a:lnTo>
                      <a:pt x="225" y="589"/>
                    </a:lnTo>
                    <a:lnTo>
                      <a:pt x="240" y="593"/>
                    </a:lnTo>
                    <a:lnTo>
                      <a:pt x="255" y="596"/>
                    </a:lnTo>
                    <a:lnTo>
                      <a:pt x="270" y="597"/>
                    </a:lnTo>
                    <a:lnTo>
                      <a:pt x="285" y="599"/>
                    </a:lnTo>
                    <a:lnTo>
                      <a:pt x="300" y="599"/>
                    </a:lnTo>
                    <a:lnTo>
                      <a:pt x="300" y="449"/>
                    </a:lnTo>
                    <a:lnTo>
                      <a:pt x="292" y="449"/>
                    </a:lnTo>
                    <a:lnTo>
                      <a:pt x="285" y="448"/>
                    </a:lnTo>
                    <a:lnTo>
                      <a:pt x="277" y="447"/>
                    </a:lnTo>
                    <a:lnTo>
                      <a:pt x="270" y="446"/>
                    </a:lnTo>
                    <a:lnTo>
                      <a:pt x="262" y="444"/>
                    </a:lnTo>
                    <a:lnTo>
                      <a:pt x="255" y="442"/>
                    </a:lnTo>
                    <a:lnTo>
                      <a:pt x="248" y="440"/>
                    </a:lnTo>
                    <a:lnTo>
                      <a:pt x="241" y="437"/>
                    </a:lnTo>
                    <a:lnTo>
                      <a:pt x="234" y="434"/>
                    </a:lnTo>
                    <a:lnTo>
                      <a:pt x="227" y="430"/>
                    </a:lnTo>
                    <a:lnTo>
                      <a:pt x="221" y="426"/>
                    </a:lnTo>
                    <a:lnTo>
                      <a:pt x="214" y="422"/>
                    </a:lnTo>
                    <a:lnTo>
                      <a:pt x="208" y="418"/>
                    </a:lnTo>
                    <a:lnTo>
                      <a:pt x="202" y="413"/>
                    </a:lnTo>
                    <a:lnTo>
                      <a:pt x="197" y="408"/>
                    </a:lnTo>
                    <a:lnTo>
                      <a:pt x="191" y="402"/>
                    </a:lnTo>
                    <a:lnTo>
                      <a:pt x="186" y="397"/>
                    </a:lnTo>
                    <a:lnTo>
                      <a:pt x="181" y="391"/>
                    </a:lnTo>
                    <a:lnTo>
                      <a:pt x="177" y="385"/>
                    </a:lnTo>
                    <a:lnTo>
                      <a:pt x="173" y="378"/>
                    </a:lnTo>
                    <a:lnTo>
                      <a:pt x="169" y="372"/>
                    </a:lnTo>
                    <a:lnTo>
                      <a:pt x="165" y="365"/>
                    </a:lnTo>
                    <a:lnTo>
                      <a:pt x="162" y="358"/>
                    </a:lnTo>
                    <a:lnTo>
                      <a:pt x="159" y="351"/>
                    </a:lnTo>
                    <a:lnTo>
                      <a:pt x="157" y="344"/>
                    </a:lnTo>
                    <a:lnTo>
                      <a:pt x="155" y="337"/>
                    </a:lnTo>
                    <a:lnTo>
                      <a:pt x="153" y="329"/>
                    </a:lnTo>
                    <a:lnTo>
                      <a:pt x="152" y="322"/>
                    </a:lnTo>
                    <a:lnTo>
                      <a:pt x="151" y="314"/>
                    </a:lnTo>
                    <a:lnTo>
                      <a:pt x="150" y="307"/>
                    </a:lnTo>
                    <a:lnTo>
                      <a:pt x="150" y="300"/>
                    </a:lnTo>
                    <a:lnTo>
                      <a:pt x="150" y="292"/>
                    </a:lnTo>
                    <a:lnTo>
                      <a:pt x="151" y="285"/>
                    </a:lnTo>
                    <a:lnTo>
                      <a:pt x="152" y="277"/>
                    </a:lnTo>
                    <a:lnTo>
                      <a:pt x="153" y="270"/>
                    </a:lnTo>
                    <a:lnTo>
                      <a:pt x="155" y="262"/>
                    </a:lnTo>
                    <a:lnTo>
                      <a:pt x="157" y="255"/>
                    </a:lnTo>
                    <a:lnTo>
                      <a:pt x="159" y="248"/>
                    </a:lnTo>
                    <a:lnTo>
                      <a:pt x="162" y="241"/>
                    </a:lnTo>
                    <a:lnTo>
                      <a:pt x="165" y="234"/>
                    </a:lnTo>
                    <a:lnTo>
                      <a:pt x="169" y="227"/>
                    </a:lnTo>
                    <a:lnTo>
                      <a:pt x="173" y="221"/>
                    </a:lnTo>
                    <a:lnTo>
                      <a:pt x="177" y="214"/>
                    </a:lnTo>
                    <a:lnTo>
                      <a:pt x="181" y="208"/>
                    </a:lnTo>
                    <a:lnTo>
                      <a:pt x="186" y="202"/>
                    </a:lnTo>
                    <a:lnTo>
                      <a:pt x="191" y="197"/>
                    </a:lnTo>
                    <a:lnTo>
                      <a:pt x="197" y="191"/>
                    </a:lnTo>
                    <a:lnTo>
                      <a:pt x="202" y="186"/>
                    </a:lnTo>
                    <a:lnTo>
                      <a:pt x="208" y="181"/>
                    </a:lnTo>
                    <a:lnTo>
                      <a:pt x="214" y="177"/>
                    </a:lnTo>
                    <a:lnTo>
                      <a:pt x="221" y="173"/>
                    </a:lnTo>
                    <a:lnTo>
                      <a:pt x="227" y="169"/>
                    </a:lnTo>
                    <a:lnTo>
                      <a:pt x="234" y="165"/>
                    </a:lnTo>
                    <a:lnTo>
                      <a:pt x="241" y="162"/>
                    </a:lnTo>
                    <a:lnTo>
                      <a:pt x="248" y="159"/>
                    </a:lnTo>
                    <a:lnTo>
                      <a:pt x="255" y="157"/>
                    </a:lnTo>
                    <a:lnTo>
                      <a:pt x="262" y="155"/>
                    </a:lnTo>
                    <a:lnTo>
                      <a:pt x="270" y="153"/>
                    </a:lnTo>
                    <a:lnTo>
                      <a:pt x="277" y="152"/>
                    </a:lnTo>
                    <a:lnTo>
                      <a:pt x="285" y="151"/>
                    </a:lnTo>
                    <a:lnTo>
                      <a:pt x="292" y="150"/>
                    </a:lnTo>
                    <a:lnTo>
                      <a:pt x="300" y="150"/>
                    </a:lnTo>
                    <a:lnTo>
                      <a:pt x="300" y="0"/>
                    </a:lnTo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68560" y="3048120"/>
                <a:ext cx="214200" cy="214200"/>
              </a:xfrm>
              <a:custGeom>
                <a:avLst/>
                <a:gdLst/>
                <a:ahLst/>
                <a:rect l="l" t="t" r="r" b="b"/>
                <a:pathLst>
                  <a:path w="601" h="600">
                    <a:moveTo>
                      <a:pt x="0" y="599"/>
                    </a:moveTo>
                    <a:lnTo>
                      <a:pt x="600" y="0"/>
                    </a:lnTo>
                    <a:lnTo>
                      <a:pt x="0" y="59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2" name=""/>
          <p:cNvGrpSpPr/>
          <p:nvPr/>
        </p:nvGrpSpPr>
        <p:grpSpPr>
          <a:xfrm>
            <a:off x="4724280" y="2822400"/>
            <a:ext cx="1065240" cy="989280"/>
            <a:chOff x="4724280" y="2822400"/>
            <a:chExt cx="1065240" cy="989280"/>
          </a:xfrm>
        </p:grpSpPr>
        <p:sp>
          <p:nvSpPr>
            <p:cNvPr id="1223" name=""/>
            <p:cNvSpPr/>
            <p:nvPr/>
          </p:nvSpPr>
          <p:spPr>
            <a:xfrm>
              <a:off x="4724280" y="2822400"/>
              <a:ext cx="1065240" cy="9892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782600" y="3060000"/>
              <a:ext cx="947880" cy="5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M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5791320" y="3384720"/>
            <a:ext cx="277200" cy="214200"/>
            <a:chOff x="5791320" y="3384720"/>
            <a:chExt cx="277200" cy="214200"/>
          </a:xfrm>
        </p:grpSpPr>
        <p:sp>
          <p:nvSpPr>
            <p:cNvPr id="1226" name=""/>
            <p:cNvSpPr/>
            <p:nvPr/>
          </p:nvSpPr>
          <p:spPr>
            <a:xfrm>
              <a:off x="5791320" y="3494520"/>
              <a:ext cx="132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88880" y="3384720"/>
              <a:ext cx="179640" cy="214200"/>
            </a:xfrm>
            <a:custGeom>
              <a:avLst/>
              <a:gdLst/>
              <a:ahLst/>
              <a:rect l="l" t="t" r="r" b="b"/>
              <a:pathLst>
                <a:path w="503" h="601">
                  <a:moveTo>
                    <a:pt x="502" y="0"/>
                  </a:moveTo>
                  <a:lnTo>
                    <a:pt x="194" y="0"/>
                  </a:lnTo>
                  <a:lnTo>
                    <a:pt x="0" y="300"/>
                  </a:lnTo>
                  <a:lnTo>
                    <a:pt x="194" y="600"/>
                  </a:lnTo>
                  <a:lnTo>
                    <a:pt x="502" y="600"/>
                  </a:lnTo>
                  <a:lnTo>
                    <a:pt x="308" y="300"/>
                  </a:lnTo>
                  <a:lnTo>
                    <a:pt x="502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7162920" y="3173400"/>
            <a:ext cx="1204560" cy="609480"/>
            <a:chOff x="7162920" y="3173400"/>
            <a:chExt cx="1204560" cy="609480"/>
          </a:xfrm>
        </p:grpSpPr>
        <p:sp>
          <p:nvSpPr>
            <p:cNvPr id="1229" name=""/>
            <p:cNvSpPr/>
            <p:nvPr/>
          </p:nvSpPr>
          <p:spPr>
            <a:xfrm>
              <a:off x="7162920" y="3173400"/>
              <a:ext cx="1204560" cy="6094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230960" y="3314520"/>
              <a:ext cx="10717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Java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838080" y="2895480"/>
            <a:ext cx="1065240" cy="1522440"/>
            <a:chOff x="838080" y="2895480"/>
            <a:chExt cx="1065240" cy="1522440"/>
          </a:xfrm>
        </p:grpSpPr>
        <p:sp>
          <p:nvSpPr>
            <p:cNvPr id="1232" name=""/>
            <p:cNvSpPr/>
            <p:nvPr/>
          </p:nvSpPr>
          <p:spPr>
            <a:xfrm>
              <a:off x="838080" y="2895480"/>
              <a:ext cx="1065240" cy="1522440"/>
            </a:xfrm>
            <a:custGeom>
              <a:avLst/>
              <a:gdLst>
                <a:gd name="textAreaLeft" fmla="*/ 51840 w 1065240"/>
                <a:gd name="textAreaRight" fmla="*/ 1013400 w 1065240"/>
                <a:gd name="textAreaTop" fmla="*/ 51840 h 1522440"/>
                <a:gd name="textAreaBottom" fmla="*/ 1470600 h 1522440"/>
              </a:gdLst>
              <a:ahLst/>
              <a:rect l="textAreaLeft" t="textAreaTop" r="textAreaRight" b="textAreaBottom"/>
              <a:pathLst>
                <a:path w="21600" h="30868">
                  <a:moveTo>
                    <a:pt x="3600" y="0"/>
                  </a:moveTo>
                  <a:arcTo wR="3600" hR="3600" stAng="16200000" swAng="-5400000"/>
                  <a:lnTo>
                    <a:pt x="0" y="27268"/>
                  </a:lnTo>
                  <a:arcTo wR="3600" hR="3600" stAng="10800000" swAng="-5400000"/>
                  <a:lnTo>
                    <a:pt x="18000" y="30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96400" y="3294000"/>
              <a:ext cx="94788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m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se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1905120" y="3746520"/>
            <a:ext cx="377640" cy="214200"/>
            <a:chOff x="1905120" y="3746520"/>
            <a:chExt cx="377640" cy="214200"/>
          </a:xfrm>
        </p:grpSpPr>
        <p:sp>
          <p:nvSpPr>
            <p:cNvPr id="1235" name=""/>
            <p:cNvSpPr/>
            <p:nvPr/>
          </p:nvSpPr>
          <p:spPr>
            <a:xfrm>
              <a:off x="1905120" y="3849840"/>
              <a:ext cx="16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2068560" y="3746520"/>
              <a:ext cx="214200" cy="214200"/>
              <a:chOff x="2068560" y="3746520"/>
              <a:chExt cx="214200" cy="214200"/>
            </a:xfrm>
          </p:grpSpPr>
          <p:sp>
            <p:nvSpPr>
              <p:cNvPr id="1237" name=""/>
              <p:cNvSpPr/>
              <p:nvPr/>
            </p:nvSpPr>
            <p:spPr>
              <a:xfrm>
                <a:off x="2068560" y="3746520"/>
                <a:ext cx="106920" cy="214200"/>
              </a:xfrm>
              <a:custGeom>
                <a:avLst/>
                <a:gdLst/>
                <a:ahLst/>
                <a:rect l="l" t="t" r="r" b="b"/>
                <a:pathLst>
                  <a:path w="301" h="601">
                    <a:moveTo>
                      <a:pt x="300" y="0"/>
                    </a:moveTo>
                    <a:lnTo>
                      <a:pt x="285" y="0"/>
                    </a:lnTo>
                    <a:lnTo>
                      <a:pt x="270" y="2"/>
                    </a:lnTo>
                    <a:lnTo>
                      <a:pt x="255" y="3"/>
                    </a:lnTo>
                    <a:lnTo>
                      <a:pt x="240" y="6"/>
                    </a:lnTo>
                    <a:lnTo>
                      <a:pt x="225" y="10"/>
                    </a:lnTo>
                    <a:lnTo>
                      <a:pt x="210" y="14"/>
                    </a:lnTo>
                    <a:lnTo>
                      <a:pt x="196" y="19"/>
                    </a:lnTo>
                    <a:lnTo>
                      <a:pt x="182" y="24"/>
                    </a:lnTo>
                    <a:lnTo>
                      <a:pt x="168" y="31"/>
                    </a:lnTo>
                    <a:lnTo>
                      <a:pt x="154" y="38"/>
                    </a:lnTo>
                    <a:lnTo>
                      <a:pt x="141" y="45"/>
                    </a:lnTo>
                    <a:lnTo>
                      <a:pt x="129" y="54"/>
                    </a:lnTo>
                    <a:lnTo>
                      <a:pt x="116" y="63"/>
                    </a:lnTo>
                    <a:lnTo>
                      <a:pt x="105" y="72"/>
                    </a:lnTo>
                    <a:lnTo>
                      <a:pt x="93" y="83"/>
                    </a:lnTo>
                    <a:lnTo>
                      <a:pt x="83" y="93"/>
                    </a:lnTo>
                    <a:lnTo>
                      <a:pt x="72" y="105"/>
                    </a:lnTo>
                    <a:lnTo>
                      <a:pt x="63" y="116"/>
                    </a:lnTo>
                    <a:lnTo>
                      <a:pt x="54" y="129"/>
                    </a:lnTo>
                    <a:lnTo>
                      <a:pt x="45" y="141"/>
                    </a:lnTo>
                    <a:lnTo>
                      <a:pt x="38" y="154"/>
                    </a:lnTo>
                    <a:lnTo>
                      <a:pt x="31" y="168"/>
                    </a:lnTo>
                    <a:lnTo>
                      <a:pt x="24" y="182"/>
                    </a:lnTo>
                    <a:lnTo>
                      <a:pt x="19" y="196"/>
                    </a:lnTo>
                    <a:lnTo>
                      <a:pt x="14" y="210"/>
                    </a:lnTo>
                    <a:lnTo>
                      <a:pt x="10" y="225"/>
                    </a:lnTo>
                    <a:lnTo>
                      <a:pt x="6" y="240"/>
                    </a:lnTo>
                    <a:lnTo>
                      <a:pt x="3" y="255"/>
                    </a:lnTo>
                    <a:lnTo>
                      <a:pt x="2" y="270"/>
                    </a:lnTo>
                    <a:lnTo>
                      <a:pt x="0" y="285"/>
                    </a:lnTo>
                    <a:lnTo>
                      <a:pt x="0" y="300"/>
                    </a:lnTo>
                    <a:lnTo>
                      <a:pt x="0" y="315"/>
                    </a:lnTo>
                    <a:lnTo>
                      <a:pt x="2" y="330"/>
                    </a:lnTo>
                    <a:lnTo>
                      <a:pt x="3" y="345"/>
                    </a:lnTo>
                    <a:lnTo>
                      <a:pt x="6" y="360"/>
                    </a:lnTo>
                    <a:lnTo>
                      <a:pt x="10" y="375"/>
                    </a:lnTo>
                    <a:lnTo>
                      <a:pt x="14" y="390"/>
                    </a:lnTo>
                    <a:lnTo>
                      <a:pt x="19" y="404"/>
                    </a:lnTo>
                    <a:lnTo>
                      <a:pt x="24" y="418"/>
                    </a:lnTo>
                    <a:lnTo>
                      <a:pt x="31" y="432"/>
                    </a:lnTo>
                    <a:lnTo>
                      <a:pt x="38" y="446"/>
                    </a:lnTo>
                    <a:lnTo>
                      <a:pt x="45" y="459"/>
                    </a:lnTo>
                    <a:lnTo>
                      <a:pt x="54" y="471"/>
                    </a:lnTo>
                    <a:lnTo>
                      <a:pt x="63" y="484"/>
                    </a:lnTo>
                    <a:lnTo>
                      <a:pt x="72" y="495"/>
                    </a:lnTo>
                    <a:lnTo>
                      <a:pt x="83" y="507"/>
                    </a:lnTo>
                    <a:lnTo>
                      <a:pt x="93" y="517"/>
                    </a:lnTo>
                    <a:lnTo>
                      <a:pt x="105" y="528"/>
                    </a:lnTo>
                    <a:lnTo>
                      <a:pt x="116" y="537"/>
                    </a:lnTo>
                    <a:lnTo>
                      <a:pt x="129" y="546"/>
                    </a:lnTo>
                    <a:lnTo>
                      <a:pt x="141" y="555"/>
                    </a:lnTo>
                    <a:lnTo>
                      <a:pt x="154" y="562"/>
                    </a:lnTo>
                    <a:lnTo>
                      <a:pt x="168" y="569"/>
                    </a:lnTo>
                    <a:lnTo>
                      <a:pt x="182" y="576"/>
                    </a:lnTo>
                    <a:lnTo>
                      <a:pt x="196" y="581"/>
                    </a:lnTo>
                    <a:lnTo>
                      <a:pt x="210" y="586"/>
                    </a:lnTo>
                    <a:lnTo>
                      <a:pt x="225" y="590"/>
                    </a:lnTo>
                    <a:lnTo>
                      <a:pt x="240" y="594"/>
                    </a:lnTo>
                    <a:lnTo>
                      <a:pt x="255" y="597"/>
                    </a:lnTo>
                    <a:lnTo>
                      <a:pt x="270" y="598"/>
                    </a:lnTo>
                    <a:lnTo>
                      <a:pt x="285" y="600"/>
                    </a:lnTo>
                    <a:lnTo>
                      <a:pt x="300" y="600"/>
                    </a:lnTo>
                    <a:lnTo>
                      <a:pt x="300" y="450"/>
                    </a:lnTo>
                    <a:lnTo>
                      <a:pt x="292" y="450"/>
                    </a:lnTo>
                    <a:lnTo>
                      <a:pt x="285" y="449"/>
                    </a:lnTo>
                    <a:lnTo>
                      <a:pt x="277" y="448"/>
                    </a:lnTo>
                    <a:lnTo>
                      <a:pt x="270" y="447"/>
                    </a:lnTo>
                    <a:lnTo>
                      <a:pt x="262" y="445"/>
                    </a:lnTo>
                    <a:lnTo>
                      <a:pt x="255" y="443"/>
                    </a:lnTo>
                    <a:lnTo>
                      <a:pt x="248" y="441"/>
                    </a:lnTo>
                    <a:lnTo>
                      <a:pt x="241" y="438"/>
                    </a:lnTo>
                    <a:lnTo>
                      <a:pt x="234" y="435"/>
                    </a:lnTo>
                    <a:lnTo>
                      <a:pt x="227" y="431"/>
                    </a:lnTo>
                    <a:lnTo>
                      <a:pt x="221" y="427"/>
                    </a:lnTo>
                    <a:lnTo>
                      <a:pt x="214" y="423"/>
                    </a:lnTo>
                    <a:lnTo>
                      <a:pt x="208" y="419"/>
                    </a:lnTo>
                    <a:lnTo>
                      <a:pt x="202" y="414"/>
                    </a:lnTo>
                    <a:lnTo>
                      <a:pt x="197" y="409"/>
                    </a:lnTo>
                    <a:lnTo>
                      <a:pt x="191" y="403"/>
                    </a:lnTo>
                    <a:lnTo>
                      <a:pt x="186" y="398"/>
                    </a:lnTo>
                    <a:lnTo>
                      <a:pt x="181" y="392"/>
                    </a:lnTo>
                    <a:lnTo>
                      <a:pt x="177" y="386"/>
                    </a:lnTo>
                    <a:lnTo>
                      <a:pt x="173" y="379"/>
                    </a:lnTo>
                    <a:lnTo>
                      <a:pt x="169" y="373"/>
                    </a:lnTo>
                    <a:lnTo>
                      <a:pt x="165" y="366"/>
                    </a:lnTo>
                    <a:lnTo>
                      <a:pt x="162" y="359"/>
                    </a:lnTo>
                    <a:lnTo>
                      <a:pt x="159" y="352"/>
                    </a:lnTo>
                    <a:lnTo>
                      <a:pt x="157" y="345"/>
                    </a:lnTo>
                    <a:lnTo>
                      <a:pt x="155" y="338"/>
                    </a:lnTo>
                    <a:lnTo>
                      <a:pt x="153" y="330"/>
                    </a:lnTo>
                    <a:lnTo>
                      <a:pt x="152" y="323"/>
                    </a:lnTo>
                    <a:lnTo>
                      <a:pt x="151" y="315"/>
                    </a:lnTo>
                    <a:lnTo>
                      <a:pt x="150" y="308"/>
                    </a:lnTo>
                    <a:lnTo>
                      <a:pt x="150" y="300"/>
                    </a:lnTo>
                    <a:lnTo>
                      <a:pt x="150" y="292"/>
                    </a:lnTo>
                    <a:lnTo>
                      <a:pt x="151" y="285"/>
                    </a:lnTo>
                    <a:lnTo>
                      <a:pt x="152" y="277"/>
                    </a:lnTo>
                    <a:lnTo>
                      <a:pt x="153" y="270"/>
                    </a:lnTo>
                    <a:lnTo>
                      <a:pt x="155" y="262"/>
                    </a:lnTo>
                    <a:lnTo>
                      <a:pt x="157" y="255"/>
                    </a:lnTo>
                    <a:lnTo>
                      <a:pt x="159" y="248"/>
                    </a:lnTo>
                    <a:lnTo>
                      <a:pt x="162" y="241"/>
                    </a:lnTo>
                    <a:lnTo>
                      <a:pt x="165" y="234"/>
                    </a:lnTo>
                    <a:lnTo>
                      <a:pt x="169" y="227"/>
                    </a:lnTo>
                    <a:lnTo>
                      <a:pt x="173" y="221"/>
                    </a:lnTo>
                    <a:lnTo>
                      <a:pt x="177" y="214"/>
                    </a:lnTo>
                    <a:lnTo>
                      <a:pt x="181" y="208"/>
                    </a:lnTo>
                    <a:lnTo>
                      <a:pt x="186" y="202"/>
                    </a:lnTo>
                    <a:lnTo>
                      <a:pt x="191" y="197"/>
                    </a:lnTo>
                    <a:lnTo>
                      <a:pt x="197" y="191"/>
                    </a:lnTo>
                    <a:lnTo>
                      <a:pt x="202" y="186"/>
                    </a:lnTo>
                    <a:lnTo>
                      <a:pt x="208" y="181"/>
                    </a:lnTo>
                    <a:lnTo>
                      <a:pt x="214" y="177"/>
                    </a:lnTo>
                    <a:lnTo>
                      <a:pt x="221" y="173"/>
                    </a:lnTo>
                    <a:lnTo>
                      <a:pt x="227" y="169"/>
                    </a:lnTo>
                    <a:lnTo>
                      <a:pt x="234" y="165"/>
                    </a:lnTo>
                    <a:lnTo>
                      <a:pt x="241" y="162"/>
                    </a:lnTo>
                    <a:lnTo>
                      <a:pt x="248" y="159"/>
                    </a:lnTo>
                    <a:lnTo>
                      <a:pt x="255" y="157"/>
                    </a:lnTo>
                    <a:lnTo>
                      <a:pt x="262" y="155"/>
                    </a:lnTo>
                    <a:lnTo>
                      <a:pt x="270" y="153"/>
                    </a:lnTo>
                    <a:lnTo>
                      <a:pt x="277" y="152"/>
                    </a:lnTo>
                    <a:lnTo>
                      <a:pt x="285" y="151"/>
                    </a:lnTo>
                    <a:lnTo>
                      <a:pt x="292" y="150"/>
                    </a:lnTo>
                    <a:lnTo>
                      <a:pt x="300" y="150"/>
                    </a:lnTo>
                    <a:lnTo>
                      <a:pt x="300" y="0"/>
                    </a:lnTo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068560" y="3746520"/>
                <a:ext cx="214200" cy="214200"/>
              </a:xfrm>
              <a:custGeom>
                <a:avLst/>
                <a:gdLst/>
                <a:ahLst/>
                <a:rect l="l" t="t" r="r" b="b"/>
                <a:pathLst>
                  <a:path w="601" h="601">
                    <a:moveTo>
                      <a:pt x="0" y="600"/>
                    </a:moveTo>
                    <a:lnTo>
                      <a:pt x="600" y="0"/>
                    </a:lnTo>
                    <a:lnTo>
                      <a:pt x="0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9" name=""/>
          <p:cNvGrpSpPr/>
          <p:nvPr/>
        </p:nvGrpSpPr>
        <p:grpSpPr>
          <a:xfrm>
            <a:off x="1905120" y="4127400"/>
            <a:ext cx="277200" cy="214560"/>
            <a:chOff x="1905120" y="4127400"/>
            <a:chExt cx="277200" cy="214560"/>
          </a:xfrm>
        </p:grpSpPr>
        <p:sp>
          <p:nvSpPr>
            <p:cNvPr id="1240" name=""/>
            <p:cNvSpPr/>
            <p:nvPr/>
          </p:nvSpPr>
          <p:spPr>
            <a:xfrm>
              <a:off x="1905120" y="4237560"/>
              <a:ext cx="1321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002680" y="4127400"/>
              <a:ext cx="179640" cy="214560"/>
            </a:xfrm>
            <a:custGeom>
              <a:avLst/>
              <a:gdLst/>
              <a:ahLst/>
              <a:rect l="l" t="t" r="r" b="b"/>
              <a:pathLst>
                <a:path w="503" h="601">
                  <a:moveTo>
                    <a:pt x="502" y="0"/>
                  </a:moveTo>
                  <a:lnTo>
                    <a:pt x="194" y="0"/>
                  </a:lnTo>
                  <a:lnTo>
                    <a:pt x="0" y="300"/>
                  </a:lnTo>
                  <a:lnTo>
                    <a:pt x="194" y="600"/>
                  </a:lnTo>
                  <a:lnTo>
                    <a:pt x="502" y="600"/>
                  </a:lnTo>
                  <a:lnTo>
                    <a:pt x="308" y="300"/>
                  </a:lnTo>
                  <a:lnTo>
                    <a:pt x="502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4240080" y="5726160"/>
            <a:ext cx="366480" cy="214200"/>
            <a:chOff x="4240080" y="5726160"/>
            <a:chExt cx="366480" cy="214200"/>
          </a:xfrm>
        </p:grpSpPr>
        <p:sp>
          <p:nvSpPr>
            <p:cNvPr id="1243" name=""/>
            <p:cNvSpPr/>
            <p:nvPr/>
          </p:nvSpPr>
          <p:spPr>
            <a:xfrm>
              <a:off x="4240080" y="5726160"/>
              <a:ext cx="214920" cy="21420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467600" y="5839200"/>
              <a:ext cx="138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5678640" y="4361040"/>
            <a:ext cx="493200" cy="210960"/>
            <a:chOff x="5678640" y="4361040"/>
            <a:chExt cx="493200" cy="210960"/>
          </a:xfrm>
        </p:grpSpPr>
        <p:sp>
          <p:nvSpPr>
            <p:cNvPr id="1246" name=""/>
            <p:cNvSpPr/>
            <p:nvPr/>
          </p:nvSpPr>
          <p:spPr>
            <a:xfrm>
              <a:off x="5864400" y="4464000"/>
              <a:ext cx="307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78640" y="4361040"/>
              <a:ext cx="221040" cy="210960"/>
            </a:xfrm>
            <a:custGeom>
              <a:avLst/>
              <a:gdLst/>
              <a:ahLst/>
              <a:rect l="l" t="t" r="r" b="b"/>
              <a:pathLst>
                <a:path w="421" h="597">
                  <a:moveTo>
                    <a:pt x="420" y="0"/>
                  </a:moveTo>
                  <a:lnTo>
                    <a:pt x="173" y="0"/>
                  </a:lnTo>
                  <a:lnTo>
                    <a:pt x="0" y="297"/>
                  </a:lnTo>
                  <a:lnTo>
                    <a:pt x="173" y="596"/>
                  </a:lnTo>
                  <a:lnTo>
                    <a:pt x="420" y="596"/>
                  </a:lnTo>
                  <a:lnTo>
                    <a:pt x="420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4610160" y="5548320"/>
            <a:ext cx="1386000" cy="1101600"/>
            <a:chOff x="4610160" y="5548320"/>
            <a:chExt cx="1386000" cy="1101600"/>
          </a:xfrm>
        </p:grpSpPr>
        <p:sp>
          <p:nvSpPr>
            <p:cNvPr id="1249" name=""/>
            <p:cNvSpPr/>
            <p:nvPr/>
          </p:nvSpPr>
          <p:spPr>
            <a:xfrm>
              <a:off x="4610160" y="5548320"/>
              <a:ext cx="1386000" cy="1101600"/>
            </a:xfrm>
            <a:prstGeom prst="roundRect">
              <a:avLst>
                <a:gd name="adj" fmla="val 16134"/>
              </a:avLst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87560" y="5948640"/>
              <a:ext cx="1231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JMStud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5249880" y="5270400"/>
            <a:ext cx="214200" cy="277560"/>
            <a:chOff x="5249880" y="5270400"/>
            <a:chExt cx="214200" cy="277560"/>
          </a:xfrm>
        </p:grpSpPr>
        <p:sp>
          <p:nvSpPr>
            <p:cNvPr id="1252" name=""/>
            <p:cNvSpPr/>
            <p:nvPr/>
          </p:nvSpPr>
          <p:spPr>
            <a:xfrm flipV="1">
              <a:off x="5360040" y="5413320"/>
              <a:ext cx="108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49880" y="5270400"/>
              <a:ext cx="214200" cy="178920"/>
            </a:xfrm>
            <a:custGeom>
              <a:avLst/>
              <a:gdLst/>
              <a:ahLst/>
              <a:rect l="l" t="t" r="r" b="b"/>
              <a:pathLst>
                <a:path w="601" h="503">
                  <a:moveTo>
                    <a:pt x="0" y="0"/>
                  </a:moveTo>
                  <a:lnTo>
                    <a:pt x="0" y="308"/>
                  </a:lnTo>
                  <a:lnTo>
                    <a:pt x="300" y="502"/>
                  </a:lnTo>
                  <a:lnTo>
                    <a:pt x="600" y="308"/>
                  </a:lnTo>
                  <a:lnTo>
                    <a:pt x="600" y="0"/>
                  </a:lnTo>
                  <a:lnTo>
                    <a:pt x="300" y="194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7878600" y="5630760"/>
            <a:ext cx="1065240" cy="608040"/>
            <a:chOff x="7878600" y="5630760"/>
            <a:chExt cx="1065240" cy="608040"/>
          </a:xfrm>
        </p:grpSpPr>
        <p:sp>
          <p:nvSpPr>
            <p:cNvPr id="1255" name=""/>
            <p:cNvSpPr/>
            <p:nvPr/>
          </p:nvSpPr>
          <p:spPr>
            <a:xfrm>
              <a:off x="7878600" y="5630760"/>
              <a:ext cx="1065240" cy="60804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37280" y="5772240"/>
              <a:ext cx="947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JM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2209680" y="3886200"/>
            <a:ext cx="2062440" cy="1952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370480" y="4487400"/>
            <a:ext cx="279360" cy="76860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168640" y="4259160"/>
            <a:ext cx="2141280" cy="200196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457200" y="1447920"/>
            <a:ext cx="8456760" cy="1065240"/>
            <a:chOff x="457200" y="1447920"/>
            <a:chExt cx="8456760" cy="1065240"/>
          </a:xfrm>
        </p:grpSpPr>
        <p:sp>
          <p:nvSpPr>
            <p:cNvPr id="1261" name=""/>
            <p:cNvSpPr/>
            <p:nvPr/>
          </p:nvSpPr>
          <p:spPr>
            <a:xfrm>
              <a:off x="457200" y="1447920"/>
              <a:ext cx="8456760" cy="1065240"/>
            </a:xfrm>
            <a:prstGeom prst="roundRect">
              <a:avLst>
                <a:gd name="adj" fmla="val 1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57200" y="1447920"/>
              <a:ext cx="845676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4760" indent="-374760">
                <a:lnSpc>
                  <a:spcPct val="80000"/>
                </a:lnSpc>
                <a:spcBef>
                  <a:spcPts val="862"/>
                </a:spcBef>
                <a:buClr>
                  <a:srgbClr val="ff0000"/>
                </a:buClr>
                <a:buSzPct val="75000"/>
                <a:buFont typeface="Zapf Dingbats" charset="2"/>
                <a:buChar char=""/>
                <a:tabLst>
                  <a:tab algn="l" pos="374760"/>
                  <a:tab algn="l" pos="1289160"/>
                  <a:tab algn="l" pos="2203560"/>
                  <a:tab algn="l" pos="3117960"/>
                  <a:tab algn="l" pos="4032360"/>
                  <a:tab algn="l" pos="4946760"/>
                  <a:tab algn="l" pos="5861160"/>
                  <a:tab algn="l" pos="6775560"/>
                  <a:tab algn="l" pos="7689960"/>
                  <a:tab algn="l" pos="8604360"/>
                  <a:tab algn="l" pos="9518760"/>
                  <a:tab algn="l" pos="10433160"/>
                </a:tabLst>
              </a:pPr>
              <a:r>
                <a:rPr b="1" lang="en-GB" sz="1600" spc="-1" strike="noStrike">
                  <a:solidFill>
                    <a:srgbClr val="99ccff"/>
                  </a:solidFill>
                  <a:latin typeface="Arial"/>
                  <a:ea typeface="HG Mincho Light J"/>
                </a:rPr>
                <a:t>Recuperer une image à l'aide d'une webc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74760" indent="-374760">
                <a:lnSpc>
                  <a:spcPct val="80000"/>
                </a:lnSpc>
                <a:spcBef>
                  <a:spcPts val="862"/>
                </a:spcBef>
                <a:buClr>
                  <a:srgbClr val="ff0000"/>
                </a:buClr>
                <a:buSzPct val="75000"/>
                <a:buFont typeface="Zapf Dingbats" charset="2"/>
                <a:buChar char=""/>
                <a:tabLst>
                  <a:tab algn="l" pos="374760"/>
                  <a:tab algn="l" pos="1289160"/>
                  <a:tab algn="l" pos="2203560"/>
                  <a:tab algn="l" pos="3117960"/>
                  <a:tab algn="l" pos="4032360"/>
                  <a:tab algn="l" pos="4946760"/>
                  <a:tab algn="l" pos="5861160"/>
                  <a:tab algn="l" pos="6775560"/>
                  <a:tab algn="l" pos="7689960"/>
                  <a:tab algn="l" pos="8604360"/>
                  <a:tab algn="l" pos="9518760"/>
                  <a:tab algn="l" pos="10433160"/>
                </a:tabLst>
              </a:pPr>
              <a:r>
                <a:rPr b="1" lang="en-GB" sz="1600" spc="-1" strike="noStrike">
                  <a:solidFill>
                    <a:srgbClr val="99ccff"/>
                  </a:solidFill>
                  <a:latin typeface="Arial"/>
                  <a:ea typeface="HG Mincho Light J"/>
                </a:rPr>
                <a:t>Envoi de l'image par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5905440" y="3024360"/>
            <a:ext cx="137160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 Narrow"/>
                <a:ea typeface="HG Mincho Light J"/>
              </a:rPr>
              <a:t>javax.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4278240" y="6130800"/>
            <a:ext cx="334800" cy="212760"/>
            <a:chOff x="4278240" y="6130800"/>
            <a:chExt cx="334800" cy="212760"/>
          </a:xfrm>
        </p:grpSpPr>
        <p:sp>
          <p:nvSpPr>
            <p:cNvPr id="1265" name=""/>
            <p:cNvSpPr/>
            <p:nvPr/>
          </p:nvSpPr>
          <p:spPr>
            <a:xfrm>
              <a:off x="4404600" y="6234480"/>
              <a:ext cx="208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278240" y="6130800"/>
              <a:ext cx="150120" cy="212760"/>
            </a:xfrm>
            <a:custGeom>
              <a:avLst/>
              <a:gdLst/>
              <a:ahLst/>
              <a:rect l="l" t="t" r="r" b="b"/>
              <a:pathLst>
                <a:path w="421" h="597">
                  <a:moveTo>
                    <a:pt x="420" y="0"/>
                  </a:moveTo>
                  <a:lnTo>
                    <a:pt x="173" y="0"/>
                  </a:lnTo>
                  <a:lnTo>
                    <a:pt x="0" y="297"/>
                  </a:lnTo>
                  <a:lnTo>
                    <a:pt x="173" y="596"/>
                  </a:lnTo>
                  <a:lnTo>
                    <a:pt x="420" y="596"/>
                  </a:lnTo>
                  <a:lnTo>
                    <a:pt x="420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2200320" y="3481560"/>
            <a:ext cx="2146320" cy="144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20720" y="6288120"/>
            <a:ext cx="15238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 Narrow"/>
                <a:ea typeface="HG Mincho Light J"/>
              </a:rPr>
              <a:t>Package import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1914480" y="3378240"/>
            <a:ext cx="277560" cy="214200"/>
            <a:chOff x="1914480" y="3378240"/>
            <a:chExt cx="277560" cy="214200"/>
          </a:xfrm>
        </p:grpSpPr>
        <p:sp>
          <p:nvSpPr>
            <p:cNvPr id="1270" name=""/>
            <p:cNvSpPr/>
            <p:nvPr/>
          </p:nvSpPr>
          <p:spPr>
            <a:xfrm>
              <a:off x="1914480" y="3488400"/>
              <a:ext cx="1328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012400" y="3378240"/>
              <a:ext cx="179640" cy="214200"/>
            </a:xfrm>
            <a:custGeom>
              <a:avLst/>
              <a:gdLst/>
              <a:ahLst/>
              <a:rect l="l" t="t" r="r" b="b"/>
              <a:pathLst>
                <a:path w="503" h="601">
                  <a:moveTo>
                    <a:pt x="502" y="0"/>
                  </a:moveTo>
                  <a:lnTo>
                    <a:pt x="194" y="0"/>
                  </a:lnTo>
                  <a:lnTo>
                    <a:pt x="0" y="300"/>
                  </a:lnTo>
                  <a:lnTo>
                    <a:pt x="194" y="600"/>
                  </a:lnTo>
                  <a:lnTo>
                    <a:pt x="502" y="600"/>
                  </a:lnTo>
                  <a:lnTo>
                    <a:pt x="308" y="300"/>
                  </a:lnTo>
                  <a:lnTo>
                    <a:pt x="502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4373640" y="3379680"/>
            <a:ext cx="334440" cy="212760"/>
            <a:chOff x="4373640" y="3379680"/>
            <a:chExt cx="334440" cy="212760"/>
          </a:xfrm>
        </p:grpSpPr>
        <p:sp>
          <p:nvSpPr>
            <p:cNvPr id="1273" name=""/>
            <p:cNvSpPr/>
            <p:nvPr/>
          </p:nvSpPr>
          <p:spPr>
            <a:xfrm>
              <a:off x="4500000" y="3483360"/>
              <a:ext cx="20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373640" y="3379680"/>
              <a:ext cx="149760" cy="212760"/>
            </a:xfrm>
            <a:custGeom>
              <a:avLst/>
              <a:gdLst/>
              <a:ahLst/>
              <a:rect l="l" t="t" r="r" b="b"/>
              <a:pathLst>
                <a:path w="421" h="597">
                  <a:moveTo>
                    <a:pt x="420" y="0"/>
                  </a:moveTo>
                  <a:lnTo>
                    <a:pt x="173" y="0"/>
                  </a:lnTo>
                  <a:lnTo>
                    <a:pt x="0" y="297"/>
                  </a:lnTo>
                  <a:lnTo>
                    <a:pt x="173" y="596"/>
                  </a:lnTo>
                  <a:lnTo>
                    <a:pt x="420" y="596"/>
                  </a:lnTo>
                  <a:lnTo>
                    <a:pt x="420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1992240" y="2760840"/>
            <a:ext cx="261144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3deb3d"/>
                </a:solidFill>
                <a:latin typeface="Arial Narrow"/>
                <a:ea typeface="HG Mincho Light J"/>
              </a:rPr>
              <a:t>insa.mailclient.ifc.SendMailIf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395440" y="3483000"/>
            <a:ext cx="159084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 Narrow"/>
                <a:ea typeface="HG Mincho Light J"/>
              </a:rPr>
              <a:t>insa.mailclient.if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rot="2700000">
            <a:off x="2272680" y="5146920"/>
            <a:ext cx="127764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 Narrow"/>
                <a:ea typeface="HG Mincho Light J"/>
              </a:rPr>
              <a:t>insa.webcam.if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rot="2700000">
            <a:off x="2357640" y="4650480"/>
            <a:ext cx="236196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3deb3d"/>
                </a:solidFill>
                <a:latin typeface="Arial Narrow"/>
                <a:ea typeface="HG Mincho Light J"/>
              </a:rPr>
              <a:t>insa.webcam.ifc.JMStudioIf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6080040" y="3962520"/>
            <a:ext cx="1387440" cy="1103040"/>
            <a:chOff x="6080040" y="3962520"/>
            <a:chExt cx="1387440" cy="1103040"/>
          </a:xfrm>
        </p:grpSpPr>
        <p:sp>
          <p:nvSpPr>
            <p:cNvPr id="1280" name=""/>
            <p:cNvSpPr/>
            <p:nvPr/>
          </p:nvSpPr>
          <p:spPr>
            <a:xfrm>
              <a:off x="6080040" y="3962520"/>
              <a:ext cx="1387440" cy="1103040"/>
            </a:xfrm>
            <a:prstGeom prst="roundRect">
              <a:avLst>
                <a:gd name="adj" fmla="val 16134"/>
              </a:avLst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157800" y="4256280"/>
              <a:ext cx="1233720" cy="5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Webc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det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4800600" y="4495680"/>
            <a:ext cx="12445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 Narrow"/>
                <a:ea typeface="HG Mincho Light J"/>
              </a:rPr>
              <a:t>jmap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 Narrow"/>
                <a:ea typeface="HG Mincho Light J"/>
              </a:rPr>
              <a:t>javax.me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8286840" y="5268960"/>
            <a:ext cx="212760" cy="334440"/>
            <a:chOff x="8286840" y="5268960"/>
            <a:chExt cx="212760" cy="334440"/>
          </a:xfrm>
        </p:grpSpPr>
        <p:sp>
          <p:nvSpPr>
            <p:cNvPr id="1284" name=""/>
            <p:cNvSpPr/>
            <p:nvPr/>
          </p:nvSpPr>
          <p:spPr>
            <a:xfrm>
              <a:off x="8390880" y="5396040"/>
              <a:ext cx="1080" cy="20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286840" y="5268960"/>
              <a:ext cx="212760" cy="149040"/>
            </a:xfrm>
            <a:custGeom>
              <a:avLst/>
              <a:gdLst/>
              <a:ahLst/>
              <a:rect l="l" t="t" r="r" b="b"/>
              <a:pathLst>
                <a:path w="597" h="421">
                  <a:moveTo>
                    <a:pt x="0" y="420"/>
                  </a:moveTo>
                  <a:lnTo>
                    <a:pt x="0" y="173"/>
                  </a:lnTo>
                  <a:lnTo>
                    <a:pt x="297" y="0"/>
                  </a:lnTo>
                  <a:lnTo>
                    <a:pt x="596" y="173"/>
                  </a:lnTo>
                  <a:lnTo>
                    <a:pt x="596" y="420"/>
                  </a:lnTo>
                  <a:lnTo>
                    <a:pt x="0" y="42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7404120" y="4425840"/>
            <a:ext cx="277560" cy="214560"/>
            <a:chOff x="7404120" y="4425840"/>
            <a:chExt cx="277560" cy="214560"/>
          </a:xfrm>
        </p:grpSpPr>
        <p:sp>
          <p:nvSpPr>
            <p:cNvPr id="1287" name=""/>
            <p:cNvSpPr/>
            <p:nvPr/>
          </p:nvSpPr>
          <p:spPr>
            <a:xfrm>
              <a:off x="7404120" y="4536000"/>
              <a:ext cx="132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501680" y="4425840"/>
              <a:ext cx="180000" cy="214560"/>
            </a:xfrm>
            <a:custGeom>
              <a:avLst/>
              <a:gdLst/>
              <a:ahLst/>
              <a:rect l="l" t="t" r="r" b="b"/>
              <a:pathLst>
                <a:path w="503" h="601">
                  <a:moveTo>
                    <a:pt x="502" y="0"/>
                  </a:moveTo>
                  <a:lnTo>
                    <a:pt x="194" y="0"/>
                  </a:lnTo>
                  <a:lnTo>
                    <a:pt x="0" y="300"/>
                  </a:lnTo>
                  <a:lnTo>
                    <a:pt x="194" y="600"/>
                  </a:lnTo>
                  <a:lnTo>
                    <a:pt x="502" y="600"/>
                  </a:lnTo>
                  <a:lnTo>
                    <a:pt x="308" y="300"/>
                  </a:lnTo>
                  <a:lnTo>
                    <a:pt x="502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"/>
          <p:cNvSpPr/>
          <p:nvPr/>
        </p:nvSpPr>
        <p:spPr>
          <a:xfrm flipH="1" flipV="1">
            <a:off x="7683120" y="4548240"/>
            <a:ext cx="692280" cy="66528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rot="2700000">
            <a:off x="7575840" y="4750920"/>
            <a:ext cx="2178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 Narrow"/>
                <a:ea typeface="HG Mincho Light J"/>
              </a:rPr>
              <a:t>jmap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 Narrow"/>
                <a:ea typeface="HG Mincho Light J"/>
              </a:rPr>
              <a:t>javax.me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>
            <a:off x="6713640" y="5308560"/>
            <a:ext cx="1041120" cy="973080"/>
          </a:xfrm>
          <a:prstGeom prst="rect">
            <a:avLst/>
          </a:prstGeom>
          <a:ln w="0">
            <a:noFill/>
          </a:ln>
        </p:spPr>
      </p:pic>
      <p:grpSp>
        <p:nvGrpSpPr>
          <p:cNvPr id="1292" name=""/>
          <p:cNvGrpSpPr/>
          <p:nvPr/>
        </p:nvGrpSpPr>
        <p:grpSpPr>
          <a:xfrm>
            <a:off x="311040" y="5227560"/>
            <a:ext cx="1933560" cy="1266840"/>
            <a:chOff x="311040" y="5227560"/>
            <a:chExt cx="1933560" cy="1266840"/>
          </a:xfrm>
        </p:grpSpPr>
        <p:grpSp>
          <p:nvGrpSpPr>
            <p:cNvPr id="1293" name=""/>
            <p:cNvGrpSpPr/>
            <p:nvPr/>
          </p:nvGrpSpPr>
          <p:grpSpPr>
            <a:xfrm>
              <a:off x="341280" y="5582520"/>
              <a:ext cx="366480" cy="180720"/>
              <a:chOff x="341280" y="5582520"/>
              <a:chExt cx="366480" cy="180720"/>
            </a:xfrm>
          </p:grpSpPr>
          <p:sp>
            <p:nvSpPr>
              <p:cNvPr id="1294" name=""/>
              <p:cNvSpPr/>
              <p:nvPr/>
            </p:nvSpPr>
            <p:spPr>
              <a:xfrm>
                <a:off x="341280" y="5582520"/>
                <a:ext cx="214920" cy="18072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68800" y="5676840"/>
                <a:ext cx="13896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341280" y="6094800"/>
              <a:ext cx="334800" cy="179280"/>
              <a:chOff x="341280" y="6094800"/>
              <a:chExt cx="334800" cy="179280"/>
            </a:xfrm>
          </p:grpSpPr>
          <p:sp>
            <p:nvSpPr>
              <p:cNvPr id="1297" name=""/>
              <p:cNvSpPr/>
              <p:nvPr/>
            </p:nvSpPr>
            <p:spPr>
              <a:xfrm>
                <a:off x="467640" y="6181200"/>
                <a:ext cx="2084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41280" y="6094800"/>
                <a:ext cx="150120" cy="179280"/>
              </a:xfrm>
              <a:custGeom>
                <a:avLst/>
                <a:gdLst/>
                <a:ahLst/>
                <a:rect l="l" t="t" r="r" b="b"/>
                <a:pathLst>
                  <a:path w="421" h="502">
                    <a:moveTo>
                      <a:pt x="420" y="0"/>
                    </a:moveTo>
                    <a:lnTo>
                      <a:pt x="173" y="0"/>
                    </a:lnTo>
                    <a:lnTo>
                      <a:pt x="0" y="250"/>
                    </a:lnTo>
                    <a:lnTo>
                      <a:pt x="173" y="501"/>
                    </a:lnTo>
                    <a:lnTo>
                      <a:pt x="420" y="501"/>
                    </a:lnTo>
                    <a:lnTo>
                      <a:pt x="420" y="0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417600" y="5838120"/>
              <a:ext cx="377640" cy="180720"/>
              <a:chOff x="417600" y="5838120"/>
              <a:chExt cx="377640" cy="180720"/>
            </a:xfrm>
          </p:grpSpPr>
          <p:sp>
            <p:nvSpPr>
              <p:cNvPr id="1300" name=""/>
              <p:cNvSpPr/>
              <p:nvPr/>
            </p:nvSpPr>
            <p:spPr>
              <a:xfrm>
                <a:off x="417600" y="5924880"/>
                <a:ext cx="164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581040" y="5838120"/>
                <a:ext cx="214200" cy="180720"/>
                <a:chOff x="581040" y="5838120"/>
                <a:chExt cx="214200" cy="18072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581040" y="5838120"/>
                  <a:ext cx="106920" cy="180720"/>
                </a:xfrm>
                <a:custGeom>
                  <a:avLst/>
                  <a:gdLst/>
                  <a:ahLst/>
                  <a:rect l="l" t="t" r="r" b="b"/>
                  <a:pathLst>
                    <a:path w="301" h="506">
                      <a:moveTo>
                        <a:pt x="300" y="0"/>
                      </a:moveTo>
                      <a:lnTo>
                        <a:pt x="285" y="0"/>
                      </a:lnTo>
                      <a:lnTo>
                        <a:pt x="270" y="2"/>
                      </a:lnTo>
                      <a:lnTo>
                        <a:pt x="255" y="3"/>
                      </a:lnTo>
                      <a:lnTo>
                        <a:pt x="240" y="5"/>
                      </a:lnTo>
                      <a:lnTo>
                        <a:pt x="225" y="8"/>
                      </a:lnTo>
                      <a:lnTo>
                        <a:pt x="210" y="12"/>
                      </a:lnTo>
                      <a:lnTo>
                        <a:pt x="196" y="16"/>
                      </a:lnTo>
                      <a:lnTo>
                        <a:pt x="182" y="20"/>
                      </a:lnTo>
                      <a:lnTo>
                        <a:pt x="168" y="26"/>
                      </a:lnTo>
                      <a:lnTo>
                        <a:pt x="154" y="32"/>
                      </a:lnTo>
                      <a:lnTo>
                        <a:pt x="141" y="38"/>
                      </a:lnTo>
                      <a:lnTo>
                        <a:pt x="129" y="45"/>
                      </a:lnTo>
                      <a:lnTo>
                        <a:pt x="116" y="53"/>
                      </a:lnTo>
                      <a:lnTo>
                        <a:pt x="105" y="61"/>
                      </a:lnTo>
                      <a:lnTo>
                        <a:pt x="93" y="70"/>
                      </a:lnTo>
                      <a:lnTo>
                        <a:pt x="83" y="78"/>
                      </a:lnTo>
                      <a:lnTo>
                        <a:pt x="72" y="88"/>
                      </a:lnTo>
                      <a:lnTo>
                        <a:pt x="63" y="98"/>
                      </a:lnTo>
                      <a:lnTo>
                        <a:pt x="54" y="109"/>
                      </a:lnTo>
                      <a:lnTo>
                        <a:pt x="45" y="119"/>
                      </a:lnTo>
                      <a:lnTo>
                        <a:pt x="38" y="130"/>
                      </a:lnTo>
                      <a:lnTo>
                        <a:pt x="31" y="141"/>
                      </a:lnTo>
                      <a:lnTo>
                        <a:pt x="24" y="153"/>
                      </a:lnTo>
                      <a:lnTo>
                        <a:pt x="19" y="165"/>
                      </a:lnTo>
                      <a:lnTo>
                        <a:pt x="14" y="177"/>
                      </a:lnTo>
                      <a:lnTo>
                        <a:pt x="10" y="189"/>
                      </a:lnTo>
                      <a:lnTo>
                        <a:pt x="6" y="202"/>
                      </a:lnTo>
                      <a:lnTo>
                        <a:pt x="3" y="214"/>
                      </a:lnTo>
                      <a:lnTo>
                        <a:pt x="2" y="227"/>
                      </a:lnTo>
                      <a:lnTo>
                        <a:pt x="0" y="240"/>
                      </a:lnTo>
                      <a:lnTo>
                        <a:pt x="0" y="252"/>
                      </a:lnTo>
                      <a:lnTo>
                        <a:pt x="0" y="265"/>
                      </a:lnTo>
                      <a:lnTo>
                        <a:pt x="2" y="278"/>
                      </a:lnTo>
                      <a:lnTo>
                        <a:pt x="3" y="290"/>
                      </a:lnTo>
                      <a:lnTo>
                        <a:pt x="6" y="303"/>
                      </a:lnTo>
                      <a:lnTo>
                        <a:pt x="10" y="315"/>
                      </a:lnTo>
                      <a:lnTo>
                        <a:pt x="14" y="328"/>
                      </a:lnTo>
                      <a:lnTo>
                        <a:pt x="19" y="340"/>
                      </a:lnTo>
                      <a:lnTo>
                        <a:pt x="24" y="352"/>
                      </a:lnTo>
                      <a:lnTo>
                        <a:pt x="31" y="363"/>
                      </a:lnTo>
                      <a:lnTo>
                        <a:pt x="38" y="375"/>
                      </a:lnTo>
                      <a:lnTo>
                        <a:pt x="45" y="386"/>
                      </a:lnTo>
                      <a:lnTo>
                        <a:pt x="54" y="396"/>
                      </a:lnTo>
                      <a:lnTo>
                        <a:pt x="63" y="407"/>
                      </a:lnTo>
                      <a:lnTo>
                        <a:pt x="72" y="416"/>
                      </a:lnTo>
                      <a:lnTo>
                        <a:pt x="83" y="426"/>
                      </a:lnTo>
                      <a:lnTo>
                        <a:pt x="93" y="435"/>
                      </a:lnTo>
                      <a:lnTo>
                        <a:pt x="105" y="444"/>
                      </a:lnTo>
                      <a:lnTo>
                        <a:pt x="116" y="452"/>
                      </a:lnTo>
                      <a:lnTo>
                        <a:pt x="129" y="459"/>
                      </a:lnTo>
                      <a:lnTo>
                        <a:pt x="141" y="467"/>
                      </a:lnTo>
                      <a:lnTo>
                        <a:pt x="154" y="473"/>
                      </a:lnTo>
                      <a:lnTo>
                        <a:pt x="168" y="479"/>
                      </a:lnTo>
                      <a:lnTo>
                        <a:pt x="182" y="485"/>
                      </a:lnTo>
                      <a:lnTo>
                        <a:pt x="196" y="489"/>
                      </a:lnTo>
                      <a:lnTo>
                        <a:pt x="210" y="493"/>
                      </a:lnTo>
                      <a:lnTo>
                        <a:pt x="225" y="496"/>
                      </a:lnTo>
                      <a:lnTo>
                        <a:pt x="240" y="500"/>
                      </a:lnTo>
                      <a:lnTo>
                        <a:pt x="255" y="502"/>
                      </a:lnTo>
                      <a:lnTo>
                        <a:pt x="270" y="503"/>
                      </a:lnTo>
                      <a:lnTo>
                        <a:pt x="285" y="505"/>
                      </a:lnTo>
                      <a:lnTo>
                        <a:pt x="300" y="505"/>
                      </a:lnTo>
                      <a:lnTo>
                        <a:pt x="300" y="379"/>
                      </a:lnTo>
                      <a:lnTo>
                        <a:pt x="292" y="379"/>
                      </a:lnTo>
                      <a:lnTo>
                        <a:pt x="285" y="378"/>
                      </a:lnTo>
                      <a:lnTo>
                        <a:pt x="277" y="377"/>
                      </a:lnTo>
                      <a:lnTo>
                        <a:pt x="270" y="376"/>
                      </a:lnTo>
                      <a:lnTo>
                        <a:pt x="262" y="374"/>
                      </a:lnTo>
                      <a:lnTo>
                        <a:pt x="255" y="373"/>
                      </a:lnTo>
                      <a:lnTo>
                        <a:pt x="248" y="371"/>
                      </a:lnTo>
                      <a:lnTo>
                        <a:pt x="241" y="368"/>
                      </a:lnTo>
                      <a:lnTo>
                        <a:pt x="234" y="366"/>
                      </a:lnTo>
                      <a:lnTo>
                        <a:pt x="227" y="363"/>
                      </a:lnTo>
                      <a:lnTo>
                        <a:pt x="221" y="359"/>
                      </a:lnTo>
                      <a:lnTo>
                        <a:pt x="214" y="356"/>
                      </a:lnTo>
                      <a:lnTo>
                        <a:pt x="208" y="352"/>
                      </a:lnTo>
                      <a:lnTo>
                        <a:pt x="202" y="348"/>
                      </a:lnTo>
                      <a:lnTo>
                        <a:pt x="197" y="344"/>
                      </a:lnTo>
                      <a:lnTo>
                        <a:pt x="191" y="339"/>
                      </a:lnTo>
                      <a:lnTo>
                        <a:pt x="186" y="335"/>
                      </a:lnTo>
                      <a:lnTo>
                        <a:pt x="181" y="330"/>
                      </a:lnTo>
                      <a:lnTo>
                        <a:pt x="177" y="325"/>
                      </a:lnTo>
                      <a:lnTo>
                        <a:pt x="173" y="319"/>
                      </a:lnTo>
                      <a:lnTo>
                        <a:pt x="169" y="314"/>
                      </a:lnTo>
                      <a:lnTo>
                        <a:pt x="165" y="308"/>
                      </a:lnTo>
                      <a:lnTo>
                        <a:pt x="162" y="302"/>
                      </a:lnTo>
                      <a:lnTo>
                        <a:pt x="159" y="296"/>
                      </a:lnTo>
                      <a:lnTo>
                        <a:pt x="157" y="290"/>
                      </a:lnTo>
                      <a:lnTo>
                        <a:pt x="155" y="284"/>
                      </a:lnTo>
                      <a:lnTo>
                        <a:pt x="153" y="278"/>
                      </a:lnTo>
                      <a:lnTo>
                        <a:pt x="152" y="272"/>
                      </a:lnTo>
                      <a:lnTo>
                        <a:pt x="151" y="265"/>
                      </a:lnTo>
                      <a:lnTo>
                        <a:pt x="150" y="259"/>
                      </a:lnTo>
                      <a:lnTo>
                        <a:pt x="150" y="252"/>
                      </a:lnTo>
                      <a:lnTo>
                        <a:pt x="150" y="246"/>
                      </a:lnTo>
                      <a:lnTo>
                        <a:pt x="151" y="240"/>
                      </a:lnTo>
                      <a:lnTo>
                        <a:pt x="152" y="233"/>
                      </a:lnTo>
                      <a:lnTo>
                        <a:pt x="153" y="227"/>
                      </a:lnTo>
                      <a:lnTo>
                        <a:pt x="155" y="220"/>
                      </a:lnTo>
                      <a:lnTo>
                        <a:pt x="157" y="214"/>
                      </a:lnTo>
                      <a:lnTo>
                        <a:pt x="159" y="209"/>
                      </a:lnTo>
                      <a:lnTo>
                        <a:pt x="162" y="203"/>
                      </a:lnTo>
                      <a:lnTo>
                        <a:pt x="165" y="197"/>
                      </a:lnTo>
                      <a:lnTo>
                        <a:pt x="169" y="191"/>
                      </a:lnTo>
                      <a:lnTo>
                        <a:pt x="173" y="186"/>
                      </a:lnTo>
                      <a:lnTo>
                        <a:pt x="177" y="180"/>
                      </a:lnTo>
                      <a:lnTo>
                        <a:pt x="181" y="175"/>
                      </a:lnTo>
                      <a:lnTo>
                        <a:pt x="186" y="170"/>
                      </a:lnTo>
                      <a:lnTo>
                        <a:pt x="191" y="166"/>
                      </a:lnTo>
                      <a:lnTo>
                        <a:pt x="197" y="161"/>
                      </a:lnTo>
                      <a:lnTo>
                        <a:pt x="202" y="156"/>
                      </a:lnTo>
                      <a:lnTo>
                        <a:pt x="208" y="152"/>
                      </a:lnTo>
                      <a:lnTo>
                        <a:pt x="214" y="149"/>
                      </a:lnTo>
                      <a:lnTo>
                        <a:pt x="221" y="146"/>
                      </a:lnTo>
                      <a:lnTo>
                        <a:pt x="227" y="142"/>
                      </a:lnTo>
                      <a:lnTo>
                        <a:pt x="234" y="139"/>
                      </a:lnTo>
                      <a:lnTo>
                        <a:pt x="241" y="136"/>
                      </a:lnTo>
                      <a:lnTo>
                        <a:pt x="248" y="134"/>
                      </a:lnTo>
                      <a:lnTo>
                        <a:pt x="255" y="132"/>
                      </a:lnTo>
                      <a:lnTo>
                        <a:pt x="262" y="130"/>
                      </a:lnTo>
                      <a:lnTo>
                        <a:pt x="270" y="129"/>
                      </a:lnTo>
                      <a:lnTo>
                        <a:pt x="277" y="128"/>
                      </a:lnTo>
                      <a:lnTo>
                        <a:pt x="285" y="127"/>
                      </a:lnTo>
                      <a:lnTo>
                        <a:pt x="292" y="126"/>
                      </a:lnTo>
                      <a:lnTo>
                        <a:pt x="300" y="126"/>
                      </a:lnTo>
                      <a:lnTo>
                        <a:pt x="300" y="0"/>
                      </a:lnTo>
                    </a:path>
                  </a:pathLst>
                </a:custGeom>
                <a:solidFill>
                  <a:srgbClr val="00ff00"/>
                </a:solidFill>
                <a:ln w="19080">
                  <a:solidFill>
                    <a:srgbClr val="000000"/>
                  </a:solidFill>
                  <a:round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81040" y="583812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601" h="506">
                      <a:moveTo>
                        <a:pt x="0" y="505"/>
                      </a:moveTo>
                      <a:lnTo>
                        <a:pt x="600" y="0"/>
                      </a:lnTo>
                      <a:lnTo>
                        <a:pt x="0" y="505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"/>
            <p:cNvGrpSpPr/>
            <p:nvPr/>
          </p:nvGrpSpPr>
          <p:grpSpPr>
            <a:xfrm>
              <a:off x="417600" y="6313680"/>
              <a:ext cx="277200" cy="180720"/>
              <a:chOff x="417600" y="6313680"/>
              <a:chExt cx="277200" cy="180720"/>
            </a:xfrm>
          </p:grpSpPr>
          <p:sp>
            <p:nvSpPr>
              <p:cNvPr id="1305" name=""/>
              <p:cNvSpPr/>
              <p:nvPr/>
            </p:nvSpPr>
            <p:spPr>
              <a:xfrm>
                <a:off x="417600" y="6406200"/>
                <a:ext cx="1321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15160" y="6313680"/>
                <a:ext cx="179640" cy="180720"/>
              </a:xfrm>
              <a:custGeom>
                <a:avLst/>
                <a:gdLst/>
                <a:ahLst/>
                <a:rect l="l" t="t" r="r" b="b"/>
                <a:pathLst>
                  <a:path w="503" h="505">
                    <a:moveTo>
                      <a:pt x="502" y="0"/>
                    </a:moveTo>
                    <a:lnTo>
                      <a:pt x="194" y="0"/>
                    </a:lnTo>
                    <a:lnTo>
                      <a:pt x="0" y="252"/>
                    </a:lnTo>
                    <a:lnTo>
                      <a:pt x="194" y="504"/>
                    </a:lnTo>
                    <a:lnTo>
                      <a:pt x="502" y="504"/>
                    </a:lnTo>
                    <a:lnTo>
                      <a:pt x="308" y="252"/>
                    </a:lnTo>
                    <a:lnTo>
                      <a:pt x="502" y="0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720720" y="5517720"/>
              <a:ext cx="12952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6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Service fourn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20720" y="5774760"/>
              <a:ext cx="12952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6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Service requ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0720" y="6030000"/>
              <a:ext cx="15238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6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Package expor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1040" y="5230440"/>
              <a:ext cx="444600" cy="237600"/>
            </a:xfrm>
            <a:prstGeom prst="roundRect">
              <a:avLst>
                <a:gd name="adj" fmla="val 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87320" y="5227560"/>
              <a:ext cx="11937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6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Arial Narrow"/>
                  <a:ea typeface="HG Mincho Light J"/>
                </a:rPr>
                <a:t>Bund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E0A-CABC-466B-8D0C-52805C2791DC}" type="slidenum">
              <a:t>67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9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Utiliser le service de récupération </a:t>
            </a:r>
            <a:br>
              <a:rPr sz="3600"/>
            </a:b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d'UR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bundles à réaliser : useservice.UseURL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ervice à utiliser : URL Service (cf o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putStream getURLInputStream (URL u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afficher le contenu du flu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ufferedReader br=new BufferedReader(new InputStreamReader(InputStream is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éthode readLine, renvoie null si le flux est f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de d'utilisation d'un servi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2360" y="4168800"/>
            <a:ext cx="89272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mport org.ungoverned.oscar.bundle.url.URLServi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ic void start (BundleContext bc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iceReference sr=bc.getServiceReference("org.ungoverned.oscar.bundle.url.URLServic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sr!=null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RLService urls=(URLService)bc.getService(s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urls !=null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C2F-F116-4CF2-BC06-C21D8E3FFC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132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écupérer un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560" y="1111320"/>
            <a:ext cx="870084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org.osgi.framewor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BundleContext {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erviceReference getServiceReference(String clazz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ServiceReference[] getServiceReferences(String clazz, String filter) throws InvalidSyntax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Object getService(ServiceReference reference) throws SecurityException, IllegalState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oolean ungetService(ServiceReference s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7040" y="3865680"/>
            <a:ext cx="8693280" cy="12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age org.osgi.framewor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interface ServiceReference{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ublic Bundle [] getUsingBundle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DA1-6B10-4A93-A186-0B9A289036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3580920" y="2768760"/>
            <a:ext cx="381240" cy="152280"/>
            <a:chOff x="3580920" y="2768760"/>
            <a:chExt cx="381240" cy="152280"/>
          </a:xfrm>
        </p:grpSpPr>
        <p:sp>
          <p:nvSpPr>
            <p:cNvPr id="312" name=""/>
            <p:cNvSpPr/>
            <p:nvPr/>
          </p:nvSpPr>
          <p:spPr>
            <a:xfrm flipH="1">
              <a:off x="3580560" y="276876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3560" y="2845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cénario: Mise à disposition d'un servi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3301920"/>
            <a:ext cx="5029200" cy="3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24000" y="3378240"/>
            <a:ext cx="89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3835440"/>
            <a:ext cx="5029200" cy="380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3080" y="3911760"/>
            <a:ext cx="1468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JAVA VIRTUAL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76360" y="2540160"/>
            <a:ext cx="93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undles Acti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438280" y="1854360"/>
            <a:ext cx="380880" cy="152280"/>
            <a:chOff x="2438280" y="1854360"/>
            <a:chExt cx="380880" cy="152280"/>
          </a:xfrm>
        </p:grpSpPr>
        <p:sp>
          <p:nvSpPr>
            <p:cNvPr id="321" name=""/>
            <p:cNvSpPr/>
            <p:nvPr/>
          </p:nvSpPr>
          <p:spPr>
            <a:xfrm>
              <a:off x="2438280" y="185436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07480" y="193068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276720" y="1854000"/>
            <a:ext cx="304560" cy="152280"/>
            <a:chOff x="3276720" y="1854000"/>
            <a:chExt cx="304560" cy="152280"/>
          </a:xfrm>
        </p:grpSpPr>
        <p:sp>
          <p:nvSpPr>
            <p:cNvPr id="324" name=""/>
            <p:cNvSpPr/>
            <p:nvPr/>
          </p:nvSpPr>
          <p:spPr>
            <a:xfrm>
              <a:off x="3276720" y="193068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3430440" y="1855440"/>
              <a:ext cx="15228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438280" y="2082960"/>
            <a:ext cx="380880" cy="152280"/>
            <a:chOff x="2438280" y="2082960"/>
            <a:chExt cx="380880" cy="152280"/>
          </a:xfrm>
        </p:grpSpPr>
        <p:sp>
          <p:nvSpPr>
            <p:cNvPr id="327" name=""/>
            <p:cNvSpPr/>
            <p:nvPr/>
          </p:nvSpPr>
          <p:spPr>
            <a:xfrm>
              <a:off x="2438280" y="208296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07480" y="215928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276720" y="2082600"/>
            <a:ext cx="304560" cy="152280"/>
            <a:chOff x="3276720" y="2082600"/>
            <a:chExt cx="304560" cy="152280"/>
          </a:xfrm>
        </p:grpSpPr>
        <p:sp>
          <p:nvSpPr>
            <p:cNvPr id="330" name=""/>
            <p:cNvSpPr/>
            <p:nvPr/>
          </p:nvSpPr>
          <p:spPr>
            <a:xfrm>
              <a:off x="3276720" y="215928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3430440" y="2084040"/>
              <a:ext cx="15228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438280" y="1625760"/>
            <a:ext cx="380880" cy="152280"/>
            <a:chOff x="2438280" y="1625760"/>
            <a:chExt cx="380880" cy="152280"/>
          </a:xfrm>
        </p:grpSpPr>
        <p:sp>
          <p:nvSpPr>
            <p:cNvPr id="333" name=""/>
            <p:cNvSpPr/>
            <p:nvPr/>
          </p:nvSpPr>
          <p:spPr>
            <a:xfrm>
              <a:off x="2438280" y="162576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07480" y="170208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05320" y="2387520"/>
            <a:ext cx="380880" cy="152640"/>
            <a:chOff x="3505320" y="2387520"/>
            <a:chExt cx="380880" cy="152640"/>
          </a:xfrm>
        </p:grpSpPr>
        <p:sp>
          <p:nvSpPr>
            <p:cNvPr id="336" name=""/>
            <p:cNvSpPr/>
            <p:nvPr/>
          </p:nvSpPr>
          <p:spPr>
            <a:xfrm>
              <a:off x="3505320" y="2387520"/>
              <a:ext cx="169200" cy="152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74520" y="246384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886200" y="162576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343400" y="2158920"/>
            <a:ext cx="304560" cy="152640"/>
            <a:chOff x="4343400" y="2158920"/>
            <a:chExt cx="304560" cy="152640"/>
          </a:xfrm>
        </p:grpSpPr>
        <p:sp>
          <p:nvSpPr>
            <p:cNvPr id="340" name=""/>
            <p:cNvSpPr/>
            <p:nvPr/>
          </p:nvSpPr>
          <p:spPr>
            <a:xfrm>
              <a:off x="4343400" y="223524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4497120" y="2160720"/>
              <a:ext cx="152640" cy="1490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505320" y="2146320"/>
            <a:ext cx="88920" cy="241200"/>
          </a:xfrm>
          <a:custGeom>
            <a:avLst/>
            <a:gdLst/>
            <a:ahLst/>
            <a:rect l="l" t="t" r="r" b="b"/>
            <a:pathLst>
              <a:path w="56" h="152">
                <a:moveTo>
                  <a:pt x="0" y="8"/>
                </a:moveTo>
                <a:cubicBezTo>
                  <a:pt x="20" y="4"/>
                  <a:pt x="40" y="0"/>
                  <a:pt x="48" y="8"/>
                </a:cubicBezTo>
                <a:cubicBezTo>
                  <a:pt x="56" y="16"/>
                  <a:pt x="48" y="32"/>
                  <a:pt x="48" y="56"/>
                </a:cubicBezTo>
                <a:cubicBezTo>
                  <a:pt x="48" y="80"/>
                  <a:pt x="48" y="116"/>
                  <a:pt x="48" y="152"/>
                </a:cubicBez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60440" y="1219320"/>
            <a:ext cx="2413080" cy="1015920"/>
          </a:xfrm>
          <a:custGeom>
            <a:avLst/>
            <a:gdLst/>
            <a:ahLst/>
            <a:rect l="l" t="t" r="r" b="b"/>
            <a:pathLst>
              <a:path w="1520" h="640">
                <a:moveTo>
                  <a:pt x="1456" y="640"/>
                </a:moveTo>
                <a:cubicBezTo>
                  <a:pt x="1476" y="640"/>
                  <a:pt x="1496" y="640"/>
                  <a:pt x="1504" y="592"/>
                </a:cubicBezTo>
                <a:cubicBezTo>
                  <a:pt x="1512" y="544"/>
                  <a:pt x="1520" y="432"/>
                  <a:pt x="1504" y="352"/>
                </a:cubicBezTo>
                <a:cubicBezTo>
                  <a:pt x="1488" y="272"/>
                  <a:pt x="1472" y="168"/>
                  <a:pt x="1408" y="112"/>
                </a:cubicBezTo>
                <a:cubicBezTo>
                  <a:pt x="1344" y="56"/>
                  <a:pt x="1264" y="32"/>
                  <a:pt x="1120" y="16"/>
                </a:cubicBezTo>
                <a:cubicBezTo>
                  <a:pt x="976" y="0"/>
                  <a:pt x="712" y="8"/>
                  <a:pt x="544" y="16"/>
                </a:cubicBezTo>
                <a:cubicBezTo>
                  <a:pt x="376" y="24"/>
                  <a:pt x="200" y="40"/>
                  <a:pt x="112" y="64"/>
                </a:cubicBezTo>
                <a:cubicBezTo>
                  <a:pt x="24" y="88"/>
                  <a:pt x="32" y="128"/>
                  <a:pt x="16" y="160"/>
                </a:cubicBezTo>
                <a:cubicBezTo>
                  <a:pt x="0" y="192"/>
                  <a:pt x="0" y="232"/>
                  <a:pt x="16" y="256"/>
                </a:cubicBezTo>
                <a:cubicBezTo>
                  <a:pt x="32" y="280"/>
                  <a:pt x="72" y="292"/>
                  <a:pt x="112" y="304"/>
                </a:cubicBezTo>
              </a:path>
            </a:pathLst>
          </a:custGeom>
          <a:noFill/>
          <a:ln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19520" y="162576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11280" y="914400"/>
            <a:ext cx="4406760" cy="1930320"/>
          </a:xfrm>
          <a:custGeom>
            <a:avLst/>
            <a:gdLst/>
            <a:ahLst/>
            <a:rect l="l" t="t" r="r" b="b"/>
            <a:pathLst>
              <a:path w="2776" h="1216">
                <a:moveTo>
                  <a:pt x="2600" y="592"/>
                </a:moveTo>
                <a:cubicBezTo>
                  <a:pt x="2660" y="568"/>
                  <a:pt x="2720" y="544"/>
                  <a:pt x="2744" y="496"/>
                </a:cubicBezTo>
                <a:cubicBezTo>
                  <a:pt x="2768" y="448"/>
                  <a:pt x="2776" y="368"/>
                  <a:pt x="2744" y="304"/>
                </a:cubicBezTo>
                <a:cubicBezTo>
                  <a:pt x="2712" y="240"/>
                  <a:pt x="2736" y="152"/>
                  <a:pt x="2552" y="112"/>
                </a:cubicBezTo>
                <a:cubicBezTo>
                  <a:pt x="2368" y="72"/>
                  <a:pt x="2024" y="56"/>
                  <a:pt x="1640" y="64"/>
                </a:cubicBezTo>
                <a:cubicBezTo>
                  <a:pt x="1256" y="72"/>
                  <a:pt x="496" y="0"/>
                  <a:pt x="248" y="160"/>
                </a:cubicBezTo>
                <a:cubicBezTo>
                  <a:pt x="0" y="320"/>
                  <a:pt x="96" y="848"/>
                  <a:pt x="152" y="1024"/>
                </a:cubicBezTo>
                <a:cubicBezTo>
                  <a:pt x="208" y="1200"/>
                  <a:pt x="396" y="1208"/>
                  <a:pt x="584" y="1216"/>
                </a:cubicBezTo>
              </a:path>
            </a:pathLst>
          </a:custGeom>
          <a:noFill/>
          <a:ln w="190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437920" y="2768760"/>
            <a:ext cx="381240" cy="152280"/>
            <a:chOff x="2437920" y="2768760"/>
            <a:chExt cx="381240" cy="152280"/>
          </a:xfrm>
        </p:grpSpPr>
        <p:sp>
          <p:nvSpPr>
            <p:cNvPr id="347" name=""/>
            <p:cNvSpPr/>
            <p:nvPr/>
          </p:nvSpPr>
          <p:spPr>
            <a:xfrm flipH="1">
              <a:off x="2437560" y="276876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90560" y="2845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276720" y="2768760"/>
            <a:ext cx="304200" cy="152280"/>
            <a:chOff x="3276720" y="2768760"/>
            <a:chExt cx="304200" cy="152280"/>
          </a:xfrm>
        </p:grpSpPr>
        <p:sp>
          <p:nvSpPr>
            <p:cNvPr id="350" name=""/>
            <p:cNvSpPr/>
            <p:nvPr/>
          </p:nvSpPr>
          <p:spPr>
            <a:xfrm>
              <a:off x="3276720" y="284508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390120" y="2768760"/>
              <a:ext cx="190440" cy="15228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571640" y="1600200"/>
            <a:ext cx="1142640" cy="1523880"/>
            <a:chOff x="4571640" y="1600200"/>
            <a:chExt cx="1142640" cy="1523880"/>
          </a:xfrm>
        </p:grpSpPr>
        <p:sp>
          <p:nvSpPr>
            <p:cNvPr id="353" name=""/>
            <p:cNvSpPr/>
            <p:nvPr/>
          </p:nvSpPr>
          <p:spPr>
            <a:xfrm>
              <a:off x="4952880" y="1600200"/>
              <a:ext cx="457200" cy="15238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571640" y="2514600"/>
              <a:ext cx="381240" cy="152280"/>
              <a:chOff x="4571640" y="2514600"/>
              <a:chExt cx="381240" cy="15228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4571280" y="2514600"/>
                <a:ext cx="152280" cy="152280"/>
              </a:xfrm>
              <a:custGeom>
                <a:avLst/>
                <a:gdLst>
                  <a:gd name="textAreaLeft" fmla="*/ -360 w 152280"/>
                  <a:gd name="textAreaRight" fmla="*/ 15228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24280" y="2590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410080" y="1752480"/>
              <a:ext cx="304200" cy="152640"/>
              <a:chOff x="5410080" y="1752480"/>
              <a:chExt cx="30420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5410080" y="1828800"/>
                <a:ext cx="19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523480" y="1752480"/>
                <a:ext cx="190440" cy="152640"/>
              </a:xfrm>
              <a:custGeom>
                <a:avLst/>
                <a:gdLst>
                  <a:gd name="textAreaLeft" fmla="*/ -360 w 190440"/>
                  <a:gd name="textAreaRight" fmla="*/ 190440 w 1904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2819520" y="292104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292104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292104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295280" y="4902120"/>
            <a:ext cx="6019560" cy="1143000"/>
            <a:chOff x="1295280" y="4902120"/>
            <a:chExt cx="6019560" cy="1143000"/>
          </a:xfrm>
        </p:grpSpPr>
        <p:sp>
          <p:nvSpPr>
            <p:cNvPr id="364" name=""/>
            <p:cNvSpPr/>
            <p:nvPr/>
          </p:nvSpPr>
          <p:spPr>
            <a:xfrm>
              <a:off x="5790960" y="5130720"/>
              <a:ext cx="457200" cy="228600"/>
            </a:xfrm>
            <a:prstGeom prst="rect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41400" y="5130720"/>
              <a:ext cx="5007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Ac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90960" y="5435280"/>
              <a:ext cx="457200" cy="2286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4640" y="5435280"/>
              <a:ext cx="6609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Verdana"/>
                </a:rPr>
                <a:t>Resolv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0960" y="5740200"/>
              <a:ext cx="457200" cy="228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44280" y="5740200"/>
              <a:ext cx="64080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Verdana"/>
                </a:rPr>
                <a:t>Install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7240" y="5176800"/>
              <a:ext cx="164664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Évènements du Framewor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523880" y="5687640"/>
              <a:ext cx="380880" cy="152640"/>
              <a:chOff x="1523880" y="5687640"/>
              <a:chExt cx="380880" cy="152640"/>
            </a:xfrm>
          </p:grpSpPr>
          <p:sp>
            <p:nvSpPr>
              <p:cNvPr id="372" name=""/>
              <p:cNvSpPr/>
              <p:nvPr/>
            </p:nvSpPr>
            <p:spPr>
              <a:xfrm>
                <a:off x="1523880" y="5687640"/>
                <a:ext cx="169200" cy="1526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693080" y="57639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523880" y="5359320"/>
              <a:ext cx="457200" cy="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12400" y="5397480"/>
              <a:ext cx="107388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ackage expor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15640" y="5626080"/>
              <a:ext cx="9151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rvice fourn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280" y="5054400"/>
              <a:ext cx="6019560" cy="990720"/>
            </a:xfrm>
            <a:prstGeom prst="rect">
              <a:avLst/>
            </a:prstGeom>
            <a:noFill/>
            <a:ln w="936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82480" y="4902120"/>
              <a:ext cx="672840" cy="21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égend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523520" y="5459040"/>
              <a:ext cx="381240" cy="152640"/>
              <a:chOff x="1523520" y="5459040"/>
              <a:chExt cx="381240" cy="152640"/>
            </a:xfrm>
          </p:grpSpPr>
          <p:sp>
            <p:nvSpPr>
              <p:cNvPr id="380" name=""/>
              <p:cNvSpPr/>
              <p:nvPr/>
            </p:nvSpPr>
            <p:spPr>
              <a:xfrm flipH="1">
                <a:off x="1523160" y="5459040"/>
                <a:ext cx="152280" cy="152640"/>
              </a:xfrm>
              <a:custGeom>
                <a:avLst/>
                <a:gdLst>
                  <a:gd name="textAreaLeft" fmla="*/ -360 w 152280"/>
                  <a:gd name="textAreaRight" fmla="*/ 152280 w 1522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676160" y="5535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4148280" y="5397480"/>
              <a:ext cx="11149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ackage importé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52240" y="5626080"/>
              <a:ext cx="9259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rvice requ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3733560" y="5687640"/>
              <a:ext cx="304560" cy="152640"/>
              <a:chOff x="3733560" y="5687640"/>
              <a:chExt cx="304560" cy="152640"/>
            </a:xfrm>
          </p:grpSpPr>
          <p:sp>
            <p:nvSpPr>
              <p:cNvPr id="385" name=""/>
              <p:cNvSpPr/>
              <p:nvPr/>
            </p:nvSpPr>
            <p:spPr>
              <a:xfrm>
                <a:off x="3733560" y="5763960"/>
                <a:ext cx="15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200000">
                <a:off x="3887280" y="5689440"/>
                <a:ext cx="152640" cy="149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3733560" y="5459040"/>
              <a:ext cx="304200" cy="152640"/>
              <a:chOff x="3733560" y="5459040"/>
              <a:chExt cx="304200" cy="152640"/>
            </a:xfrm>
          </p:grpSpPr>
          <p:sp>
            <p:nvSpPr>
              <p:cNvPr id="388" name=""/>
              <p:cNvSpPr/>
              <p:nvPr/>
            </p:nvSpPr>
            <p:spPr>
              <a:xfrm>
                <a:off x="3733560" y="5535360"/>
                <a:ext cx="19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3846960" y="5459040"/>
                <a:ext cx="190440" cy="152640"/>
              </a:xfrm>
              <a:custGeom>
                <a:avLst/>
                <a:gdLst>
                  <a:gd name="textAreaLeft" fmla="*/ -360 w 190440"/>
                  <a:gd name="textAreaRight" fmla="*/ 190440 w 1904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1895400" y="1090440"/>
            <a:ext cx="4219560" cy="1393560"/>
            <a:chOff x="1895400" y="1090440"/>
            <a:chExt cx="4219560" cy="1393560"/>
          </a:xfrm>
        </p:grpSpPr>
        <p:sp>
          <p:nvSpPr>
            <p:cNvPr id="391" name=""/>
            <p:cNvSpPr/>
            <p:nvPr/>
          </p:nvSpPr>
          <p:spPr>
            <a:xfrm>
              <a:off x="1895400" y="1090440"/>
              <a:ext cx="4219560" cy="1382760"/>
            </a:xfrm>
            <a:custGeom>
              <a:avLst/>
              <a:gdLst/>
              <a:ahLst/>
              <a:rect l="l" t="t" r="r" b="b"/>
              <a:pathLst>
                <a:path w="2658" h="871">
                  <a:moveTo>
                    <a:pt x="2379" y="823"/>
                  </a:moveTo>
                  <a:cubicBezTo>
                    <a:pt x="2415" y="819"/>
                    <a:pt x="2561" y="871"/>
                    <a:pt x="2597" y="797"/>
                  </a:cubicBezTo>
                  <a:cubicBezTo>
                    <a:pt x="2633" y="723"/>
                    <a:pt x="2603" y="495"/>
                    <a:pt x="2595" y="377"/>
                  </a:cubicBezTo>
                  <a:cubicBezTo>
                    <a:pt x="2587" y="259"/>
                    <a:pt x="2658" y="146"/>
                    <a:pt x="2547" y="89"/>
                  </a:cubicBezTo>
                  <a:cubicBezTo>
                    <a:pt x="2436" y="32"/>
                    <a:pt x="2204" y="48"/>
                    <a:pt x="1931" y="33"/>
                  </a:cubicBezTo>
                  <a:cubicBezTo>
                    <a:pt x="1658" y="18"/>
                    <a:pt x="1180" y="0"/>
                    <a:pt x="907" y="1"/>
                  </a:cubicBezTo>
                  <a:cubicBezTo>
                    <a:pt x="634" y="2"/>
                    <a:pt x="436" y="12"/>
                    <a:pt x="291" y="41"/>
                  </a:cubicBezTo>
                  <a:cubicBezTo>
                    <a:pt x="146" y="70"/>
                    <a:pt x="70" y="114"/>
                    <a:pt x="35" y="177"/>
                  </a:cubicBezTo>
                  <a:cubicBezTo>
                    <a:pt x="0" y="240"/>
                    <a:pt x="51" y="361"/>
                    <a:pt x="83" y="417"/>
                  </a:cubicBezTo>
                  <a:cubicBezTo>
                    <a:pt x="115" y="473"/>
                    <a:pt x="187" y="497"/>
                    <a:pt x="227" y="513"/>
                  </a:cubicBezTo>
                  <a:cubicBezTo>
                    <a:pt x="267" y="529"/>
                    <a:pt x="295" y="521"/>
                    <a:pt x="323" y="513"/>
                  </a:cubicBezTo>
                </a:path>
              </a:pathLst>
            </a:custGeom>
            <a:noFill/>
            <a:ln w="1908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5418000" y="2331720"/>
              <a:ext cx="304560" cy="152280"/>
              <a:chOff x="5418000" y="2331720"/>
              <a:chExt cx="304560" cy="152280"/>
            </a:xfrm>
          </p:grpSpPr>
          <p:sp>
            <p:nvSpPr>
              <p:cNvPr id="393" name=""/>
              <p:cNvSpPr/>
              <p:nvPr/>
            </p:nvSpPr>
            <p:spPr>
              <a:xfrm>
                <a:off x="5418000" y="2408400"/>
                <a:ext cx="15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5571720" y="2333160"/>
                <a:ext cx="152280" cy="149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4952880" y="1600200"/>
            <a:ext cx="460440" cy="131616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410080" y="2590920"/>
            <a:ext cx="380880" cy="152280"/>
            <a:chOff x="5410080" y="2590920"/>
            <a:chExt cx="380880" cy="152280"/>
          </a:xfrm>
        </p:grpSpPr>
        <p:sp>
          <p:nvSpPr>
            <p:cNvPr id="397" name=""/>
            <p:cNvSpPr/>
            <p:nvPr/>
          </p:nvSpPr>
          <p:spPr>
            <a:xfrm flipH="1">
              <a:off x="5621760" y="2590920"/>
              <a:ext cx="169200" cy="15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410080" y="2667240"/>
              <a:ext cx="2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181480" y="2438280"/>
            <a:ext cx="152640" cy="457200"/>
            <a:chOff x="5181480" y="2438280"/>
            <a:chExt cx="152640" cy="457200"/>
          </a:xfrm>
        </p:grpSpPr>
        <p:sp>
          <p:nvSpPr>
            <p:cNvPr id="400" name=""/>
            <p:cNvSpPr/>
            <p:nvPr/>
          </p:nvSpPr>
          <p:spPr>
            <a:xfrm flipV="1">
              <a:off x="5257800" y="2590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81480" y="243828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477120" y="960840"/>
            <a:ext cx="2057400" cy="518040"/>
          </a:xfrm>
          <a:prstGeom prst="wedgeRectCallout">
            <a:avLst>
              <a:gd name="adj1" fmla="val -105856"/>
              <a:gd name="adj2" fmla="val 244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Une Instance d'implantation est cré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ew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257800" y="1994400"/>
            <a:ext cx="3809880" cy="1282320"/>
            <a:chOff x="5257800" y="1994400"/>
            <a:chExt cx="3809880" cy="1282320"/>
          </a:xfrm>
        </p:grpSpPr>
        <p:sp>
          <p:nvSpPr>
            <p:cNvPr id="404" name=""/>
            <p:cNvSpPr/>
            <p:nvPr/>
          </p:nvSpPr>
          <p:spPr>
            <a:xfrm>
              <a:off x="5257800" y="281952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168" y="0"/>
                    <a:pt x="336" y="0"/>
                    <a:pt x="432" y="48"/>
                  </a:cubicBezTo>
                  <a:cubicBezTo>
                    <a:pt x="528" y="96"/>
                    <a:pt x="552" y="192"/>
                    <a:pt x="576" y="288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48520" y="1994400"/>
              <a:ext cx="2819160" cy="627480"/>
            </a:xfrm>
            <a:prstGeom prst="wedgeRectCallout">
              <a:avLst>
                <a:gd name="adj1" fmla="val -56407"/>
                <a:gd name="adj2" fmla="val 9712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L ’instance est enregistrée selon une interface de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bc.registerService(interface, instance, properti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FC1-8A79-42E6-AAA0-2541937B70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9:27:41Z</dcterms:created>
  <dc:creator>ubeda</dc:creator>
  <dc:description/>
  <dc:language>en-US</dc:language>
  <cp:lastModifiedBy>sfrenot</cp:lastModifiedBy>
  <dcterms:modified xsi:type="dcterms:W3CDTF">2003-11-13T13:38:47Z</dcterms:modified>
  <cp:revision>92</cp:revision>
  <dc:subject/>
  <dc:title>Architecture de réseaux de services</dc:title>
</cp:coreProperties>
</file>