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F9E-B6C2-4665-AE9A-2B0A2D2F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44A-F8A3-433E-86A9-04686856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812-B4EF-4C36-9B11-59F7AC22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84C-F603-4008-9536-0D6B4BB7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7FFB-9F37-43BE-A208-9611D3EE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2C4-A4C5-4342-BC4E-A083FC5B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99E-177F-403A-A851-547A9A1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A23-CDC0-4C61-B55A-DC15150D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F50-DE77-428E-8A8B-8B48CEBF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0A27-0E9D-4893-B24D-0F4BDA2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F56-7462-4251-8056-DA78BFE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63A-FCCE-4B9A-82A7-5E6077B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8C2-CD34-46EA-B343-C74A5FB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8407-9CEE-4F0A-9D26-C72E03D3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0FA1-C505-46BC-9A9E-BB5D703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4AB-ECE8-4843-A977-F02F2835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1117-2122-45E9-B05B-5CA57418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E9E-77C8-4973-AF7B-34E358D2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A54-D0D8-4468-81DD-9620F730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607-26D6-48D1-BBC1-3219384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730-C5C6-4D8A-9C84-0EA8A0A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5E5-835C-4588-AA2D-1F29E2B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964-0F67-48C9-8FE2-2C6691A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912-D090-4B35-B841-F5973BF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F00-8EA2-40B4-9C46-6B94C538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804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6095880"/>
            <a:ext cx="38124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6095880"/>
            <a:ext cx="3808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09480" y="5943600"/>
            <a:ext cx="1143000" cy="477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162920" y="5958000"/>
            <a:ext cx="1218960" cy="331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828800" y="6095880"/>
            <a:ext cx="51814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D24-3561-4ABE-809F-0DB3582A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523880" cy="16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133720" y="30492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NTRE D'INNOV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ELECOMMUN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NTEGRATION DE SERVIC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571500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77148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3200" y="5867280"/>
            <a:ext cx="374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ARÈ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9372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SGi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pen Service Gateway Initiative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Part II Rappels Jav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rial"/>
              </a:rPr>
              <a:t>Architectures de Réseaux d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0543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éphane Fré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'architecture des classLoader 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piloter finement le chargement d une class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piloter finement le chargement des ressourc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gérer des versions d une même clas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rendre le code client totalement indépendant du code de service (à l interface près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utilise les constructions de type class.forNa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lassLoader standa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loaders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867640" cy="3946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49525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=&gt; Securité !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va -Djava.ext.dirs=myext MaClass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ant codeBase "file:${java.home}/lib/ext/*"{permission java.security.AllPermission;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e classe est donc définie par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nom com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st.toto.T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un classloader qui la dé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RLClass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 c={nom, classload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une classe n'est pas trouvée dans son classloader, on remonte dans la hiérarchie des classlo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lassloader" descr=""/>
          <p:cNvPicPr/>
          <p:nvPr/>
        </p:nvPicPr>
        <p:blipFill>
          <a:blip r:embed="rId1"/>
          <a:stretch/>
        </p:blipFill>
        <p:spPr>
          <a:xfrm>
            <a:off x="504720" y="380880"/>
            <a:ext cx="795348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volution de la programmation jav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sommes passé de la progr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Interface/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Usine/Interface/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ndre un service de plus en plus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de moins en moins simple à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emple : La classe Poin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proche classiqu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5812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vate 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vate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void move (int dx, int dy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is.x+=d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4800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class Clie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static void main( String [] arg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int p=new Point(4,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.move(2,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114800"/>
            <a:ext cx="8640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'est pas de la « bonne » programmation OO,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interface est liée à l'im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'est pas possible de diffuser l'interface sans son im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n'exploite pas vraiment les principes d'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190760"/>
            <a:ext cx="8564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k pour la programmation Objet, ma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lient et le serveur sont liés par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lasse de service est codée en dur dans 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emple : La classe Poin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proche composa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371600"/>
            <a:ext cx="4343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interface Point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void move (int dx, int dy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960" y="2465280"/>
            <a:ext cx="432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PointImpl implements Po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void move (int dx, int d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.x+=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9320" y="1371600"/>
            <a:ext cx="3949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static void main(String [] arg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p=new PointImpl(4,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.move(2,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épendance client/serv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5647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rrection du serveur impose l'arrêt du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et serveur sont dépendan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rendre indépendants il faut un conteneur/intercepteur/fabrique..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dèle est Client/Conteneur/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90680" y="1143000"/>
            <a:ext cx="3949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Clie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static void main(String [] arg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p=new PointImpl(4,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.move(2,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 serveur de poi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3886200"/>
            <a:ext cx="85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repose pas sur la classe, 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le nom de la classe (St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repose sur un « ClassLoader  » qui charge la classe de dé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! A mettre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7960" y="1219320"/>
            <a:ext cx="6451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ServeurDeClassePoint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static Point createClassPoint( 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RL[] urls=new URL[]{new URL("file:resource/")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ssLoader cl=new URLClassLoader(url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pt=(Point)cl.loadClass("tp1.PointImpl").newInstanc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urn p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 améliorations class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1243080"/>
            <a:ext cx="441936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ckage tp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class ServeurDeClassPoint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tic ClassLoader c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tic Class pt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tic String 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atic String class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static Point createClassPoint(Point tm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rows 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f (ptClass==null){reloadImpl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int newPt=(Point)ptClass.newInsta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f (tmp!=null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ewPt.initialize(tm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turn new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028880"/>
            <a:ext cx="4495680" cy="496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static void reloadImpl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rows 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tProperti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RL[] urls=new URL[]{new URL(url)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1=new URLClassLoader(url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tClass=c1.loadClass(class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vate static void setProperties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hrows 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URL u=new URL("file:param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fferedReader is=new BufferedR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putStreamReader(u.openStream(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rl=is.read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lassName=is.readLin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"Les paramètres sont : "+url+class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ation Jav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ment d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herche d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ment dyna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tion orienté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 cas du cl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463760"/>
            <a:ext cx="7023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ckage tp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Clie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static void main(String [] arg) throws Excepti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ile (tru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p=ServeurDeClassPoint.createClassPoint(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(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.move(4,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(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in.rea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eurDeClassPoint.reloadImp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 cl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6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e doit pas référencer l'impla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es versions d'implantation et d'interface sont les mê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Il faut pouvoir transmettre l'ancien é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Le client doit fournir la nouvelle et détruire l'ancienn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xercice classload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code d'utilisation de classloader est don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iler et lancer le service cli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liser deux implantations de l'interface point dans le répertoire hidden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er le paramétrage de l'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2880" y="759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La programmation orientée servi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0666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services sont spécifiés par u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s sont packagés dans le concept de bundle (composant = unité de déploiement = unité de packa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clients n'instancient jamais l'implantation…Elle est fournie au run-time par u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se le modèle à composant util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ère le cycle de vie des compo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ère les interactions entre compo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directs/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SGi plat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osgi" descr=""/>
          <p:cNvPicPr/>
          <p:nvPr/>
        </p:nvPicPr>
        <p:blipFill>
          <a:blip r:embed="rId1"/>
          <a:stretch/>
        </p:blipFill>
        <p:spPr>
          <a:xfrm>
            <a:off x="457200" y="1144440"/>
            <a:ext cx="81532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ractéristiques de la S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argement d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343400"/>
            <a:ext cx="7062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557840" cy="7182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>
              <a:buNone/>
              <a:tabLst>
                <a:tab algn="l" pos="0"/>
                <a:tab algn="l" pos="385920"/>
                <a:tab algn="l" pos="7239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s unités de comp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47720"/>
            <a:ext cx="8991720" cy="4981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de source d'une classe est appelé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ité de compi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lasse a un nom qui est composé du nom  du package et du nom de l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6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va.util.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1560" y="228240"/>
            <a:ext cx="7558200" cy="7182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>
              <a:buNone/>
              <a:tabLst>
                <a:tab algn="l" pos="0"/>
                <a:tab algn="l" pos="385920"/>
                <a:tab algn="l" pos="7239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s packages dé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622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rmAutofit fontScale="99000"/>
          </a:bodyPr>
          <a:p>
            <a:pPr marL="321840" indent="-321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 d'organisation de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logique :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time.clock.Wa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physique :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time/clock/Watch.cla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pace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omma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hiérarc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cription de la hiérarchie :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package time.clock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ion de nom complet :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</a:rPr>
              <a:t>time.clock.Wa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bibliothèques java sont organisées en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.util, java.net, org.objectwe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120" indent="-26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ux classes ayant le même nom complet ne peuvent pas s'exécuter en même temps … en thé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ù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argement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Hell t;       /* La classe n'est pas encore chargée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t=new Hell(); /* Le classloader charge la classe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émoi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66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3124080"/>
            <a:ext cx="8763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outils du système cherchent toutes l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ilation et Exécution : typage fort C &amp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lasses sont recherchées sur le système de fich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lasses standards sont automatiquement trouvées par les out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indiquer l'endroit sur le système de fichiers à partir duquel il faut chercher les classes, on utilise l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ionnement identique au path d'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classpa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indique à partir de quel endroit rechercher une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java -classpath /usr/local/ titi.T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lasse titi.Toto et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tout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lasses lancées à partir de maintenant sont recherchées à partir du réper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/usr/local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Résolution physique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donc que la classe soit définie dans le fichi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usr/local/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iti/Toto.class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Résolution java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l est possible d'indiquer pendant l'exécution la localisation de nouvelle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classpath : le j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jar est une archive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groupement de fichiers dans un fich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tension du système de fich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0400" y="3429000"/>
            <a:ext cx="329580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ut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utu/ours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tutu/ours/Grumly.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006800"/>
            <a:ext cx="3504960" cy="10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ackage te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mport tutu.ours.Grum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class Test 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Grumly toto=new Grumly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4320" y="312408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jar tvf toto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34800" y="37018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vi Test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715000"/>
            <a:ext cx="19051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javac ?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7:41Z</dcterms:created>
  <dc:creator>ubeda</dc:creator>
  <dc:description/>
  <dc:language>en-US</dc:language>
  <cp:lastModifiedBy>sfrenot</cp:lastModifiedBy>
  <dcterms:modified xsi:type="dcterms:W3CDTF">2003-11-13T11:11:14Z</dcterms:modified>
  <cp:revision>69</cp:revision>
  <dc:subject/>
  <dc:title>Architecture de réseaux de services</dc:title>
</cp:coreProperties>
</file>