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wmf" ContentType="image/x-wmf"/>
  <Override PartName="/ppt/media/image26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0CE-FA79-4784-87D9-5D93BA41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B63-1C93-4F7F-BA69-29CCB295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6928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828B-8098-460A-9704-D92D1DD7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636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220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636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220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3C9-CEF4-4250-8329-89DF0A9F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39BC-3CF2-4E93-8745-3F4470F4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7578-A97B-4CCB-BB4D-3C236A1F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8A05-F318-434A-A5B5-69B56431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D394-20B8-496E-B7BC-948D9C73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99FA-70B4-4D4F-ABAE-B6BFC3A0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2093-6406-49B3-8B30-F841F51A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5422-91F8-401B-9414-71BF9126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674-8238-402B-8C5A-40DC40D2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928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277F-DC6F-46E7-ACFA-349A5D94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8A0D-00D8-4C91-B671-FAEA62BA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86B3-E91D-44B0-A32E-21604CAD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6928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7107-7EF7-4EF0-AEAC-A6EA6FEF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7636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220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7636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220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A565-9504-44DD-A013-3B0F13ED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2FD7-A70E-424E-A8E1-04777B7F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6F3-D504-43D3-92D7-57FD1EA3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32D9-5811-4E70-BD08-0B58F5C5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1261-352E-4B9D-BE0E-DBA44BBB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4B12-AEA8-4CFC-B403-E903F407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6928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F7B6-9B1F-45D9-B8B8-4EB3997D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B3FC-67C3-43FC-818B-49C94214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57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248520"/>
            <a:ext cx="243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2EB6-576E-42E1-BC0C-E96411746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14400" cy="804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6095880"/>
            <a:ext cx="381240" cy="76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58200" y="6095880"/>
            <a:ext cx="380880" cy="76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609480" y="5943600"/>
            <a:ext cx="1143000" cy="4777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7162920" y="5958000"/>
            <a:ext cx="1218960" cy="33156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1828800" y="6095880"/>
            <a:ext cx="5181480" cy="76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05120"/>
            <a:ext cx="7543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13F2-83FC-4CE2-BA9D-B3D8829C1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1523880" cy="1609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133720" y="304920"/>
            <a:ext cx="6715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ENTRE D'INNOVATION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 TELECOMMUNIC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&amp; INTEGRATION DE SERVICE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238880" y="5715000"/>
            <a:ext cx="167652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" y="5791320"/>
            <a:ext cx="771480" cy="438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743200" y="5867280"/>
            <a:ext cx="3745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ARÈ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1905120"/>
            <a:ext cx="7543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66"/>
                </a:solidFill>
                <a:latin typeface="Times New Roman"/>
              </a:rPr>
              <a:t>OSGi </a:t>
            </a:r>
            <a:br>
              <a:rPr sz="4400"/>
            </a:br>
            <a:r>
              <a:rPr b="1" lang="fr-FR" sz="4400" spc="-1" strike="noStrike">
                <a:solidFill>
                  <a:srgbClr val="003366"/>
                </a:solidFill>
                <a:latin typeface="Times New Roman"/>
              </a:rPr>
              <a:t>Complément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7560" y="4343040"/>
            <a:ext cx="7062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utres servi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Start Level 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gent de gestion pour le démarrage d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iveau de lancement (aka run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ncement de tous les bundles &lt;= run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des de démar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e fails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e écran de démarrage (splash scre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Start level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v3-startlevel" descr=""/>
          <p:cNvPicPr/>
          <p:nvPr/>
        </p:nvPicPr>
        <p:blipFill>
          <a:blip r:embed="rId1"/>
          <a:stretch/>
        </p:blipFill>
        <p:spPr>
          <a:xfrm>
            <a:off x="658800" y="1181160"/>
            <a:ext cx="7824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Gestion des schémas d'UR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tension des mécanismes standards j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gestion de schémas d'url (ie : rsh://10.0.1.2/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gestion de contenus (ie : sms://+3361767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che du service Connecto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mélioration de la gestion du cycle de 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rvice de Connecteur E/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doption de J2ME javax.microedition.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nexion est configurée par une 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priété du service io.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ssibilité d'extension à l'exé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vail de paire avec le service de gestion de contenu et d'U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de 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ms://+46705950899;expiry=24h;reply=yes;type=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datagram://: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ocket://www.acme.com:53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omm://COM1;baudrate=9600;databits=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file:c:/autoexec.b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dvb://1.2.3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Service de câblage (wiring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tron (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design patter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services producteurs-consommateurs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nnées : mesure physique, position, état (discret)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ire : relie 0..N producteurs à 0..M consomm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ministrable globa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ireAdmin, WireAdminLis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rôle de la « comptabilité » et adapta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types de données échangées au travers du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lav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Wire Admin Service</a:t>
            </a:r>
            <a:br>
              <a:rPr sz="4400"/>
            </a:b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Patron </a:t>
            </a:r>
            <a:r>
              <a:rPr b="0" i="1" lang="fr-FR" sz="4400" spc="-1" strike="noStrike">
                <a:solidFill>
                  <a:srgbClr val="003366"/>
                </a:solidFill>
                <a:latin typeface="Times New Roman"/>
              </a:rPr>
              <a:t>Producer-Wire-Consum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280" y="1546200"/>
            <a:ext cx="8991720" cy="5127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86200" y="652932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’après la release3 d’OSG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Wire Admin Service</a:t>
            </a:r>
            <a:br>
              <a:rPr sz="4400"/>
            </a:b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Mise en Œuvre (i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eur comp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ion / Multiplex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76520" y="4572000"/>
            <a:ext cx="7086600" cy="1951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52480" y="2448000"/>
            <a:ext cx="5791320" cy="1361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886200" y="652932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’après la release3 d’OSG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Wire Admin Service</a:t>
            </a:r>
            <a:br>
              <a:rPr sz="4400"/>
            </a:b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Mise en Œuvre (ii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rage (nati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: limiter les données pertinent envoyé par l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égies de filt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3125880"/>
            <a:ext cx="7924680" cy="3503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886200" y="652932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’après la spécification 3 d’OSG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Wire Admin Service</a:t>
            </a:r>
            <a:br>
              <a:rPr sz="4400"/>
            </a:b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Mise en Œuvre (iii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xion exte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ôle de la compatibilité des données échang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001000" cy="4213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886200" y="652932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’après la release3 d’OSG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Spec. V2 --&gt; Spec V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ction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rchitectures de référenc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rchitecture génér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ministration dis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ction norm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mports-dynam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tart leve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estion des flux et des cont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ice de connexion d'E/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avax.microedition.i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lus extension au run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1371600"/>
            <a:ext cx="4267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ice de câblage (Wi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ice de parsers 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ice de mesure et d'é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ice de position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vironnement d'exécution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vironnement minimal, J2ME Found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ction recomma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rvice d'espace de n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Jini driver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Pn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itial provis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rvice d'analyse XM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ise à disposition de parseur pour d'autres bun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couverte d'un meilleur pars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AX - Simple API for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Service de Mesure et d'Et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org.osgi.util.measurement.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finition de la notion de mesure phys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lue (flott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cision de la mesure (err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ité physique (mêtre, radian, joule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te de prise de la me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org.osgi.util.measurement.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finition de la notion d’un état avec des valeurs discré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emple de l’état d’une porte de voiture : 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LOCKED, UNLOCKED, CHILDLOC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Specification de Positionne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org.osgi.util.position.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ition géographique (acquise au moyen d’un GPS, GSM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posée des mesures : Latitude, Longitude, Altitude, Speed,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v3-position" descr=""/>
          <p:cNvPicPr/>
          <p:nvPr/>
        </p:nvPicPr>
        <p:blipFill>
          <a:blip r:embed="rId1"/>
          <a:srcRect l="0" t="10113" r="0" b="0"/>
          <a:stretch/>
        </p:blipFill>
        <p:spPr>
          <a:xfrm>
            <a:off x="1752480" y="3124080"/>
            <a:ext cx="518328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nvironnement d'exécu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finit l’environnement d’exécution (java) requis pour que le bundle puisse s’exécu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doit être inclut dans la liste des environnements du framework d’accueil pour passer dans l’état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T967o0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T967o00"/>
              </a:rPr>
              <a:t>Propriété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org.osgi.framework.execution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tête de Mani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Bundle-RequiredExecutionEnvironment: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DC-1.0/Foundation-1.0, OSGi/Minimum-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épendance face à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dèle d'exéc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5" name="v3-execution" descr=""/>
          <p:cNvPicPr/>
          <p:nvPr/>
        </p:nvPicPr>
        <p:blipFill>
          <a:blip r:embed="rId1"/>
          <a:stretch/>
        </p:blipFill>
        <p:spPr>
          <a:xfrm>
            <a:off x="163440" y="1447920"/>
            <a:ext cx="88153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ctions recommandé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ques, pour solliciter des retou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s pas de compatibil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space de nomma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estion d'un réseau de plates-formes de servic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uissant : Indépendant des top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lexible : différents modè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n-IP : tel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patible avec les pare-f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cile à analyser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emple de nomma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1" name="v3-namespace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1048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Jin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seau spontané de compos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s de plan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s d'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s d'intervention hum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ux fonctionna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ouverte et contrôle de services jndi dans un framework OS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ortation de services OSGi en tant que service j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ttention : code mobil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Jini Driver 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jà existant dans http://lamp.jini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US (Reggie) Bu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ookup Discovery (Fiddler) Bund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ase Renewal (Norm) Bu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action Manager (Mahalo) Bu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avaSpaces (Outrigger) Bund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vent Mailbox (Mercury) Bund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éfére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UPnP Driver 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iversal Plug and Pl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seau de périphériques interconnec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munication  par des annonces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énéralisation de la device access spé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Initial Provision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marrage initial d'une plate-forme en vue de son administration dis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v3-initialprov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6298920" cy="3799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219320" y="4648320"/>
            <a:ext cx="5486400" cy="609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5257800"/>
            <a:ext cx="1447920" cy="3808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léments jav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Dynamic prox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complementjava1" descr="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Byte code jav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362320" y="1142640"/>
            <a:ext cx="50292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class Test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test1(){ System.out.println("coucou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test2(){ System.out.println("coucou2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class Client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static void main(String [] arg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st t=new Tes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.test1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000" y="4464000"/>
            <a:ext cx="909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i test est modifiée, que se passe-t'il pour le cli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 C++ l'invocation est résolue par un offset en mém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 java le byte code maintient des meta-données, qui indiquent que la classe a chang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t n'est plus compatible (Signature de clas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Byte-Code jav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4800600"/>
            <a:ext cx="8564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avap Test ==&gt; Renvoie les structures de la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avap -c ==&gt; Présente le byte-code de la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mbreux autres outils (asm, bcel, jad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bytecode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Proxy dynamiq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flexion : Un client utilise une API générique pour appeler des méthodes sur une classe serveur inconnue à la compi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xys Dynamiques : Un serveur utilise une API générique pour implanter une méthode qui est fournie à l exécution pour satisfaire le besoin du cl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écanisme de base pour les intercepteurs génériques (conteneurs J2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èle de délégation lorsque l héritage explo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plantation par hérita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4495320"/>
            <a:ext cx="8564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osion d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volutivité, nouvelle interface  &gt; X nouvelles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uplesse, quelles sont les classes concrètes significa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heritage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868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plantation par délég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5028840"/>
            <a:ext cx="8564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énération statique de code client (stub) (ex : jo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xy dynamique (ex : jbo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delegation" descr=""/>
          <p:cNvPicPr/>
          <p:nvPr/>
        </p:nvPicPr>
        <p:blipFill>
          <a:blip r:embed="rId1"/>
          <a:stretch/>
        </p:blipFill>
        <p:spPr>
          <a:xfrm>
            <a:off x="264960" y="1271520"/>
            <a:ext cx="85741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énération dynamique de co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2" name="dynamicproxy" descr=""/>
          <p:cNvPicPr/>
          <p:nvPr/>
        </p:nvPicPr>
        <p:blipFill>
          <a:blip r:embed="rId1"/>
          <a:stretch/>
        </p:blipFill>
        <p:spPr>
          <a:xfrm>
            <a:off x="0" y="1403280"/>
            <a:ext cx="891540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v3-model" descr=""/>
          <p:cNvPicPr/>
          <p:nvPr/>
        </p:nvPicPr>
        <p:blipFill>
          <a:blip r:embed="rId1"/>
          <a:stretch/>
        </p:blipFill>
        <p:spPr>
          <a:xfrm>
            <a:off x="2222640" y="0"/>
            <a:ext cx="500688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emple d'interposition : le cli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67820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rsonneItf p=UsineDePersonne.create("Dupo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.getNom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3429000"/>
            <a:ext cx="8610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usine fabrique normalement un client, mais elle peut interposer un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emple d'interposition : l'us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8360" y="1219320"/>
            <a:ext cx="643104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blic static create(String name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rsonneItf personne=new PersonneImpl(nam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rsonneItf proxy=(PersonneItf)Proxy.newProxyInstance( UsineDePersonne.class.getClassLoader(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w Class[]{Personne.class}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w Interposition(personne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turn (proxy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41911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'usine fabrique un proxy dynamique, conforme à l interface du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2880" y="75960"/>
            <a:ext cx="797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emple d'interposition : le servic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6476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mport java.lang.reflect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class Interposition implements InvocationHandler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ivate Object delegat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Interposition (Object delegate){  this.delegate=delegate;  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Object invoke(Object source, Method method, Object[] args) throws Throwable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* Interposition avant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ject result=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sult=method.invoke(delegate,args); /* getNom est invoquée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catch(InvocationTargetException e){ throw e.getTargetException(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* Interposition après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f (result.equals("Dupond")){ result="Frenot"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turn resu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66"/>
                </a:solidFill>
                <a:latin typeface="Times New Roman"/>
              </a:rPr>
              <a:t>Avantages des proxys dynamiqu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'apportent rien par rapport à coder la délégation à la m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. Ils sont dynamiques et génér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 Validation de paramèt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. Sécur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4. Propagation de contex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. Audit, trace, débugg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6. Dérouter un appel java vers un autre environn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=&gt; Coût supérieur à un codage à la 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rformances en 10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. Incrément d un champ entier : 10e0 (1n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. Invocation d une méthode virtuelle : 10e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. Invocation par délégation manuelle : 10e1-10e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. Invocation reflexive : 10e4-10e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5. Invocation par un proxy dynamique : 10e4-10e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6. Incrémentation reflexive d un entier : 10e4-10e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7. Appel RMI sur une machine locale : 10e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8. Ouverture de fichiers : 10e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9. Vitesse de la lumière parcours 3000km : 10e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N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cès à l'environnement exter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machines virtuelles Java peuvent accéder au système sous-jac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'utilisation de méthodes natives de l'environnement se fait par l'appel de méthodes 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méthodes natives sont des méthodes définies dans un langage autre que java (C ou C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package java.native donne les méthodes pour ces app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méthode native ne peut pas être abstra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Jni : Java Native Interface Framework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9" name="nativesides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3581280" cy="2367000"/>
          </a:xfrm>
          <a:prstGeom prst="rect">
            <a:avLst/>
          </a:prstGeom>
          <a:ln w="0">
            <a:noFill/>
          </a:ln>
        </p:spPr>
      </p:pic>
      <p:pic>
        <p:nvPicPr>
          <p:cNvPr id="230" name="native1" descr=""/>
          <p:cNvPicPr/>
          <p:nvPr/>
        </p:nvPicPr>
        <p:blipFill>
          <a:blip r:embed="rId2"/>
          <a:stretch/>
        </p:blipFill>
        <p:spPr>
          <a:xfrm>
            <a:off x="4038480" y="1739880"/>
            <a:ext cx="4829400" cy="1413000"/>
          </a:xfrm>
          <a:prstGeom prst="rect">
            <a:avLst/>
          </a:prstGeom>
          <a:ln w="0">
            <a:noFill/>
          </a:ln>
        </p:spPr>
      </p:pic>
      <p:pic>
        <p:nvPicPr>
          <p:cNvPr id="231" name="native2" descr=""/>
          <p:cNvPicPr/>
          <p:nvPr/>
        </p:nvPicPr>
        <p:blipFill>
          <a:blip r:embed="rId3"/>
          <a:stretch/>
        </p:blipFill>
        <p:spPr>
          <a:xfrm>
            <a:off x="4038480" y="3925800"/>
            <a:ext cx="487692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ycle de développement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3" name="native3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357336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HelloWorld.jav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06880" y="1236600"/>
            <a:ext cx="58345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class HelloWor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fr-FR" sz="1400" spc="-1" strike="noStrike">
                <a:solidFill>
                  <a:srgbClr val="3366cc"/>
                </a:solidFill>
                <a:latin typeface="Courier New"/>
              </a:rPr>
              <a:t>native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void displayHelloWorl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fr-FR" sz="1400" spc="-1" strike="noStrike">
                <a:solidFill>
                  <a:srgbClr val="3366cc"/>
                </a:solidFill>
                <a:latin typeface="Courier New"/>
              </a:rPr>
              <a:t>static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cc"/>
                </a:solidFill>
                <a:latin typeface="Courier New"/>
              </a:rPr>
              <a:t>                </a:t>
            </a:r>
            <a:r>
              <a:rPr b="0" lang="fr-FR" sz="1400" spc="-1" strike="noStrike">
                <a:solidFill>
                  <a:srgbClr val="3366cc"/>
                </a:solidFill>
                <a:latin typeface="Courier New"/>
              </a:rPr>
              <a:t>System.loadLibrary("hello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cc"/>
                </a:solidFill>
                <a:latin typeface="Courier New"/>
              </a:rPr>
              <a:t>            </a:t>
            </a:r>
            <a:r>
              <a:rPr b="0" lang="fr-FR" sz="1400" spc="-1" strike="noStrike">
                <a:solidFill>
                  <a:srgbClr val="3366c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fr-FR" sz="1400" spc="-1" strike="noStrike">
                <a:solidFill>
                  <a:srgbClr val="3366cc"/>
                </a:solidFill>
                <a:latin typeface="Courier New"/>
              </a:rPr>
              <a:t>new HelloWorld().displayHelloWorl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21760" y="4330800"/>
            <a:ext cx="6558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avah -jni Hello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génère le .h pour le développement C de la méth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splayHelloWorl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ministration distan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1" name="v3-remote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26444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HelloWorld le programme 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75040" y="1158840"/>
            <a:ext cx="6901560" cy="222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#include &lt;jn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cc"/>
                </a:solidFill>
                <a:latin typeface="Courier New"/>
              </a:rPr>
              <a:t>#include "HelloWorld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JNIEXPORT void JNIC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Java_HelloWorld_displayHelloWorld(JNIEnv *env, jobject obj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printf("Hello world!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83160" y="4156200"/>
            <a:ext cx="725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ilation du code C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c -G -I/usr/local/java/include -I/usr/local/java/include/solaris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elloWorldImp.c -o libhello.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rmalisation, frame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DynamicImport-Packa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 en cours d’exécu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’importer des packages non présents à la ré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ass.forNam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é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DynamicImport-Packag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u manifest liste les packages qui pourront être importés en cours d’exé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sage : framework à plugin ou 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emple : JMF, JCE, JDBC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DynamicImport-Package</a:t>
            </a:r>
            <a:br>
              <a:rPr sz="3600"/>
            </a:b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Exemple avec JMF (i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stallation de bund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4648320"/>
            <a:ext cx="3429000" cy="1371600"/>
          </a:xfrm>
          <a:prstGeom prst="foldedCorner">
            <a:avLst>
              <a:gd name="adj" fmla="val 865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mport-Package: javax.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ynamicImport-Package:com.acme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4724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.m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581280"/>
            <a:ext cx="2286000" cy="533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undleClassLo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4648320"/>
            <a:ext cx="2743200" cy="1371600"/>
          </a:xfrm>
          <a:prstGeom prst="foldedCorner">
            <a:avLst>
              <a:gd name="adj" fmla="val 865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port-Package: javax.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4724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.m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581280"/>
            <a:ext cx="2286000" cy="533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undleClassLo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286000"/>
            <a:ext cx="2286000" cy="1066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Bundle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implementing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JM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2286000"/>
            <a:ext cx="2286000" cy="1066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Bundle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using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JM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09" idx="2"/>
            <a:endCxn id="112" idx="2"/>
          </p:cNvCxnSpPr>
          <p:nvPr/>
        </p:nvCxnSpPr>
        <p:spPr>
          <a:xfrm rot="5400000">
            <a:off x="3046680" y="2515320"/>
            <a:ext cx="2160" cy="3201120"/>
          </a:xfrm>
          <a:prstGeom prst="bentConnector3">
            <a:avLst>
              <a:gd name="adj1" fmla="val 2168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438280" y="41148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javax.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523880"/>
            <a:ext cx="47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lass.forName("com.acme.mp3.MP3Decoder")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rows java.lang.NoClassDefFound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DynamicImport-Package</a:t>
            </a:r>
            <a:br>
              <a:rPr sz="3600"/>
            </a:b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Exemple avec JMF (ii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de bundle 3 : il passe à l’état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5105520"/>
            <a:ext cx="2514600" cy="1371600"/>
          </a:xfrm>
          <a:prstGeom prst="foldedCorner">
            <a:avLst>
              <a:gd name="adj" fmla="val 865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mport-Package: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javax.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ynamicImport-Package: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com.acme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5181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.m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5100480"/>
            <a:ext cx="2438640" cy="1452600"/>
          </a:xfrm>
          <a:prstGeom prst="foldedCorner">
            <a:avLst>
              <a:gd name="adj" fmla="val 865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mport-Package: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javax.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port-Package: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com.acme.mp3,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com.acme.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53280" y="5181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.m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4038480"/>
            <a:ext cx="2286000" cy="533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undleClassLo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4038480"/>
            <a:ext cx="2286000" cy="533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undleClassLo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105520"/>
            <a:ext cx="2819160" cy="1371600"/>
          </a:xfrm>
          <a:prstGeom prst="foldedCorner">
            <a:avLst>
              <a:gd name="adj" fmla="val 865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port-Package:javax.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5181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.m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038480"/>
            <a:ext cx="2286000" cy="533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undleClassLo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743200"/>
            <a:ext cx="2286000" cy="1066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Bundle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implementing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JM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2743200"/>
            <a:ext cx="2286000" cy="1066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Bundle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using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JM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05720" y="2743200"/>
            <a:ext cx="2286000" cy="1066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Bundle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providing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JMF code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4" idx="2"/>
            <a:endCxn id="128" idx="2"/>
          </p:cNvCxnSpPr>
          <p:nvPr/>
        </p:nvCxnSpPr>
        <p:spPr>
          <a:xfrm rot="5400000">
            <a:off x="3046680" y="2972520"/>
            <a:ext cx="2160" cy="3201120"/>
          </a:xfrm>
          <a:prstGeom prst="bentConnector3">
            <a:avLst>
              <a:gd name="adj1" fmla="val 2438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2438280" y="45720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javax.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1752480"/>
            <a:ext cx="5029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lass.forName("com.acme.mp3.MP3Decoder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d a package dependenc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n return the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5" idx="2"/>
            <a:endCxn id="128" idx="2"/>
          </p:cNvCxnSpPr>
          <p:nvPr/>
        </p:nvCxnSpPr>
        <p:spPr>
          <a:xfrm rot="5400000">
            <a:off x="4646880" y="1372320"/>
            <a:ext cx="2160" cy="6401520"/>
          </a:xfrm>
          <a:prstGeom prst="bentConnector3">
            <a:avLst>
              <a:gd name="adj1" fmla="val 2978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/>
          <p:nvPr/>
        </p:nvCxnSpPr>
        <p:spPr>
          <a:xfrm>
            <a:off x="4723920" y="4572000"/>
            <a:ext cx="3048840" cy="2160"/>
          </a:xfrm>
          <a:prstGeom prst="bentConnector4">
            <a:avLst>
              <a:gd name="adj1" fmla="val 779"/>
              <a:gd name="adj2" fmla="val 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5410080" y="4495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com.acme.m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09:27:41Z</dcterms:created>
  <dc:creator>ubeda</dc:creator>
  <dc:description/>
  <dc:language>en-US</dc:language>
  <cp:lastModifiedBy>sfrenot</cp:lastModifiedBy>
  <dcterms:modified xsi:type="dcterms:W3CDTF">2003-11-12T22:05:39Z</dcterms:modified>
  <cp:revision>85</cp:revision>
  <dc:subject/>
  <dc:title>Architecture de réseaux de services</dc:title>
</cp:coreProperties>
</file>