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wmf" ContentType="image/x-wm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F446-2F60-4447-927D-450CFE3FBB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ductus-Semibold"/>
              </a:rPr>
              <a:t>Bundle Classloader Deleg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is specification defines a standard delegation model for bundle classload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in order to make bundle classloading and bundle resource access consis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across Framework implementations from different vend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A bundle's classloader first delegates the request to load a class or acces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resource to the system classloader, before searching any shared packag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the bundle itself (in this order) for the requested class or resource. Any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on the system classpath appear to be exported by the system bundle.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further information see </a:t>
            </a:r>
            <a:r>
              <a:rPr b="0" i="1" lang="fr-FR" sz="1200" spc="-1" strike="noStrike">
                <a:solidFill>
                  <a:srgbClr val="000000"/>
                </a:solidFill>
                <a:latin typeface="Proforma-BookItalic"/>
              </a:rPr>
              <a:t>Finding Classes and Resources </a:t>
            </a:r>
            <a:r>
              <a:rPr b="0" lang="fr-FR" sz="1200" spc="-1" strike="noStrike">
                <a:solidFill>
                  <a:srgbClr val="000000"/>
                </a:solidFill>
                <a:latin typeface="Proforma-Book"/>
              </a:rPr>
              <a:t>on page 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391-2892-434D-9645-4D92B75D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539-EA64-453D-A55E-2CD012BC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615-85E5-436C-810E-33D1B056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E2C-3075-4112-91C8-FE8177C7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83D8-8E17-4BC9-A0C8-E09C8150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7312-8C50-4E25-986C-B1A37383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5586-2094-465D-9B9F-B14BFB54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770C-42C3-481F-BEA8-6FC042A1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5E25-7D04-4BBE-8E88-260A7245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CC54-2A6B-4A84-86D5-446B5E9F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6DB3-BEE7-4BAC-8EBD-5730BB6F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C31-8A38-45CD-857E-F3A6B697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D214-4AAA-4843-B691-AA00BA9B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8ACC-FA1F-4E2F-8A75-C15593A2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BD48-8CD2-4D7A-9102-83D9E37E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C5EF-D573-46D8-92DE-A1898ACD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636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2200" y="198108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636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2200" y="4130640"/>
            <a:ext cx="2757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6740-E1F9-4C23-961D-6225BEA6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69A-7109-4CC9-80C0-280F738E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791-C482-4CE4-9690-E5098344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6CC-6F96-4069-BAB3-79F5AD5A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A3D-A63A-43AC-B074-110D581F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952-1912-4486-B269-F78868CD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69280" y="413064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309-275E-4685-8C89-EC749818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69280" y="1981080"/>
            <a:ext cx="417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6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90D-0BCA-40C0-9B71-415088B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4852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5D0B-9932-4EA6-8B53-407A50A3D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804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6095880"/>
            <a:ext cx="38124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58200" y="6095880"/>
            <a:ext cx="3808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609480" y="5943600"/>
            <a:ext cx="1143000" cy="4777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162920" y="5958000"/>
            <a:ext cx="1218960" cy="3315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828800" y="6095880"/>
            <a:ext cx="5181480" cy="76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A8A-517D-4059-94F0-9D968D6FF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1523880" cy="160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133720" y="304920"/>
            <a:ext cx="671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NTRE D'INNOVATIO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TELECOMMUN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INTEGRATION DE SERVICE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238880" y="5715000"/>
            <a:ext cx="16765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" y="5791320"/>
            <a:ext cx="77148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43200" y="5867280"/>
            <a:ext cx="3745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ARÈ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905120"/>
            <a:ext cx="9372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OSGi</a:t>
            </a:r>
            <a:br>
              <a:rPr sz="4400"/>
            </a:b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Part III Architecture Interne</a:t>
            </a:r>
            <a:br>
              <a:rPr sz="4400"/>
            </a:b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1 Gestion des Class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5105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Arial"/>
              </a:rPr>
              <a:t>Architectures de Réseaux d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05432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éphane Fré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1219320"/>
            <a:ext cx="9067320" cy="5562360"/>
            <a:chOff x="0" y="1219320"/>
            <a:chExt cx="9067320" cy="5562360"/>
          </a:xfrm>
        </p:grpSpPr>
        <p:grpSp>
          <p:nvGrpSpPr>
            <p:cNvPr id="405" name=""/>
            <p:cNvGrpSpPr/>
            <p:nvPr/>
          </p:nvGrpSpPr>
          <p:grpSpPr>
            <a:xfrm>
              <a:off x="0" y="1219320"/>
              <a:ext cx="9067320" cy="5485680"/>
              <a:chOff x="0" y="1219320"/>
              <a:chExt cx="9067320" cy="5485680"/>
            </a:xfrm>
          </p:grpSpPr>
          <p:sp>
            <p:nvSpPr>
              <p:cNvPr id="406" name=""/>
              <p:cNvSpPr/>
              <p:nvPr/>
            </p:nvSpPr>
            <p:spPr>
              <a:xfrm>
                <a:off x="2997360" y="4572000"/>
                <a:ext cx="179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® Adele, 20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4640" y="3657600"/>
                <a:ext cx="3596760" cy="3047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00880" y="4411440"/>
                <a:ext cx="1498320" cy="1676160"/>
              </a:xfrm>
              <a:custGeom>
                <a:avLst/>
                <a:gdLst/>
                <a:ahLst/>
                <a:rect l="l" t="t" r="r" b="b"/>
                <a:pathLst>
                  <a:path w="3008" h="2480">
                    <a:moveTo>
                      <a:pt x="224" y="1416"/>
                    </a:moveTo>
                    <a:cubicBezTo>
                      <a:pt x="216" y="1368"/>
                      <a:pt x="64" y="1336"/>
                      <a:pt x="32" y="1272"/>
                    </a:cubicBezTo>
                    <a:cubicBezTo>
                      <a:pt x="0" y="1208"/>
                      <a:pt x="0" y="1096"/>
                      <a:pt x="32" y="1032"/>
                    </a:cubicBezTo>
                    <a:cubicBezTo>
                      <a:pt x="64" y="968"/>
                      <a:pt x="200" y="952"/>
                      <a:pt x="224" y="888"/>
                    </a:cubicBezTo>
                    <a:cubicBezTo>
                      <a:pt x="248" y="824"/>
                      <a:pt x="176" y="728"/>
                      <a:pt x="176" y="648"/>
                    </a:cubicBezTo>
                    <a:cubicBezTo>
                      <a:pt x="176" y="568"/>
                      <a:pt x="168" y="472"/>
                      <a:pt x="224" y="408"/>
                    </a:cubicBezTo>
                    <a:cubicBezTo>
                      <a:pt x="280" y="344"/>
                      <a:pt x="408" y="288"/>
                      <a:pt x="512" y="264"/>
                    </a:cubicBezTo>
                    <a:cubicBezTo>
                      <a:pt x="616" y="240"/>
                      <a:pt x="760" y="272"/>
                      <a:pt x="848" y="264"/>
                    </a:cubicBezTo>
                    <a:cubicBezTo>
                      <a:pt x="936" y="256"/>
                      <a:pt x="968" y="256"/>
                      <a:pt x="1040" y="216"/>
                    </a:cubicBezTo>
                    <a:cubicBezTo>
                      <a:pt x="1112" y="176"/>
                      <a:pt x="1192" y="48"/>
                      <a:pt x="1280" y="24"/>
                    </a:cubicBezTo>
                    <a:cubicBezTo>
                      <a:pt x="1368" y="0"/>
                      <a:pt x="1496" y="40"/>
                      <a:pt x="1568" y="72"/>
                    </a:cubicBezTo>
                    <a:cubicBezTo>
                      <a:pt x="1640" y="104"/>
                      <a:pt x="1648" y="192"/>
                      <a:pt x="1712" y="216"/>
                    </a:cubicBezTo>
                    <a:cubicBezTo>
                      <a:pt x="1776" y="240"/>
                      <a:pt x="1840" y="232"/>
                      <a:pt x="1952" y="216"/>
                    </a:cubicBezTo>
                    <a:cubicBezTo>
                      <a:pt x="2064" y="200"/>
                      <a:pt x="2256" y="104"/>
                      <a:pt x="2384" y="120"/>
                    </a:cubicBezTo>
                    <a:cubicBezTo>
                      <a:pt x="2512" y="136"/>
                      <a:pt x="2640" y="216"/>
                      <a:pt x="2720" y="312"/>
                    </a:cubicBezTo>
                    <a:cubicBezTo>
                      <a:pt x="2800" y="408"/>
                      <a:pt x="2872" y="600"/>
                      <a:pt x="2864" y="696"/>
                    </a:cubicBezTo>
                    <a:cubicBezTo>
                      <a:pt x="2856" y="792"/>
                      <a:pt x="2704" y="808"/>
                      <a:pt x="2672" y="888"/>
                    </a:cubicBezTo>
                    <a:cubicBezTo>
                      <a:pt x="2640" y="968"/>
                      <a:pt x="2624" y="1080"/>
                      <a:pt x="2672" y="1176"/>
                    </a:cubicBezTo>
                    <a:cubicBezTo>
                      <a:pt x="2720" y="1272"/>
                      <a:pt x="2912" y="1360"/>
                      <a:pt x="2960" y="1464"/>
                    </a:cubicBezTo>
                    <a:cubicBezTo>
                      <a:pt x="3008" y="1568"/>
                      <a:pt x="2984" y="1728"/>
                      <a:pt x="2960" y="1800"/>
                    </a:cubicBezTo>
                    <a:cubicBezTo>
                      <a:pt x="2936" y="1872"/>
                      <a:pt x="2856" y="1840"/>
                      <a:pt x="2816" y="1896"/>
                    </a:cubicBezTo>
                    <a:cubicBezTo>
                      <a:pt x="2776" y="1952"/>
                      <a:pt x="2760" y="2072"/>
                      <a:pt x="2720" y="2136"/>
                    </a:cubicBezTo>
                    <a:cubicBezTo>
                      <a:pt x="2680" y="2200"/>
                      <a:pt x="2640" y="2264"/>
                      <a:pt x="2576" y="2280"/>
                    </a:cubicBezTo>
                    <a:cubicBezTo>
                      <a:pt x="2512" y="2296"/>
                      <a:pt x="2416" y="2256"/>
                      <a:pt x="2336" y="2232"/>
                    </a:cubicBezTo>
                    <a:cubicBezTo>
                      <a:pt x="2256" y="2208"/>
                      <a:pt x="2184" y="2120"/>
                      <a:pt x="2096" y="2136"/>
                    </a:cubicBezTo>
                    <a:cubicBezTo>
                      <a:pt x="2008" y="2152"/>
                      <a:pt x="1896" y="2272"/>
                      <a:pt x="1808" y="2328"/>
                    </a:cubicBezTo>
                    <a:cubicBezTo>
                      <a:pt x="1720" y="2384"/>
                      <a:pt x="1664" y="2480"/>
                      <a:pt x="1568" y="2472"/>
                    </a:cubicBezTo>
                    <a:cubicBezTo>
                      <a:pt x="1472" y="2464"/>
                      <a:pt x="1352" y="2312"/>
                      <a:pt x="1232" y="2280"/>
                    </a:cubicBezTo>
                    <a:cubicBezTo>
                      <a:pt x="1112" y="2248"/>
                      <a:pt x="976" y="2296"/>
                      <a:pt x="848" y="2280"/>
                    </a:cubicBezTo>
                    <a:cubicBezTo>
                      <a:pt x="720" y="2264"/>
                      <a:pt x="544" y="2248"/>
                      <a:pt x="464" y="2184"/>
                    </a:cubicBezTo>
                    <a:cubicBezTo>
                      <a:pt x="384" y="2120"/>
                      <a:pt x="416" y="1968"/>
                      <a:pt x="368" y="1896"/>
                    </a:cubicBezTo>
                    <a:cubicBezTo>
                      <a:pt x="320" y="1824"/>
                      <a:pt x="224" y="1808"/>
                      <a:pt x="176" y="1752"/>
                    </a:cubicBezTo>
                    <a:cubicBezTo>
                      <a:pt x="128" y="1696"/>
                      <a:pt x="72" y="1616"/>
                      <a:pt x="80" y="1560"/>
                    </a:cubicBezTo>
                    <a:cubicBezTo>
                      <a:pt x="88" y="1504"/>
                      <a:pt x="232" y="1464"/>
                      <a:pt x="224" y="1416"/>
                    </a:cubicBez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29280" y="4114800"/>
                <a:ext cx="1648440" cy="25142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03280" y="4411440"/>
                <a:ext cx="1873440" cy="19047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Réseau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omotiqu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52080" y="4411440"/>
                <a:ext cx="1723320" cy="158868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360960" y="5145120"/>
                <a:ext cx="1064880" cy="291600"/>
              </a:xfrm>
              <a:custGeom>
                <a:avLst/>
                <a:gdLst/>
                <a:ahLst/>
                <a:rect l="l" t="t" r="r" b="b"/>
                <a:pathLst>
                  <a:path w="1488" h="432">
                    <a:moveTo>
                      <a:pt x="0" y="432"/>
                    </a:moveTo>
                    <a:lnTo>
                      <a:pt x="0" y="0"/>
                    </a:lnTo>
                    <a:lnTo>
                      <a:pt x="144" y="0"/>
                    </a:lnTo>
                    <a:lnTo>
                      <a:pt x="144" y="288"/>
                    </a:lnTo>
                    <a:lnTo>
                      <a:pt x="1344" y="288"/>
                    </a:lnTo>
                    <a:lnTo>
                      <a:pt x="1344" y="0"/>
                    </a:lnTo>
                    <a:lnTo>
                      <a:pt x="1488" y="0"/>
                    </a:lnTo>
                    <a:lnTo>
                      <a:pt x="1488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5490a8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64280" y="4949640"/>
                <a:ext cx="13716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635640" y="4949640"/>
                <a:ext cx="13716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07360" y="4949640"/>
                <a:ext cx="13716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286080" y="4564080"/>
                <a:ext cx="56772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Bund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26760" y="4787640"/>
                <a:ext cx="75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32680" y="478764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04400" y="478764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876120" y="478764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95560" y="5478480"/>
                <a:ext cx="19296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asserelle OSG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7269120" y="4343400"/>
                <a:ext cx="449280" cy="989640"/>
                <a:chOff x="7269120" y="4343400"/>
                <a:chExt cx="449280" cy="9896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343640" y="434340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493760" y="46479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7269120" y="472392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7269120" y="51048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493760" y="472392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93760" y="51048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4814640" y="5181480"/>
                <a:ext cx="11073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éploi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50760" y="4800600"/>
                <a:ext cx="1498680" cy="456840"/>
              </a:xfrm>
              <a:prstGeom prst="leftArrow">
                <a:avLst>
                  <a:gd name="adj1" fmla="val 46296"/>
                  <a:gd name="adj2" fmla="val 86068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63840" y="4724280"/>
                <a:ext cx="50688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WE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62160" y="4884480"/>
                <a:ext cx="449280" cy="990000"/>
                <a:chOff x="362160" y="4884480"/>
                <a:chExt cx="449280" cy="990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36680" y="488448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86800" y="518904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>
                  <a:off x="362160" y="52650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362160" y="56462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86800" y="52650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86800" y="56462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318600" y="5973480"/>
                <a:ext cx="69264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ag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29160" y="4419360"/>
                <a:ext cx="749160" cy="456840"/>
              </a:xfrm>
              <a:prstGeom prst="rect">
                <a:avLst/>
              </a:prstGeom>
              <a:solidFill>
                <a:srgbClr val="66ffcc"/>
              </a:solidFill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pPr>
                  <a:lnSpc>
                    <a:spcPct val="6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Consol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04040" y="4952880"/>
                <a:ext cx="74880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457320" y="525780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54440" y="5852880"/>
                <a:ext cx="799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Opérat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la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asserel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63480" y="4030560"/>
                <a:ext cx="449280" cy="533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69640" y="3733560"/>
                <a:ext cx="123228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ontrôle climatis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215080" y="5935680"/>
                <a:ext cx="749160" cy="45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61640" y="6400800"/>
                <a:ext cx="112860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Moniteur cardiaq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2613240" y="4106880"/>
                <a:ext cx="146520" cy="380160"/>
                <a:chOff x="2613240" y="4106880"/>
                <a:chExt cx="146520" cy="3801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645640" y="4106880"/>
                  <a:ext cx="81360" cy="281160"/>
                </a:xfrm>
                <a:custGeom>
                  <a:avLst/>
                  <a:gdLst>
                    <a:gd name="textAreaLeft" fmla="*/ 9720 w 81360"/>
                    <a:gd name="textAreaRight" fmla="*/ 71640 w 81360"/>
                    <a:gd name="textAreaTop" fmla="*/ 9720 h 281160"/>
                    <a:gd name="textAreaBottom" fmla="*/ 271440 h 281160"/>
                  </a:gdLst>
                  <a:ahLst/>
                  <a:rect l="textAreaLeft" t="textAreaTop" r="textAreaRight" b="textAreaBottom"/>
                  <a:pathLst>
                    <a:path w="21600" h="74411">
                      <a:moveTo>
                        <a:pt x="9000" y="0"/>
                      </a:moveTo>
                      <a:arcTo wR="9000" hR="9000" stAng="16200000" swAng="-5400000"/>
                      <a:lnTo>
                        <a:pt x="0" y="65411"/>
                      </a:lnTo>
                      <a:arcTo wR="9000" hR="9000" stAng="10800000" swAng="-5400000"/>
                      <a:lnTo>
                        <a:pt x="12600" y="74411"/>
                      </a:lnTo>
                      <a:arcTo wR="9000" hR="9000" stAng="5400000" swAng="-5400000"/>
                      <a:lnTo>
                        <a:pt x="21600" y="9000"/>
                      </a:lnTo>
                      <a:arcTo wR="9000" hR="90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645640" y="4222440"/>
                  <a:ext cx="81360" cy="16524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613240" y="4338360"/>
                  <a:ext cx="146520" cy="1486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2289960" y="6011640"/>
                <a:ext cx="299520" cy="304560"/>
              </a:xfrm>
              <a:custGeom>
                <a:avLst/>
                <a:gdLst>
                  <a:gd name="textAreaLeft" fmla="*/ 70200 w 299520"/>
                  <a:gd name="textAreaRight" fmla="*/ 228960 w 299520"/>
                  <a:gd name="textAreaTop" fmla="*/ 35640 h 304560"/>
                  <a:gd name="textAreaBottom" fmla="*/ 191160 h 3045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414080" y="4182840"/>
                <a:ext cx="663120" cy="533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47240" y="3886200"/>
                <a:ext cx="116964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ompteur électriq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1478160" y="4335480"/>
                <a:ext cx="524520" cy="532800"/>
                <a:chOff x="1478160" y="4335480"/>
                <a:chExt cx="524520" cy="532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478160" y="4335480"/>
                  <a:ext cx="524520" cy="532800"/>
                </a:xfrm>
                <a:prstGeom prst="blockArc">
                  <a:avLst>
                    <a:gd name="adj1" fmla="val 10800000"/>
                    <a:gd name="adj2" fmla="val 0"/>
                    <a:gd name="adj3" fmla="val 47222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1635120" y="4388760"/>
                  <a:ext cx="10476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439720" y="6011640"/>
                <a:ext cx="449280" cy="304560"/>
                <a:chOff x="2439720" y="6011640"/>
                <a:chExt cx="449280" cy="3045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2439720" y="6011640"/>
                  <a:ext cx="11232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552040" y="6011640"/>
                  <a:ext cx="11232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664360" y="6011640"/>
                  <a:ext cx="11232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776680" y="6011640"/>
                  <a:ext cx="11232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>
                <a:off x="6444360" y="3276360"/>
                <a:ext cx="374760" cy="914040"/>
              </a:xfrm>
              <a:prstGeom prst="downArrow">
                <a:avLst>
                  <a:gd name="adj1" fmla="val 45241"/>
                  <a:gd name="adj2" fmla="val 64363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19720" y="1219320"/>
                <a:ext cx="134856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78120" y="1295280"/>
                <a:ext cx="88488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hôpita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718760" y="1219320"/>
                <a:ext cx="134856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58800" y="1295280"/>
                <a:ext cx="92124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distribut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électricité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857600">
                <a:off x="7268760" y="3314160"/>
                <a:ext cx="374400" cy="914040"/>
              </a:xfrm>
              <a:prstGeom prst="downArrow">
                <a:avLst>
                  <a:gd name="adj1" fmla="val 45241"/>
                  <a:gd name="adj2" fmla="val 64424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21040" y="1219320"/>
                <a:ext cx="134856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70800" y="2239920"/>
                <a:ext cx="67428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08400" y="261288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33000" y="1295280"/>
                <a:ext cx="97776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société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gardiennage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9761600">
                <a:off x="5920200" y="3276000"/>
                <a:ext cx="374400" cy="914040"/>
              </a:xfrm>
              <a:prstGeom prst="downArrow">
                <a:avLst>
                  <a:gd name="adj1" fmla="val 45241"/>
                  <a:gd name="adj2" fmla="val 64424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02120" y="5851440"/>
                <a:ext cx="610200" cy="3805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98160" y="6240240"/>
                <a:ext cx="58608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entral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alarm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681960" y="525780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906960" y="525780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5620320" y="2209680"/>
                <a:ext cx="449280" cy="990000"/>
                <a:chOff x="5620320" y="2209680"/>
                <a:chExt cx="449280" cy="9900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5694840" y="220968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844960" y="251424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562032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562032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84496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84496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6369840" y="2239920"/>
                <a:ext cx="67428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607080" y="261288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7119000" y="2209680"/>
                <a:ext cx="449280" cy="990000"/>
                <a:chOff x="7119000" y="2209680"/>
                <a:chExt cx="449280" cy="9900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193520" y="220968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343640" y="251424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711900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711900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34364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34364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7868520" y="2239920"/>
                <a:ext cx="67428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105400" y="261288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8618040" y="2209680"/>
                <a:ext cx="449280" cy="990000"/>
                <a:chOff x="8618040" y="2209680"/>
                <a:chExt cx="449280" cy="9900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8692560" y="220968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42680" y="251424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861804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861804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84268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84268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4571280" y="5410080"/>
                <a:ext cx="1498320" cy="380520"/>
              </a:xfrm>
              <a:prstGeom prst="leftRightArrow">
                <a:avLst>
                  <a:gd name="adj1" fmla="val 50000"/>
                  <a:gd name="adj2" fmla="val 78386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51000" y="5744880"/>
                <a:ext cx="104328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teractio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44240" y="3276360"/>
                <a:ext cx="374400" cy="914040"/>
              </a:xfrm>
              <a:prstGeom prst="upDownArrow">
                <a:avLst>
                  <a:gd name="adj1" fmla="val 50000"/>
                  <a:gd name="adj2" fmla="val 48601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857600">
                <a:off x="7568280" y="3314160"/>
                <a:ext cx="374760" cy="914040"/>
              </a:xfrm>
              <a:prstGeom prst="upDownArrow">
                <a:avLst>
                  <a:gd name="adj1" fmla="val 50000"/>
                  <a:gd name="adj2" fmla="val 48554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9761600">
                <a:off x="5620320" y="3276000"/>
                <a:ext cx="374400" cy="914040"/>
              </a:xfrm>
              <a:prstGeom prst="upDownArrow">
                <a:avLst>
                  <a:gd name="adj1" fmla="val 50000"/>
                  <a:gd name="adj2" fmla="val 48601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3276360"/>
                <a:ext cx="4046400" cy="380880"/>
              </a:xfrm>
              <a:prstGeom prst="triangle">
                <a:avLst>
                  <a:gd name="adj" fmla="val 50000"/>
                </a:avLst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911520" y="4944960"/>
                <a:ext cx="749160" cy="732240"/>
                <a:chOff x="911520" y="4944960"/>
                <a:chExt cx="749160" cy="73224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1006560" y="4944960"/>
                  <a:ext cx="599040" cy="380880"/>
                  <a:chOff x="1006560" y="4944960"/>
                  <a:chExt cx="599040" cy="38088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rot="16200000">
                    <a:off x="967320" y="5060160"/>
                    <a:ext cx="228240" cy="149760"/>
                  </a:xfrm>
                  <a:custGeom>
                    <a:avLst/>
                    <a:gdLst>
                      <a:gd name="textAreaLeft" fmla="*/ 50040 w 228240"/>
                      <a:gd name="textAreaRight" fmla="*/ 178200 w 228240"/>
                      <a:gd name="textAreaTop" fmla="*/ 32760 h 149760"/>
                      <a:gd name="textAreaBottom" fmla="*/ 117000 h 149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5490a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156320" y="4944960"/>
                    <a:ext cx="449280" cy="380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5490a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" name=""/>
                <p:cNvSpPr/>
                <p:nvPr/>
              </p:nvSpPr>
              <p:spPr>
                <a:xfrm>
                  <a:off x="911520" y="5401800"/>
                  <a:ext cx="74916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spAutoFit/>
                </a:bodyPr>
                <a:p>
                  <a:pPr algn="ctr">
                    <a:lnSpc>
                      <a:spcPct val="6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Camera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surveillan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264320" y="1676160"/>
                <a:ext cx="449280" cy="990000"/>
                <a:chOff x="1264320" y="1676160"/>
                <a:chExt cx="449280" cy="9900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338840" y="167616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488960" y="198072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1264320" y="205668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1264320" y="243792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488960" y="205668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488960" y="243792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983160" y="2765160"/>
                <a:ext cx="117576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ager/Ag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hors foy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63720" y="1828800"/>
                <a:ext cx="30888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"/>
              <p:cNvSpPr/>
              <p:nvPr/>
            </p:nvSpPr>
            <p:spPr>
              <a:xfrm rot="1471200">
                <a:off x="2098080" y="3352320"/>
                <a:ext cx="3971520" cy="380520"/>
              </a:xfrm>
              <a:prstGeom prst="leftRightArrow">
                <a:avLst>
                  <a:gd name="adj1" fmla="val 50000"/>
                  <a:gd name="adj2" fmla="val 107512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0" y="1219320"/>
              <a:ext cx="8992440" cy="5562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ucture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1670040"/>
            <a:ext cx="5969160" cy="4800600"/>
          </a:xfrm>
          <a:prstGeom prst="ellipse">
            <a:avLst/>
          </a:prstGeom>
          <a:solidFill>
            <a:srgbClr val="f4f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438280" y="2349360"/>
            <a:ext cx="3352680" cy="2743200"/>
            <a:chOff x="2438280" y="2349360"/>
            <a:chExt cx="3352680" cy="2743200"/>
          </a:xfrm>
        </p:grpSpPr>
        <p:sp>
          <p:nvSpPr>
            <p:cNvPr id="528" name=""/>
            <p:cNvSpPr/>
            <p:nvPr/>
          </p:nvSpPr>
          <p:spPr>
            <a:xfrm>
              <a:off x="2438280" y="2584440"/>
              <a:ext cx="30456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42840" y="2736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38280" y="311796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42840" y="3270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42840" y="410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05160" y="27367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5486040" y="2584080"/>
              <a:ext cx="304920" cy="304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05160" y="31939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6200000">
              <a:off x="5486040" y="3041280"/>
              <a:ext cx="304920" cy="304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64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05160" y="41083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05160" y="45655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438280" y="3956040"/>
              <a:ext cx="304560" cy="30492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5333760" y="3956040"/>
              <a:ext cx="380880" cy="30492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2438280" y="4489560"/>
              <a:ext cx="304560" cy="30456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333760" y="4413240"/>
              <a:ext cx="380880" cy="30492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87440" y="2349360"/>
              <a:ext cx="1905120" cy="27432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743200"/>
                <a:gd name="textAreaBottom" fmla="*/ 2650320 h 2743200"/>
              </a:gdLst>
              <a:ahLst/>
              <a:rect l="textAreaLeft" t="textAreaTop" r="textAreaRight" b="textAreaBottom"/>
              <a:pathLst>
                <a:path w="21600" h="31100">
                  <a:moveTo>
                    <a:pt x="3600" y="0"/>
                  </a:moveTo>
                  <a:arcTo wR="3600" hR="3600" stAng="16200000" swAng="-5400000"/>
                  <a:lnTo>
                    <a:pt x="0" y="27500"/>
                  </a:lnTo>
                  <a:arcTo wR="3600" hR="3600" stAng="10800000" swAng="-5400000"/>
                  <a:lnTo>
                    <a:pt x="18000" y="311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222800" y="3956040"/>
            <a:ext cx="761760" cy="609480"/>
            <a:chOff x="4222800" y="3956040"/>
            <a:chExt cx="761760" cy="609480"/>
          </a:xfrm>
        </p:grpSpPr>
        <p:sp>
          <p:nvSpPr>
            <p:cNvPr id="546" name=""/>
            <p:cNvSpPr/>
            <p:nvPr/>
          </p:nvSpPr>
          <p:spPr>
            <a:xfrm>
              <a:off x="4336920" y="3956040"/>
              <a:ext cx="533520" cy="609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13240" y="40320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13240" y="41083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13240" y="41846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3240" y="42606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22800" y="4336920"/>
              <a:ext cx="7617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Verdana"/>
                </a:rPr>
                <a:t>manife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352680" y="2851200"/>
            <a:ext cx="761760" cy="1752480"/>
            <a:chOff x="3352680" y="2851200"/>
            <a:chExt cx="761760" cy="1752480"/>
          </a:xfrm>
        </p:grpSpPr>
        <p:grpSp>
          <p:nvGrpSpPr>
            <p:cNvPr id="553" name=""/>
            <p:cNvGrpSpPr/>
            <p:nvPr/>
          </p:nvGrpSpPr>
          <p:grpSpPr>
            <a:xfrm>
              <a:off x="3504960" y="3384720"/>
              <a:ext cx="609480" cy="685800"/>
              <a:chOff x="3504960" y="3384720"/>
              <a:chExt cx="609480" cy="685800"/>
            </a:xfrm>
          </p:grpSpPr>
          <p:sp>
            <p:nvSpPr>
              <p:cNvPr id="554" name=""/>
              <p:cNvSpPr/>
              <p:nvPr/>
            </p:nvSpPr>
            <p:spPr>
              <a:xfrm>
                <a:off x="3504960" y="3384720"/>
                <a:ext cx="533160" cy="68580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504960" y="3460680"/>
                <a:ext cx="609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0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0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628080" y="3841920"/>
                <a:ext cx="37260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.clas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3352680" y="3917880"/>
              <a:ext cx="609480" cy="685800"/>
              <a:chOff x="3352680" y="3917880"/>
              <a:chExt cx="609480" cy="685800"/>
            </a:xfrm>
          </p:grpSpPr>
          <p:sp>
            <p:nvSpPr>
              <p:cNvPr id="558" name=""/>
              <p:cNvSpPr/>
              <p:nvPr/>
            </p:nvSpPr>
            <p:spPr>
              <a:xfrm>
                <a:off x="3352680" y="3917880"/>
                <a:ext cx="533160" cy="68580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52680" y="3993840"/>
                <a:ext cx="609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0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0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75800" y="4375080"/>
                <a:ext cx="37260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.clas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352680" y="2851200"/>
              <a:ext cx="609480" cy="685800"/>
              <a:chOff x="3352680" y="2851200"/>
              <a:chExt cx="609480" cy="685800"/>
            </a:xfrm>
          </p:grpSpPr>
          <p:sp>
            <p:nvSpPr>
              <p:cNvPr id="562" name=""/>
              <p:cNvSpPr/>
              <p:nvPr/>
            </p:nvSpPr>
            <p:spPr>
              <a:xfrm>
                <a:off x="3352680" y="2851200"/>
                <a:ext cx="533160" cy="68580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352680" y="2927160"/>
                <a:ext cx="609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0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0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475800" y="3308400"/>
                <a:ext cx="37260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.clas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"/>
          <p:cNvGrpSpPr/>
          <p:nvPr/>
        </p:nvGrpSpPr>
        <p:grpSpPr>
          <a:xfrm>
            <a:off x="4051440" y="3701880"/>
            <a:ext cx="1483560" cy="1792800"/>
            <a:chOff x="4051440" y="3701880"/>
            <a:chExt cx="1483560" cy="1792800"/>
          </a:xfrm>
        </p:grpSpPr>
        <p:sp>
          <p:nvSpPr>
            <p:cNvPr id="566" name=""/>
            <p:cNvSpPr/>
            <p:nvPr/>
          </p:nvSpPr>
          <p:spPr>
            <a:xfrm>
              <a:off x="4051440" y="3701880"/>
              <a:ext cx="1104480" cy="11174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7800" y="515736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Fichier Manif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209680" y="2622600"/>
            <a:ext cx="4572000" cy="3237120"/>
            <a:chOff x="2209680" y="2622600"/>
            <a:chExt cx="4572000" cy="3237120"/>
          </a:xfrm>
        </p:grpSpPr>
        <p:sp>
          <p:nvSpPr>
            <p:cNvPr id="569" name=""/>
            <p:cNvSpPr/>
            <p:nvPr/>
          </p:nvSpPr>
          <p:spPr>
            <a:xfrm>
              <a:off x="3022200" y="2622600"/>
              <a:ext cx="1206720" cy="22352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09680" y="5035680"/>
              <a:ext cx="457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ctivateur +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bjets métiers qu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mplémentent les 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295280" y="2368440"/>
            <a:ext cx="1650960" cy="1346400"/>
            <a:chOff x="1295280" y="2368440"/>
            <a:chExt cx="1650960" cy="1346400"/>
          </a:xfrm>
        </p:grpSpPr>
        <p:sp>
          <p:nvSpPr>
            <p:cNvPr id="572" name=""/>
            <p:cNvSpPr/>
            <p:nvPr/>
          </p:nvSpPr>
          <p:spPr>
            <a:xfrm>
              <a:off x="1295280" y="3013200"/>
              <a:ext cx="8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fourn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73040" y="2368440"/>
              <a:ext cx="673200" cy="13464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199160" y="3765600"/>
            <a:ext cx="1772640" cy="1346040"/>
            <a:chOff x="1199160" y="3765600"/>
            <a:chExt cx="1772640" cy="1346040"/>
          </a:xfrm>
        </p:grpSpPr>
        <p:sp>
          <p:nvSpPr>
            <p:cNvPr id="575" name=""/>
            <p:cNvSpPr/>
            <p:nvPr/>
          </p:nvSpPr>
          <p:spPr>
            <a:xfrm>
              <a:off x="1199160" y="4054320"/>
              <a:ext cx="95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acka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xport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98960" y="3765600"/>
              <a:ext cx="672840" cy="13460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5219640" y="2330280"/>
            <a:ext cx="1514160" cy="1346040"/>
            <a:chOff x="5219640" y="2330280"/>
            <a:chExt cx="1514160" cy="1346040"/>
          </a:xfrm>
        </p:grpSpPr>
        <p:sp>
          <p:nvSpPr>
            <p:cNvPr id="578" name=""/>
            <p:cNvSpPr/>
            <p:nvPr/>
          </p:nvSpPr>
          <p:spPr>
            <a:xfrm>
              <a:off x="5867280" y="3051000"/>
              <a:ext cx="8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requ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19640" y="2330280"/>
              <a:ext cx="672840" cy="13460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207040" y="3740040"/>
            <a:ext cx="1731240" cy="1346400"/>
            <a:chOff x="5207040" y="3740040"/>
            <a:chExt cx="1731240" cy="1346400"/>
          </a:xfrm>
        </p:grpSpPr>
        <p:sp>
          <p:nvSpPr>
            <p:cNvPr id="581" name=""/>
            <p:cNvSpPr/>
            <p:nvPr/>
          </p:nvSpPr>
          <p:spPr>
            <a:xfrm>
              <a:off x="5986440" y="4003560"/>
              <a:ext cx="95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acka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mport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07040" y="3740040"/>
              <a:ext cx="672840" cy="13464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893040" y="1911240"/>
            <a:ext cx="1250280" cy="1650960"/>
            <a:chOff x="3893040" y="1911240"/>
            <a:chExt cx="1250280" cy="1650960"/>
          </a:xfrm>
        </p:grpSpPr>
        <p:grpSp>
          <p:nvGrpSpPr>
            <p:cNvPr id="584" name=""/>
            <p:cNvGrpSpPr/>
            <p:nvPr/>
          </p:nvGrpSpPr>
          <p:grpSpPr>
            <a:xfrm>
              <a:off x="4191120" y="2622600"/>
              <a:ext cx="685800" cy="762120"/>
              <a:chOff x="4191120" y="2622600"/>
              <a:chExt cx="685800" cy="762120"/>
            </a:xfrm>
          </p:grpSpPr>
          <p:sp>
            <p:nvSpPr>
              <p:cNvPr id="585" name=""/>
              <p:cNvSpPr/>
              <p:nvPr/>
            </p:nvSpPr>
            <p:spPr>
              <a:xfrm>
                <a:off x="4191120" y="2622600"/>
                <a:ext cx="685800" cy="762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reload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6040" y="2927520"/>
                <a:ext cx="228600" cy="23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4435560" y="3156120"/>
                <a:ext cx="18432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8" name="start" descr=""/>
              <p:cNvPicPr/>
              <p:nvPr/>
            </p:nvPicPr>
            <p:blipFill>
              <a:blip r:embed="rId3"/>
              <a:stretch/>
            </p:blipFill>
            <p:spPr>
              <a:xfrm>
                <a:off x="4267440" y="2698920"/>
                <a:ext cx="228600" cy="239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9" name=""/>
            <p:cNvGrpSpPr/>
            <p:nvPr/>
          </p:nvGrpSpPr>
          <p:grpSpPr>
            <a:xfrm>
              <a:off x="3893040" y="1911240"/>
              <a:ext cx="1250280" cy="1650960"/>
              <a:chOff x="3893040" y="1911240"/>
              <a:chExt cx="1250280" cy="1650960"/>
            </a:xfrm>
          </p:grpSpPr>
          <p:sp>
            <p:nvSpPr>
              <p:cNvPr id="590" name=""/>
              <p:cNvSpPr/>
              <p:nvPr/>
            </p:nvSpPr>
            <p:spPr>
              <a:xfrm>
                <a:off x="4038480" y="2444760"/>
                <a:ext cx="1104840" cy="111744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893040" y="1911240"/>
                <a:ext cx="112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Ressour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0" y="1219320"/>
            <a:ext cx="9067320" cy="5562360"/>
            <a:chOff x="0" y="1219320"/>
            <a:chExt cx="9067320" cy="5562360"/>
          </a:xfrm>
        </p:grpSpPr>
        <p:grpSp>
          <p:nvGrpSpPr>
            <p:cNvPr id="593" name=""/>
            <p:cNvGrpSpPr/>
            <p:nvPr/>
          </p:nvGrpSpPr>
          <p:grpSpPr>
            <a:xfrm>
              <a:off x="0" y="1219320"/>
              <a:ext cx="9067320" cy="5485680"/>
              <a:chOff x="0" y="1219320"/>
              <a:chExt cx="9067320" cy="5485680"/>
            </a:xfrm>
          </p:grpSpPr>
          <p:sp>
            <p:nvSpPr>
              <p:cNvPr id="594" name=""/>
              <p:cNvSpPr/>
              <p:nvPr/>
            </p:nvSpPr>
            <p:spPr>
              <a:xfrm>
                <a:off x="2997360" y="4572000"/>
                <a:ext cx="179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® Adele, 20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4640" y="3657600"/>
                <a:ext cx="3596760" cy="3047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00880" y="4411440"/>
                <a:ext cx="1498320" cy="1676160"/>
              </a:xfrm>
              <a:custGeom>
                <a:avLst/>
                <a:gdLst/>
                <a:ahLst/>
                <a:rect l="l" t="t" r="r" b="b"/>
                <a:pathLst>
                  <a:path w="3008" h="2480">
                    <a:moveTo>
                      <a:pt x="224" y="1416"/>
                    </a:moveTo>
                    <a:cubicBezTo>
                      <a:pt x="216" y="1368"/>
                      <a:pt x="64" y="1336"/>
                      <a:pt x="32" y="1272"/>
                    </a:cubicBezTo>
                    <a:cubicBezTo>
                      <a:pt x="0" y="1208"/>
                      <a:pt x="0" y="1096"/>
                      <a:pt x="32" y="1032"/>
                    </a:cubicBezTo>
                    <a:cubicBezTo>
                      <a:pt x="64" y="968"/>
                      <a:pt x="200" y="952"/>
                      <a:pt x="224" y="888"/>
                    </a:cubicBezTo>
                    <a:cubicBezTo>
                      <a:pt x="248" y="824"/>
                      <a:pt x="176" y="728"/>
                      <a:pt x="176" y="648"/>
                    </a:cubicBezTo>
                    <a:cubicBezTo>
                      <a:pt x="176" y="568"/>
                      <a:pt x="168" y="472"/>
                      <a:pt x="224" y="408"/>
                    </a:cubicBezTo>
                    <a:cubicBezTo>
                      <a:pt x="280" y="344"/>
                      <a:pt x="408" y="288"/>
                      <a:pt x="512" y="264"/>
                    </a:cubicBezTo>
                    <a:cubicBezTo>
                      <a:pt x="616" y="240"/>
                      <a:pt x="760" y="272"/>
                      <a:pt x="848" y="264"/>
                    </a:cubicBezTo>
                    <a:cubicBezTo>
                      <a:pt x="936" y="256"/>
                      <a:pt x="968" y="256"/>
                      <a:pt x="1040" y="216"/>
                    </a:cubicBezTo>
                    <a:cubicBezTo>
                      <a:pt x="1112" y="176"/>
                      <a:pt x="1192" y="48"/>
                      <a:pt x="1280" y="24"/>
                    </a:cubicBezTo>
                    <a:cubicBezTo>
                      <a:pt x="1368" y="0"/>
                      <a:pt x="1496" y="40"/>
                      <a:pt x="1568" y="72"/>
                    </a:cubicBezTo>
                    <a:cubicBezTo>
                      <a:pt x="1640" y="104"/>
                      <a:pt x="1648" y="192"/>
                      <a:pt x="1712" y="216"/>
                    </a:cubicBezTo>
                    <a:cubicBezTo>
                      <a:pt x="1776" y="240"/>
                      <a:pt x="1840" y="232"/>
                      <a:pt x="1952" y="216"/>
                    </a:cubicBezTo>
                    <a:cubicBezTo>
                      <a:pt x="2064" y="200"/>
                      <a:pt x="2256" y="104"/>
                      <a:pt x="2384" y="120"/>
                    </a:cubicBezTo>
                    <a:cubicBezTo>
                      <a:pt x="2512" y="136"/>
                      <a:pt x="2640" y="216"/>
                      <a:pt x="2720" y="312"/>
                    </a:cubicBezTo>
                    <a:cubicBezTo>
                      <a:pt x="2800" y="408"/>
                      <a:pt x="2872" y="600"/>
                      <a:pt x="2864" y="696"/>
                    </a:cubicBezTo>
                    <a:cubicBezTo>
                      <a:pt x="2856" y="792"/>
                      <a:pt x="2704" y="808"/>
                      <a:pt x="2672" y="888"/>
                    </a:cubicBezTo>
                    <a:cubicBezTo>
                      <a:pt x="2640" y="968"/>
                      <a:pt x="2624" y="1080"/>
                      <a:pt x="2672" y="1176"/>
                    </a:cubicBezTo>
                    <a:cubicBezTo>
                      <a:pt x="2720" y="1272"/>
                      <a:pt x="2912" y="1360"/>
                      <a:pt x="2960" y="1464"/>
                    </a:cubicBezTo>
                    <a:cubicBezTo>
                      <a:pt x="3008" y="1568"/>
                      <a:pt x="2984" y="1728"/>
                      <a:pt x="2960" y="1800"/>
                    </a:cubicBezTo>
                    <a:cubicBezTo>
                      <a:pt x="2936" y="1872"/>
                      <a:pt x="2856" y="1840"/>
                      <a:pt x="2816" y="1896"/>
                    </a:cubicBezTo>
                    <a:cubicBezTo>
                      <a:pt x="2776" y="1952"/>
                      <a:pt x="2760" y="2072"/>
                      <a:pt x="2720" y="2136"/>
                    </a:cubicBezTo>
                    <a:cubicBezTo>
                      <a:pt x="2680" y="2200"/>
                      <a:pt x="2640" y="2264"/>
                      <a:pt x="2576" y="2280"/>
                    </a:cubicBezTo>
                    <a:cubicBezTo>
                      <a:pt x="2512" y="2296"/>
                      <a:pt x="2416" y="2256"/>
                      <a:pt x="2336" y="2232"/>
                    </a:cubicBezTo>
                    <a:cubicBezTo>
                      <a:pt x="2256" y="2208"/>
                      <a:pt x="2184" y="2120"/>
                      <a:pt x="2096" y="2136"/>
                    </a:cubicBezTo>
                    <a:cubicBezTo>
                      <a:pt x="2008" y="2152"/>
                      <a:pt x="1896" y="2272"/>
                      <a:pt x="1808" y="2328"/>
                    </a:cubicBezTo>
                    <a:cubicBezTo>
                      <a:pt x="1720" y="2384"/>
                      <a:pt x="1664" y="2480"/>
                      <a:pt x="1568" y="2472"/>
                    </a:cubicBezTo>
                    <a:cubicBezTo>
                      <a:pt x="1472" y="2464"/>
                      <a:pt x="1352" y="2312"/>
                      <a:pt x="1232" y="2280"/>
                    </a:cubicBezTo>
                    <a:cubicBezTo>
                      <a:pt x="1112" y="2248"/>
                      <a:pt x="976" y="2296"/>
                      <a:pt x="848" y="2280"/>
                    </a:cubicBezTo>
                    <a:cubicBezTo>
                      <a:pt x="720" y="2264"/>
                      <a:pt x="544" y="2248"/>
                      <a:pt x="464" y="2184"/>
                    </a:cubicBezTo>
                    <a:cubicBezTo>
                      <a:pt x="384" y="2120"/>
                      <a:pt x="416" y="1968"/>
                      <a:pt x="368" y="1896"/>
                    </a:cubicBezTo>
                    <a:cubicBezTo>
                      <a:pt x="320" y="1824"/>
                      <a:pt x="224" y="1808"/>
                      <a:pt x="176" y="1752"/>
                    </a:cubicBezTo>
                    <a:cubicBezTo>
                      <a:pt x="128" y="1696"/>
                      <a:pt x="72" y="1616"/>
                      <a:pt x="80" y="1560"/>
                    </a:cubicBezTo>
                    <a:cubicBezTo>
                      <a:pt x="88" y="1504"/>
                      <a:pt x="232" y="1464"/>
                      <a:pt x="224" y="1416"/>
                    </a:cubicBez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029280" y="4114800"/>
                <a:ext cx="1648440" cy="25142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403280" y="4411440"/>
                <a:ext cx="1873440" cy="19047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Réseau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omotiqu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52080" y="4411440"/>
                <a:ext cx="1723320" cy="158868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360960" y="5145120"/>
                <a:ext cx="1064880" cy="291600"/>
              </a:xfrm>
              <a:custGeom>
                <a:avLst/>
                <a:gdLst/>
                <a:ahLst/>
                <a:rect l="l" t="t" r="r" b="b"/>
                <a:pathLst>
                  <a:path w="1488" h="432">
                    <a:moveTo>
                      <a:pt x="0" y="432"/>
                    </a:moveTo>
                    <a:lnTo>
                      <a:pt x="0" y="0"/>
                    </a:lnTo>
                    <a:lnTo>
                      <a:pt x="144" y="0"/>
                    </a:lnTo>
                    <a:lnTo>
                      <a:pt x="144" y="288"/>
                    </a:lnTo>
                    <a:lnTo>
                      <a:pt x="1344" y="288"/>
                    </a:lnTo>
                    <a:lnTo>
                      <a:pt x="1344" y="0"/>
                    </a:lnTo>
                    <a:lnTo>
                      <a:pt x="1488" y="0"/>
                    </a:lnTo>
                    <a:lnTo>
                      <a:pt x="1488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5490a8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64280" y="4949640"/>
                <a:ext cx="13716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635640" y="4949640"/>
                <a:ext cx="13716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807360" y="4949640"/>
                <a:ext cx="13716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86080" y="4564080"/>
                <a:ext cx="56772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Bund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26760" y="4787640"/>
                <a:ext cx="75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32680" y="478764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704400" y="478764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76120" y="478764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995560" y="5478480"/>
                <a:ext cx="19296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asserelle OSG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7269120" y="4343400"/>
                <a:ext cx="449280" cy="989640"/>
                <a:chOff x="7269120" y="4343400"/>
                <a:chExt cx="449280" cy="9896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7343640" y="434340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493760" y="46479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7269120" y="472392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269120" y="51048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493760" y="472392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493760" y="51048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14640" y="5181480"/>
                <a:ext cx="11073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éploi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50760" y="4800600"/>
                <a:ext cx="1498680" cy="456840"/>
              </a:xfrm>
              <a:prstGeom prst="leftArrow">
                <a:avLst>
                  <a:gd name="adj1" fmla="val 46296"/>
                  <a:gd name="adj2" fmla="val 86068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163840" y="4724280"/>
                <a:ext cx="50688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WE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362160" y="4884480"/>
                <a:ext cx="449280" cy="990000"/>
                <a:chOff x="362160" y="4884480"/>
                <a:chExt cx="449280" cy="990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36680" y="488448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86800" y="518904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362160" y="52650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>
                  <a:off x="362160" y="56462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6800" y="52650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6800" y="56462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318600" y="5973480"/>
                <a:ext cx="69264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ag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29160" y="4419360"/>
                <a:ext cx="749160" cy="456840"/>
              </a:xfrm>
              <a:prstGeom prst="rect">
                <a:avLst/>
              </a:prstGeom>
              <a:solidFill>
                <a:srgbClr val="66ffcc"/>
              </a:solidFill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pPr>
                  <a:lnSpc>
                    <a:spcPct val="6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Consol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404040" y="4952880"/>
                <a:ext cx="74880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57320" y="525780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454440" y="5852880"/>
                <a:ext cx="799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Opérat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la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asserel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63480" y="4030560"/>
                <a:ext cx="449280" cy="533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069640" y="3733560"/>
                <a:ext cx="123228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ontrôle climatis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215080" y="5935680"/>
                <a:ext cx="749160" cy="45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961640" y="6400800"/>
                <a:ext cx="112860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Moniteur cardiaq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" name=""/>
              <p:cNvGrpSpPr/>
              <p:nvPr/>
            </p:nvGrpSpPr>
            <p:grpSpPr>
              <a:xfrm>
                <a:off x="2613240" y="4106880"/>
                <a:ext cx="146520" cy="380160"/>
                <a:chOff x="2613240" y="4106880"/>
                <a:chExt cx="146520" cy="3801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645640" y="4106880"/>
                  <a:ext cx="81360" cy="281160"/>
                </a:xfrm>
                <a:custGeom>
                  <a:avLst/>
                  <a:gdLst>
                    <a:gd name="textAreaLeft" fmla="*/ 9720 w 81360"/>
                    <a:gd name="textAreaRight" fmla="*/ 71640 w 81360"/>
                    <a:gd name="textAreaTop" fmla="*/ 9720 h 281160"/>
                    <a:gd name="textAreaBottom" fmla="*/ 271440 h 281160"/>
                  </a:gdLst>
                  <a:ahLst/>
                  <a:rect l="textAreaLeft" t="textAreaTop" r="textAreaRight" b="textAreaBottom"/>
                  <a:pathLst>
                    <a:path w="21600" h="74411">
                      <a:moveTo>
                        <a:pt x="9000" y="0"/>
                      </a:moveTo>
                      <a:arcTo wR="9000" hR="9000" stAng="16200000" swAng="-5400000"/>
                      <a:lnTo>
                        <a:pt x="0" y="65411"/>
                      </a:lnTo>
                      <a:arcTo wR="9000" hR="9000" stAng="10800000" swAng="-5400000"/>
                      <a:lnTo>
                        <a:pt x="12600" y="74411"/>
                      </a:lnTo>
                      <a:arcTo wR="9000" hR="9000" stAng="5400000" swAng="-5400000"/>
                      <a:lnTo>
                        <a:pt x="21600" y="9000"/>
                      </a:lnTo>
                      <a:arcTo wR="9000" hR="90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645640" y="4222440"/>
                  <a:ext cx="81360" cy="16524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613240" y="4338360"/>
                  <a:ext cx="146520" cy="1486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"/>
              <p:cNvSpPr/>
              <p:nvPr/>
            </p:nvSpPr>
            <p:spPr>
              <a:xfrm>
                <a:off x="2289960" y="6011640"/>
                <a:ext cx="299520" cy="304560"/>
              </a:xfrm>
              <a:custGeom>
                <a:avLst/>
                <a:gdLst>
                  <a:gd name="textAreaLeft" fmla="*/ 70200 w 299520"/>
                  <a:gd name="textAreaRight" fmla="*/ 228960 w 299520"/>
                  <a:gd name="textAreaTop" fmla="*/ 35640 h 304560"/>
                  <a:gd name="textAreaBottom" fmla="*/ 191160 h 3045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14080" y="4182840"/>
                <a:ext cx="663120" cy="533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047240" y="3886200"/>
                <a:ext cx="116964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ompteur électriq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1478160" y="4335480"/>
                <a:ext cx="524520" cy="532800"/>
                <a:chOff x="1478160" y="4335480"/>
                <a:chExt cx="524520" cy="5328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1478160" y="4335480"/>
                  <a:ext cx="524520" cy="532800"/>
                </a:xfrm>
                <a:prstGeom prst="blockArc">
                  <a:avLst>
                    <a:gd name="adj1" fmla="val 10800000"/>
                    <a:gd name="adj2" fmla="val 0"/>
                    <a:gd name="adj3" fmla="val 47222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1635120" y="4388760"/>
                  <a:ext cx="10476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2439720" y="6011640"/>
                <a:ext cx="449280" cy="304560"/>
                <a:chOff x="2439720" y="6011640"/>
                <a:chExt cx="449280" cy="3045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2439720" y="6011640"/>
                  <a:ext cx="11232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552040" y="6011640"/>
                  <a:ext cx="11232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664360" y="6011640"/>
                  <a:ext cx="11232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776680" y="6011640"/>
                  <a:ext cx="11232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6444360" y="3276360"/>
                <a:ext cx="374760" cy="914040"/>
              </a:xfrm>
              <a:prstGeom prst="downArrow">
                <a:avLst>
                  <a:gd name="adj1" fmla="val 45241"/>
                  <a:gd name="adj2" fmla="val 64363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19720" y="1219320"/>
                <a:ext cx="134856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78120" y="1295280"/>
                <a:ext cx="88488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hôpita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18760" y="1219320"/>
                <a:ext cx="134856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858800" y="1295280"/>
                <a:ext cx="92124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distribut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électricité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57600">
                <a:off x="7268760" y="3314160"/>
                <a:ext cx="374400" cy="914040"/>
              </a:xfrm>
              <a:prstGeom prst="downArrow">
                <a:avLst>
                  <a:gd name="adj1" fmla="val 45241"/>
                  <a:gd name="adj2" fmla="val 64424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721040" y="1219320"/>
                <a:ext cx="134856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870800" y="2239920"/>
                <a:ext cx="67428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08400" y="261288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33000" y="1295280"/>
                <a:ext cx="97776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société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gardiennage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761600">
                <a:off x="5920200" y="3276000"/>
                <a:ext cx="374400" cy="914040"/>
              </a:xfrm>
              <a:prstGeom prst="downArrow">
                <a:avLst>
                  <a:gd name="adj1" fmla="val 45241"/>
                  <a:gd name="adj2" fmla="val 64424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02120" y="5851440"/>
                <a:ext cx="610200" cy="3805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298160" y="6240240"/>
                <a:ext cx="58608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entral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alarm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681960" y="525780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906960" y="525780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5620320" y="2209680"/>
                <a:ext cx="449280" cy="990000"/>
                <a:chOff x="5620320" y="2209680"/>
                <a:chExt cx="449280" cy="99000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5694840" y="220968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844960" y="251424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H="1">
                  <a:off x="562032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>
                  <a:off x="562032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84496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84496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6369840" y="2239920"/>
                <a:ext cx="67428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607080" y="261288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7119000" y="2209680"/>
                <a:ext cx="449280" cy="990000"/>
                <a:chOff x="7119000" y="2209680"/>
                <a:chExt cx="449280" cy="9900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7193520" y="220968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343640" y="251424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711900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>
                  <a:off x="711900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34364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34364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"/>
              <p:cNvSpPr/>
              <p:nvPr/>
            </p:nvSpPr>
            <p:spPr>
              <a:xfrm>
                <a:off x="7868520" y="2239920"/>
                <a:ext cx="67428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105400" y="2612880"/>
                <a:ext cx="13716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4" name=""/>
              <p:cNvGrpSpPr/>
              <p:nvPr/>
            </p:nvGrpSpPr>
            <p:grpSpPr>
              <a:xfrm>
                <a:off x="8618040" y="2209680"/>
                <a:ext cx="449280" cy="990000"/>
                <a:chOff x="8618040" y="2209680"/>
                <a:chExt cx="449280" cy="9900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8692560" y="220968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842680" y="251424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>
                  <a:off x="861804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>
                  <a:off x="861804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842680" y="259020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842680" y="297144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"/>
              <p:cNvSpPr/>
              <p:nvPr/>
            </p:nvSpPr>
            <p:spPr>
              <a:xfrm>
                <a:off x="4571280" y="5410080"/>
                <a:ext cx="1498320" cy="380520"/>
              </a:xfrm>
              <a:prstGeom prst="leftRightArrow">
                <a:avLst>
                  <a:gd name="adj1" fmla="val 50000"/>
                  <a:gd name="adj2" fmla="val 78386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51000" y="5744880"/>
                <a:ext cx="104328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teractio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44240" y="3276360"/>
                <a:ext cx="374400" cy="914040"/>
              </a:xfrm>
              <a:prstGeom prst="upDownArrow">
                <a:avLst>
                  <a:gd name="adj1" fmla="val 50000"/>
                  <a:gd name="adj2" fmla="val 48601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857600">
                <a:off x="7568280" y="3314160"/>
                <a:ext cx="374760" cy="914040"/>
              </a:xfrm>
              <a:prstGeom prst="upDownArrow">
                <a:avLst>
                  <a:gd name="adj1" fmla="val 50000"/>
                  <a:gd name="adj2" fmla="val 48554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9761600">
                <a:off x="5620320" y="3276000"/>
                <a:ext cx="374400" cy="914040"/>
              </a:xfrm>
              <a:prstGeom prst="upDownArrow">
                <a:avLst>
                  <a:gd name="adj1" fmla="val 50000"/>
                  <a:gd name="adj2" fmla="val 48601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3276360"/>
                <a:ext cx="4046400" cy="380880"/>
              </a:xfrm>
              <a:prstGeom prst="triangle">
                <a:avLst>
                  <a:gd name="adj" fmla="val 50000"/>
                </a:avLst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911520" y="4944960"/>
                <a:ext cx="749160" cy="732240"/>
                <a:chOff x="911520" y="4944960"/>
                <a:chExt cx="749160" cy="732240"/>
              </a:xfrm>
            </p:grpSpPr>
            <p:grpSp>
              <p:nvGrpSpPr>
                <p:cNvPr id="698" name=""/>
                <p:cNvGrpSpPr/>
                <p:nvPr/>
              </p:nvGrpSpPr>
              <p:grpSpPr>
                <a:xfrm>
                  <a:off x="1006560" y="4944960"/>
                  <a:ext cx="599040" cy="380880"/>
                  <a:chOff x="1006560" y="4944960"/>
                  <a:chExt cx="599040" cy="38088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rot="16200000">
                    <a:off x="967320" y="5060160"/>
                    <a:ext cx="228240" cy="149760"/>
                  </a:xfrm>
                  <a:custGeom>
                    <a:avLst/>
                    <a:gdLst>
                      <a:gd name="textAreaLeft" fmla="*/ 50040 w 228240"/>
                      <a:gd name="textAreaRight" fmla="*/ 178200 w 228240"/>
                      <a:gd name="textAreaTop" fmla="*/ 32760 h 149760"/>
                      <a:gd name="textAreaBottom" fmla="*/ 117000 h 149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5490a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1156320" y="4944960"/>
                    <a:ext cx="449280" cy="380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5490a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" name=""/>
                <p:cNvSpPr/>
                <p:nvPr/>
              </p:nvSpPr>
              <p:spPr>
                <a:xfrm>
                  <a:off x="911520" y="5401800"/>
                  <a:ext cx="74916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spAutoFit/>
                </a:bodyPr>
                <a:p>
                  <a:pPr algn="ctr">
                    <a:lnSpc>
                      <a:spcPct val="6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Camera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surveillan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1264320" y="1676160"/>
                <a:ext cx="449280" cy="990000"/>
                <a:chOff x="1264320" y="1676160"/>
                <a:chExt cx="449280" cy="99000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1338840" y="1676160"/>
                  <a:ext cx="29952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488960" y="198072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1264320" y="205668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>
                  <a:off x="1264320" y="243792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488960" y="205668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488960" y="2437920"/>
                  <a:ext cx="2246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983160" y="2765160"/>
                <a:ext cx="117576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ager/Ag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hors foy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63720" y="1828800"/>
                <a:ext cx="30888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"/>
              <p:cNvSpPr/>
              <p:nvPr/>
            </p:nvSpPr>
            <p:spPr>
              <a:xfrm rot="1471200">
                <a:off x="2098080" y="3352320"/>
                <a:ext cx="3971520" cy="380520"/>
              </a:xfrm>
              <a:prstGeom prst="leftRightArrow">
                <a:avLst>
                  <a:gd name="adj1" fmla="val 50000"/>
                  <a:gd name="adj2" fmla="val 107512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0" y="1219320"/>
              <a:ext cx="8992440" cy="5562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ucture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43000" y="1670040"/>
            <a:ext cx="5969160" cy="4800600"/>
          </a:xfrm>
          <a:prstGeom prst="ellipse">
            <a:avLst/>
          </a:prstGeom>
          <a:solidFill>
            <a:srgbClr val="f4f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2438280" y="2349360"/>
            <a:ext cx="3352680" cy="2743200"/>
            <a:chOff x="2438280" y="2349360"/>
            <a:chExt cx="3352680" cy="2743200"/>
          </a:xfrm>
        </p:grpSpPr>
        <p:sp>
          <p:nvSpPr>
            <p:cNvPr id="716" name=""/>
            <p:cNvSpPr/>
            <p:nvPr/>
          </p:nvSpPr>
          <p:spPr>
            <a:xfrm>
              <a:off x="2438280" y="2584440"/>
              <a:ext cx="30456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2840" y="27367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38280" y="311796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42840" y="32702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42840" y="41083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05160" y="27367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6200000">
              <a:off x="5486040" y="2584080"/>
              <a:ext cx="304920" cy="304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05160" y="31939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6200000">
              <a:off x="5486040" y="3041280"/>
              <a:ext cx="304920" cy="304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742840" y="4641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05160" y="41083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05160" y="45655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438280" y="3956040"/>
              <a:ext cx="304560" cy="30492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5333760" y="3956040"/>
              <a:ext cx="380880" cy="30492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438280" y="4489560"/>
              <a:ext cx="304560" cy="30456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33760" y="4413240"/>
              <a:ext cx="380880" cy="30492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187440" y="2349360"/>
              <a:ext cx="1905120" cy="27432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743200"/>
                <a:gd name="textAreaBottom" fmla="*/ 2650320 h 2743200"/>
              </a:gdLst>
              <a:ahLst/>
              <a:rect l="textAreaLeft" t="textAreaTop" r="textAreaRight" b="textAreaBottom"/>
              <a:pathLst>
                <a:path w="21600" h="31100">
                  <a:moveTo>
                    <a:pt x="3600" y="0"/>
                  </a:moveTo>
                  <a:arcTo wR="3600" hR="3600" stAng="16200000" swAng="-5400000"/>
                  <a:lnTo>
                    <a:pt x="0" y="27500"/>
                  </a:lnTo>
                  <a:arcTo wR="3600" hR="3600" stAng="10800000" swAng="-5400000"/>
                  <a:lnTo>
                    <a:pt x="18000" y="311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222800" y="3956040"/>
            <a:ext cx="761760" cy="609480"/>
            <a:chOff x="4222800" y="3956040"/>
            <a:chExt cx="761760" cy="609480"/>
          </a:xfrm>
        </p:grpSpPr>
        <p:sp>
          <p:nvSpPr>
            <p:cNvPr id="734" name=""/>
            <p:cNvSpPr/>
            <p:nvPr/>
          </p:nvSpPr>
          <p:spPr>
            <a:xfrm>
              <a:off x="4336920" y="3956040"/>
              <a:ext cx="533520" cy="609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13240" y="40320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13240" y="41083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413240" y="41846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13240" y="42606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22800" y="4336920"/>
              <a:ext cx="7617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Verdana"/>
                </a:rPr>
                <a:t>manife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4191120" y="2622600"/>
            <a:ext cx="685800" cy="762120"/>
            <a:chOff x="4191120" y="2622600"/>
            <a:chExt cx="685800" cy="762120"/>
          </a:xfrm>
        </p:grpSpPr>
        <p:sp>
          <p:nvSpPr>
            <p:cNvPr id="741" name=""/>
            <p:cNvSpPr/>
            <p:nvPr/>
          </p:nvSpPr>
          <p:spPr>
            <a:xfrm>
              <a:off x="4191120" y="2622600"/>
              <a:ext cx="685800" cy="76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reload" descr=""/>
            <p:cNvPicPr/>
            <p:nvPr/>
          </p:nvPicPr>
          <p:blipFill>
            <a:blip r:embed="rId2"/>
            <a:stretch/>
          </p:blipFill>
          <p:spPr>
            <a:xfrm>
              <a:off x="4496040" y="2927520"/>
              <a:ext cx="22860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4435560" y="3156120"/>
              <a:ext cx="18432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start" descr=""/>
            <p:cNvPicPr/>
            <p:nvPr/>
          </p:nvPicPr>
          <p:blipFill>
            <a:blip r:embed="rId3"/>
            <a:stretch/>
          </p:blipFill>
          <p:spPr>
            <a:xfrm>
              <a:off x="4267440" y="2698920"/>
              <a:ext cx="228600" cy="23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5" name=""/>
          <p:cNvGrpSpPr/>
          <p:nvPr/>
        </p:nvGrpSpPr>
        <p:grpSpPr>
          <a:xfrm>
            <a:off x="3352680" y="2851200"/>
            <a:ext cx="761760" cy="1752480"/>
            <a:chOff x="3352680" y="2851200"/>
            <a:chExt cx="761760" cy="1752480"/>
          </a:xfrm>
        </p:grpSpPr>
        <p:grpSp>
          <p:nvGrpSpPr>
            <p:cNvPr id="746" name=""/>
            <p:cNvGrpSpPr/>
            <p:nvPr/>
          </p:nvGrpSpPr>
          <p:grpSpPr>
            <a:xfrm>
              <a:off x="3504960" y="3384720"/>
              <a:ext cx="609480" cy="685800"/>
              <a:chOff x="3504960" y="3384720"/>
              <a:chExt cx="609480" cy="685800"/>
            </a:xfrm>
          </p:grpSpPr>
          <p:sp>
            <p:nvSpPr>
              <p:cNvPr id="747" name=""/>
              <p:cNvSpPr/>
              <p:nvPr/>
            </p:nvSpPr>
            <p:spPr>
              <a:xfrm>
                <a:off x="3504960" y="3384720"/>
                <a:ext cx="533160" cy="68580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504960" y="3460680"/>
                <a:ext cx="609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0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0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628080" y="3841920"/>
                <a:ext cx="37260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.clas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3352680" y="3917880"/>
              <a:ext cx="609480" cy="685800"/>
              <a:chOff x="3352680" y="3917880"/>
              <a:chExt cx="609480" cy="685800"/>
            </a:xfrm>
          </p:grpSpPr>
          <p:sp>
            <p:nvSpPr>
              <p:cNvPr id="751" name=""/>
              <p:cNvSpPr/>
              <p:nvPr/>
            </p:nvSpPr>
            <p:spPr>
              <a:xfrm>
                <a:off x="3352680" y="3917880"/>
                <a:ext cx="533160" cy="68580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352680" y="3993840"/>
                <a:ext cx="609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0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0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75800" y="4375080"/>
                <a:ext cx="37260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.clas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3352680" y="2851200"/>
              <a:ext cx="609480" cy="685800"/>
              <a:chOff x="3352680" y="2851200"/>
              <a:chExt cx="609480" cy="685800"/>
            </a:xfrm>
          </p:grpSpPr>
          <p:sp>
            <p:nvSpPr>
              <p:cNvPr id="755" name=""/>
              <p:cNvSpPr/>
              <p:nvPr/>
            </p:nvSpPr>
            <p:spPr>
              <a:xfrm>
                <a:off x="3352680" y="2851200"/>
                <a:ext cx="533160" cy="68580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52680" y="2927160"/>
                <a:ext cx="609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0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0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475800" y="3308400"/>
                <a:ext cx="37260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.clas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>
            <a:off x="4088160" y="515772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Fichier Manif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209680" y="50356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ateur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jets métiers qu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mplémentent l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95280" y="3013200"/>
            <a:ext cx="8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our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9160" y="4054320"/>
            <a:ext cx="9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ack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xpor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67280" y="3051000"/>
            <a:ext cx="8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q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986800" y="4003560"/>
            <a:ext cx="95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ack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mpor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93400" y="19112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0" y="1289160"/>
            <a:ext cx="9143640" cy="5562360"/>
            <a:chOff x="0" y="1289160"/>
            <a:chExt cx="9143640" cy="5562360"/>
          </a:xfrm>
        </p:grpSpPr>
        <p:grpSp>
          <p:nvGrpSpPr>
            <p:cNvPr id="766" name=""/>
            <p:cNvGrpSpPr/>
            <p:nvPr/>
          </p:nvGrpSpPr>
          <p:grpSpPr>
            <a:xfrm>
              <a:off x="0" y="1289160"/>
              <a:ext cx="9143640" cy="5485680"/>
              <a:chOff x="0" y="1289160"/>
              <a:chExt cx="9143640" cy="5485680"/>
            </a:xfrm>
          </p:grpSpPr>
          <p:sp>
            <p:nvSpPr>
              <p:cNvPr id="767" name=""/>
              <p:cNvSpPr/>
              <p:nvPr/>
            </p:nvSpPr>
            <p:spPr>
              <a:xfrm>
                <a:off x="3022560" y="4641840"/>
                <a:ext cx="181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® Adele, 20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6440" y="3727440"/>
                <a:ext cx="3627000" cy="3047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40480" y="4481280"/>
                <a:ext cx="1510920" cy="1676160"/>
              </a:xfrm>
              <a:custGeom>
                <a:avLst/>
                <a:gdLst/>
                <a:ahLst/>
                <a:rect l="l" t="t" r="r" b="b"/>
                <a:pathLst>
                  <a:path w="3008" h="2480">
                    <a:moveTo>
                      <a:pt x="224" y="1416"/>
                    </a:moveTo>
                    <a:cubicBezTo>
                      <a:pt x="216" y="1368"/>
                      <a:pt x="64" y="1336"/>
                      <a:pt x="32" y="1272"/>
                    </a:cubicBezTo>
                    <a:cubicBezTo>
                      <a:pt x="0" y="1208"/>
                      <a:pt x="0" y="1096"/>
                      <a:pt x="32" y="1032"/>
                    </a:cubicBezTo>
                    <a:cubicBezTo>
                      <a:pt x="64" y="968"/>
                      <a:pt x="200" y="952"/>
                      <a:pt x="224" y="888"/>
                    </a:cubicBezTo>
                    <a:cubicBezTo>
                      <a:pt x="248" y="824"/>
                      <a:pt x="176" y="728"/>
                      <a:pt x="176" y="648"/>
                    </a:cubicBezTo>
                    <a:cubicBezTo>
                      <a:pt x="176" y="568"/>
                      <a:pt x="168" y="472"/>
                      <a:pt x="224" y="408"/>
                    </a:cubicBezTo>
                    <a:cubicBezTo>
                      <a:pt x="280" y="344"/>
                      <a:pt x="408" y="288"/>
                      <a:pt x="512" y="264"/>
                    </a:cubicBezTo>
                    <a:cubicBezTo>
                      <a:pt x="616" y="240"/>
                      <a:pt x="760" y="272"/>
                      <a:pt x="848" y="264"/>
                    </a:cubicBezTo>
                    <a:cubicBezTo>
                      <a:pt x="936" y="256"/>
                      <a:pt x="968" y="256"/>
                      <a:pt x="1040" y="216"/>
                    </a:cubicBezTo>
                    <a:cubicBezTo>
                      <a:pt x="1112" y="176"/>
                      <a:pt x="1192" y="48"/>
                      <a:pt x="1280" y="24"/>
                    </a:cubicBezTo>
                    <a:cubicBezTo>
                      <a:pt x="1368" y="0"/>
                      <a:pt x="1496" y="40"/>
                      <a:pt x="1568" y="72"/>
                    </a:cubicBezTo>
                    <a:cubicBezTo>
                      <a:pt x="1640" y="104"/>
                      <a:pt x="1648" y="192"/>
                      <a:pt x="1712" y="216"/>
                    </a:cubicBezTo>
                    <a:cubicBezTo>
                      <a:pt x="1776" y="240"/>
                      <a:pt x="1840" y="232"/>
                      <a:pt x="1952" y="216"/>
                    </a:cubicBezTo>
                    <a:cubicBezTo>
                      <a:pt x="2064" y="200"/>
                      <a:pt x="2256" y="104"/>
                      <a:pt x="2384" y="120"/>
                    </a:cubicBezTo>
                    <a:cubicBezTo>
                      <a:pt x="2512" y="136"/>
                      <a:pt x="2640" y="216"/>
                      <a:pt x="2720" y="312"/>
                    </a:cubicBezTo>
                    <a:cubicBezTo>
                      <a:pt x="2800" y="408"/>
                      <a:pt x="2872" y="600"/>
                      <a:pt x="2864" y="696"/>
                    </a:cubicBezTo>
                    <a:cubicBezTo>
                      <a:pt x="2856" y="792"/>
                      <a:pt x="2704" y="808"/>
                      <a:pt x="2672" y="888"/>
                    </a:cubicBezTo>
                    <a:cubicBezTo>
                      <a:pt x="2640" y="968"/>
                      <a:pt x="2624" y="1080"/>
                      <a:pt x="2672" y="1176"/>
                    </a:cubicBezTo>
                    <a:cubicBezTo>
                      <a:pt x="2720" y="1272"/>
                      <a:pt x="2912" y="1360"/>
                      <a:pt x="2960" y="1464"/>
                    </a:cubicBezTo>
                    <a:cubicBezTo>
                      <a:pt x="3008" y="1568"/>
                      <a:pt x="2984" y="1728"/>
                      <a:pt x="2960" y="1800"/>
                    </a:cubicBezTo>
                    <a:cubicBezTo>
                      <a:pt x="2936" y="1872"/>
                      <a:pt x="2856" y="1840"/>
                      <a:pt x="2816" y="1896"/>
                    </a:cubicBezTo>
                    <a:cubicBezTo>
                      <a:pt x="2776" y="1952"/>
                      <a:pt x="2760" y="2072"/>
                      <a:pt x="2720" y="2136"/>
                    </a:cubicBezTo>
                    <a:cubicBezTo>
                      <a:pt x="2680" y="2200"/>
                      <a:pt x="2640" y="2264"/>
                      <a:pt x="2576" y="2280"/>
                    </a:cubicBezTo>
                    <a:cubicBezTo>
                      <a:pt x="2512" y="2296"/>
                      <a:pt x="2416" y="2256"/>
                      <a:pt x="2336" y="2232"/>
                    </a:cubicBezTo>
                    <a:cubicBezTo>
                      <a:pt x="2256" y="2208"/>
                      <a:pt x="2184" y="2120"/>
                      <a:pt x="2096" y="2136"/>
                    </a:cubicBezTo>
                    <a:cubicBezTo>
                      <a:pt x="2008" y="2152"/>
                      <a:pt x="1896" y="2272"/>
                      <a:pt x="1808" y="2328"/>
                    </a:cubicBezTo>
                    <a:cubicBezTo>
                      <a:pt x="1720" y="2384"/>
                      <a:pt x="1664" y="2480"/>
                      <a:pt x="1568" y="2472"/>
                    </a:cubicBezTo>
                    <a:cubicBezTo>
                      <a:pt x="1472" y="2464"/>
                      <a:pt x="1352" y="2312"/>
                      <a:pt x="1232" y="2280"/>
                    </a:cubicBezTo>
                    <a:cubicBezTo>
                      <a:pt x="1112" y="2248"/>
                      <a:pt x="976" y="2296"/>
                      <a:pt x="848" y="2280"/>
                    </a:cubicBezTo>
                    <a:cubicBezTo>
                      <a:pt x="720" y="2264"/>
                      <a:pt x="544" y="2248"/>
                      <a:pt x="464" y="2184"/>
                    </a:cubicBezTo>
                    <a:cubicBezTo>
                      <a:pt x="384" y="2120"/>
                      <a:pt x="416" y="1968"/>
                      <a:pt x="368" y="1896"/>
                    </a:cubicBezTo>
                    <a:cubicBezTo>
                      <a:pt x="320" y="1824"/>
                      <a:pt x="224" y="1808"/>
                      <a:pt x="176" y="1752"/>
                    </a:cubicBezTo>
                    <a:cubicBezTo>
                      <a:pt x="128" y="1696"/>
                      <a:pt x="72" y="1616"/>
                      <a:pt x="80" y="1560"/>
                    </a:cubicBezTo>
                    <a:cubicBezTo>
                      <a:pt x="88" y="1504"/>
                      <a:pt x="232" y="1464"/>
                      <a:pt x="224" y="1416"/>
                    </a:cubicBez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080040" y="4184640"/>
                <a:ext cx="1662480" cy="25142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415160" y="4481280"/>
                <a:ext cx="1889280" cy="19047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Réseau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omotiqu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077640" y="4481280"/>
                <a:ext cx="1737720" cy="158868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389400" y="5214960"/>
                <a:ext cx="1073880" cy="291600"/>
              </a:xfrm>
              <a:custGeom>
                <a:avLst/>
                <a:gdLst/>
                <a:ahLst/>
                <a:rect l="l" t="t" r="r" b="b"/>
                <a:pathLst>
                  <a:path w="1488" h="432">
                    <a:moveTo>
                      <a:pt x="0" y="432"/>
                    </a:moveTo>
                    <a:lnTo>
                      <a:pt x="0" y="0"/>
                    </a:lnTo>
                    <a:lnTo>
                      <a:pt x="144" y="0"/>
                    </a:lnTo>
                    <a:lnTo>
                      <a:pt x="144" y="288"/>
                    </a:lnTo>
                    <a:lnTo>
                      <a:pt x="1344" y="288"/>
                    </a:lnTo>
                    <a:lnTo>
                      <a:pt x="1344" y="0"/>
                    </a:lnTo>
                    <a:lnTo>
                      <a:pt x="1488" y="0"/>
                    </a:lnTo>
                    <a:lnTo>
                      <a:pt x="1488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5490a8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493440" y="5019480"/>
                <a:ext cx="13824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66240" y="5019480"/>
                <a:ext cx="13824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839400" y="5019480"/>
                <a:ext cx="13824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313440" y="4633920"/>
                <a:ext cx="56772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Bund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4840" y="485748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562560" y="485748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35720" y="485748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908880" y="485748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20760" y="5548320"/>
                <a:ext cx="1945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asserelle OSG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7329960" y="4413240"/>
                <a:ext cx="453240" cy="989640"/>
                <a:chOff x="7329960" y="4413240"/>
                <a:chExt cx="453240" cy="989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7405560" y="441324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556760" y="471780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7329960" y="479376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7329960" y="51746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556760" y="479376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556760" y="51746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" name=""/>
              <p:cNvSpPr/>
              <p:nvPr/>
            </p:nvSpPr>
            <p:spPr>
              <a:xfrm>
                <a:off x="4861440" y="5251320"/>
                <a:ext cx="11073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éploi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588920" y="4870440"/>
                <a:ext cx="1511280" cy="456840"/>
              </a:xfrm>
              <a:prstGeom prst="leftArrow">
                <a:avLst>
                  <a:gd name="adj1" fmla="val 46296"/>
                  <a:gd name="adj2" fmla="val 86792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209200" y="4794120"/>
                <a:ext cx="50688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WE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364680" y="4954320"/>
                <a:ext cx="453240" cy="990000"/>
                <a:chOff x="364680" y="4954320"/>
                <a:chExt cx="453240" cy="99000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440280" y="495432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91480" y="52588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>
                  <a:off x="364680" y="53348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364680" y="57160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91480" y="53348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91480" y="57160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323640" y="6043320"/>
                <a:ext cx="69264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ag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2440" y="4489200"/>
                <a:ext cx="755640" cy="456840"/>
              </a:xfrm>
              <a:prstGeom prst="rect">
                <a:avLst/>
              </a:prstGeom>
              <a:solidFill>
                <a:srgbClr val="66ffcc"/>
              </a:solidFill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pPr>
                  <a:lnSpc>
                    <a:spcPct val="6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Consol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58040" y="5022720"/>
                <a:ext cx="75528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511680" y="532764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513120" y="5922720"/>
                <a:ext cx="799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Opérat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la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asserel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484360" y="4100400"/>
                <a:ext cx="453240" cy="533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091600" y="3803400"/>
                <a:ext cx="123228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ontrôle climatis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233800" y="6005520"/>
                <a:ext cx="755640" cy="45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984680" y="6470640"/>
                <a:ext cx="112860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Moniteur cardiaq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2635200" y="4176720"/>
                <a:ext cx="147600" cy="380160"/>
                <a:chOff x="2635200" y="4176720"/>
                <a:chExt cx="147600" cy="38016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2667960" y="4176720"/>
                  <a:ext cx="82080" cy="281160"/>
                </a:xfrm>
                <a:custGeom>
                  <a:avLst/>
                  <a:gdLst>
                    <a:gd name="textAreaLeft" fmla="*/ 9720 w 82080"/>
                    <a:gd name="textAreaRight" fmla="*/ 72360 w 82080"/>
                    <a:gd name="textAreaTop" fmla="*/ 9720 h 281160"/>
                    <a:gd name="textAreaBottom" fmla="*/ 271440 h 281160"/>
                  </a:gdLst>
                  <a:ahLst/>
                  <a:rect l="textAreaLeft" t="textAreaTop" r="textAreaRight" b="textAreaBottom"/>
                  <a:pathLst>
                    <a:path w="21600" h="73761">
                      <a:moveTo>
                        <a:pt x="9000" y="0"/>
                      </a:moveTo>
                      <a:arcTo wR="9000" hR="9000" stAng="16200000" swAng="-5400000"/>
                      <a:lnTo>
                        <a:pt x="0" y="64761"/>
                      </a:lnTo>
                      <a:arcTo wR="9000" hR="9000" stAng="10800000" swAng="-5400000"/>
                      <a:lnTo>
                        <a:pt x="12600" y="73761"/>
                      </a:lnTo>
                      <a:arcTo wR="9000" hR="9000" stAng="5400000" swAng="-5400000"/>
                      <a:lnTo>
                        <a:pt x="21600" y="9000"/>
                      </a:lnTo>
                      <a:arcTo wR="9000" hR="90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2667960" y="4292280"/>
                  <a:ext cx="82080" cy="16524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635200" y="4408200"/>
                  <a:ext cx="147600" cy="1486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"/>
              <p:cNvSpPr/>
              <p:nvPr/>
            </p:nvSpPr>
            <p:spPr>
              <a:xfrm>
                <a:off x="2309400" y="6081480"/>
                <a:ext cx="302040" cy="304560"/>
              </a:xfrm>
              <a:custGeom>
                <a:avLst/>
                <a:gdLst>
                  <a:gd name="textAreaLeft" fmla="*/ 70920 w 302040"/>
                  <a:gd name="textAreaRight" fmla="*/ 230760 w 302040"/>
                  <a:gd name="textAreaTop" fmla="*/ 35640 h 304560"/>
                  <a:gd name="textAreaBottom" fmla="*/ 191160 h 3045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425960" y="4252680"/>
                <a:ext cx="668880" cy="533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062360" y="3956040"/>
                <a:ext cx="116964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ompteur électriq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"/>
              <p:cNvGrpSpPr/>
              <p:nvPr/>
            </p:nvGrpSpPr>
            <p:grpSpPr>
              <a:xfrm>
                <a:off x="1490760" y="4405320"/>
                <a:ext cx="528840" cy="532800"/>
                <a:chOff x="1490760" y="4405320"/>
                <a:chExt cx="528840" cy="53280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1490760" y="4405320"/>
                  <a:ext cx="528840" cy="532800"/>
                </a:xfrm>
                <a:prstGeom prst="blockArc">
                  <a:avLst>
                    <a:gd name="adj1" fmla="val 10800000"/>
                    <a:gd name="adj2" fmla="val 0"/>
                    <a:gd name="adj3" fmla="val 47222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 flipV="1">
                  <a:off x="1648800" y="4458600"/>
                  <a:ext cx="10548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460240" y="6081480"/>
                <a:ext cx="452880" cy="304560"/>
                <a:chOff x="2460240" y="6081480"/>
                <a:chExt cx="452880" cy="30456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2460240" y="6081480"/>
                  <a:ext cx="11304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573280" y="6081480"/>
                  <a:ext cx="11304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2686680" y="6081480"/>
                  <a:ext cx="11304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2800080" y="6081480"/>
                  <a:ext cx="11304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4" name=""/>
              <p:cNvSpPr/>
              <p:nvPr/>
            </p:nvSpPr>
            <p:spPr>
              <a:xfrm>
                <a:off x="6498720" y="3346200"/>
                <a:ext cx="378000" cy="914040"/>
              </a:xfrm>
              <a:prstGeom prst="downArrow">
                <a:avLst>
                  <a:gd name="adj1" fmla="val 45241"/>
                  <a:gd name="adj2" fmla="val 63811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71920" y="1289160"/>
                <a:ext cx="136008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35000" y="1365120"/>
                <a:ext cx="88488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hôpita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783560" y="1289160"/>
                <a:ext cx="136008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928280" y="1365120"/>
                <a:ext cx="92124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distribut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électricité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857600">
                <a:off x="7329960" y="3384000"/>
                <a:ext cx="377640" cy="914040"/>
              </a:xfrm>
              <a:prstGeom prst="downArrow">
                <a:avLst>
                  <a:gd name="adj1" fmla="val 45241"/>
                  <a:gd name="adj2" fmla="val 63872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760640" y="1289160"/>
                <a:ext cx="136008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911840" y="2309760"/>
                <a:ext cx="68004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151240" y="268272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880520" y="1365120"/>
                <a:ext cx="97776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société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gardiennage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9761600">
                <a:off x="5969520" y="3345840"/>
                <a:ext cx="377640" cy="914040"/>
              </a:xfrm>
              <a:prstGeom prst="downArrow">
                <a:avLst>
                  <a:gd name="adj1" fmla="val 45241"/>
                  <a:gd name="adj2" fmla="val 63872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312920" y="5921280"/>
                <a:ext cx="615240" cy="3805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312560" y="6310080"/>
                <a:ext cx="58608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entral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alarm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38120" y="532764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964920" y="532764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5667120" y="2279520"/>
                <a:ext cx="453240" cy="990000"/>
                <a:chOff x="5667120" y="2279520"/>
                <a:chExt cx="453240" cy="9900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5742720" y="227952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893920" y="25840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566712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566712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89392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89392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>
                <a:off x="6423480" y="2309760"/>
                <a:ext cx="68004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62520" y="268272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8" name=""/>
              <p:cNvGrpSpPr/>
              <p:nvPr/>
            </p:nvGrpSpPr>
            <p:grpSpPr>
              <a:xfrm>
                <a:off x="7178400" y="2279520"/>
                <a:ext cx="453240" cy="990000"/>
                <a:chOff x="7178400" y="2279520"/>
                <a:chExt cx="453240" cy="99000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7254000" y="227952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405200" y="25840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>
                  <a:off x="717840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>
                  <a:off x="717840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40520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40520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7934760" y="2309760"/>
                <a:ext cx="68004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173800" y="268272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8690040" y="2279520"/>
                <a:ext cx="453240" cy="990000"/>
                <a:chOff x="8690040" y="2279520"/>
                <a:chExt cx="453240" cy="9900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8765640" y="227952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916840" y="25840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>
                  <a:off x="869004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>
                  <a:off x="869004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91684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91684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4" name=""/>
              <p:cNvSpPr/>
              <p:nvPr/>
            </p:nvSpPr>
            <p:spPr>
              <a:xfrm>
                <a:off x="4609800" y="5479920"/>
                <a:ext cx="1510920" cy="380520"/>
              </a:xfrm>
              <a:prstGeom prst="leftRightArrow">
                <a:avLst>
                  <a:gd name="adj1" fmla="val 50000"/>
                  <a:gd name="adj2" fmla="val 79046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97080" y="5814720"/>
                <a:ext cx="104328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teractio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01120" y="3346200"/>
                <a:ext cx="377640" cy="914040"/>
              </a:xfrm>
              <a:prstGeom prst="upDownArrow">
                <a:avLst>
                  <a:gd name="adj1" fmla="val 50000"/>
                  <a:gd name="adj2" fmla="val 48184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857600">
                <a:off x="7632360" y="3384360"/>
                <a:ext cx="378000" cy="914040"/>
              </a:xfrm>
              <a:prstGeom prst="upDownArrow">
                <a:avLst>
                  <a:gd name="adj1" fmla="val 50000"/>
                  <a:gd name="adj2" fmla="val 48138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9761600">
                <a:off x="5667120" y="3345840"/>
                <a:ext cx="377640" cy="914040"/>
              </a:xfrm>
              <a:prstGeom prst="upDownArrow">
                <a:avLst>
                  <a:gd name="adj1" fmla="val 50000"/>
                  <a:gd name="adj2" fmla="val 48184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3346200"/>
                <a:ext cx="4080600" cy="380880"/>
              </a:xfrm>
              <a:prstGeom prst="triangle">
                <a:avLst>
                  <a:gd name="adj" fmla="val 50000"/>
                </a:avLst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923400" y="5014800"/>
                <a:ext cx="749160" cy="732240"/>
                <a:chOff x="923400" y="5014800"/>
                <a:chExt cx="749160" cy="732240"/>
              </a:xfrm>
            </p:grpSpPr>
            <p:grpSp>
              <p:nvGrpSpPr>
                <p:cNvPr id="871" name=""/>
                <p:cNvGrpSpPr/>
                <p:nvPr/>
              </p:nvGrpSpPr>
              <p:grpSpPr>
                <a:xfrm>
                  <a:off x="1015200" y="5014800"/>
                  <a:ext cx="604080" cy="380880"/>
                  <a:chOff x="1015200" y="5014800"/>
                  <a:chExt cx="604080" cy="38088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16200000">
                    <a:off x="976680" y="5129280"/>
                    <a:ext cx="228240" cy="151200"/>
                  </a:xfrm>
                  <a:custGeom>
                    <a:avLst/>
                    <a:gdLst>
                      <a:gd name="textAreaLeft" fmla="*/ 50040 w 228240"/>
                      <a:gd name="textAreaRight" fmla="*/ 178200 w 228240"/>
                      <a:gd name="textAreaTop" fmla="*/ 33120 h 151200"/>
                      <a:gd name="textAreaBottom" fmla="*/ 118080 h 151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5490a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166400" y="5014800"/>
                    <a:ext cx="452880" cy="380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5490a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923400" y="5471640"/>
                  <a:ext cx="74916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spAutoFit/>
                </a:bodyPr>
                <a:p>
                  <a:pPr algn="ctr">
                    <a:lnSpc>
                      <a:spcPct val="6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Camera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surveillan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1274760" y="1746000"/>
                <a:ext cx="453240" cy="990000"/>
                <a:chOff x="1274760" y="1746000"/>
                <a:chExt cx="453240" cy="99000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1350360" y="174600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501560" y="20505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1274760" y="212652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1274760" y="250776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501560" y="212652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501560" y="250776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"/>
              <p:cNvSpPr/>
              <p:nvPr/>
            </p:nvSpPr>
            <p:spPr>
              <a:xfrm>
                <a:off x="995040" y="2835000"/>
                <a:ext cx="117576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ager/Ag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hors foy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560" y="1898640"/>
                <a:ext cx="31140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"/>
              <p:cNvSpPr/>
              <p:nvPr/>
            </p:nvSpPr>
            <p:spPr>
              <a:xfrm rot="1471200">
                <a:off x="2115720" y="3422160"/>
                <a:ext cx="4005000" cy="380520"/>
              </a:xfrm>
              <a:prstGeom prst="leftRightArrow">
                <a:avLst>
                  <a:gd name="adj1" fmla="val 50000"/>
                  <a:gd name="adj2" fmla="val 108418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0" y="1289160"/>
              <a:ext cx="9068040" cy="5562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ndle et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219320" y="1739880"/>
            <a:ext cx="5968800" cy="4800600"/>
            <a:chOff x="1219320" y="1739880"/>
            <a:chExt cx="5968800" cy="4800600"/>
          </a:xfrm>
        </p:grpSpPr>
        <p:grpSp>
          <p:nvGrpSpPr>
            <p:cNvPr id="888" name=""/>
            <p:cNvGrpSpPr/>
            <p:nvPr/>
          </p:nvGrpSpPr>
          <p:grpSpPr>
            <a:xfrm>
              <a:off x="1219320" y="1739880"/>
              <a:ext cx="5968800" cy="4800600"/>
              <a:chOff x="1219320" y="1739880"/>
              <a:chExt cx="5968800" cy="4800600"/>
            </a:xfrm>
          </p:grpSpPr>
          <p:sp>
            <p:nvSpPr>
              <p:cNvPr id="889" name=""/>
              <p:cNvSpPr/>
              <p:nvPr/>
            </p:nvSpPr>
            <p:spPr>
              <a:xfrm>
                <a:off x="1219320" y="1739880"/>
                <a:ext cx="5968800" cy="4800600"/>
              </a:xfrm>
              <a:prstGeom prst="ellipse">
                <a:avLst/>
              </a:prstGeom>
              <a:solidFill>
                <a:srgbClr val="f4f4e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276720" y="3979800"/>
                <a:ext cx="2361960" cy="685800"/>
              </a:xfrm>
              <a:custGeom>
                <a:avLst/>
                <a:gdLst/>
                <a:ahLst/>
                <a:rect l="l" t="t" r="r" b="b"/>
                <a:pathLst>
                  <a:path w="1488" h="432">
                    <a:moveTo>
                      <a:pt x="0" y="432"/>
                    </a:moveTo>
                    <a:lnTo>
                      <a:pt x="0" y="0"/>
                    </a:lnTo>
                    <a:lnTo>
                      <a:pt x="144" y="0"/>
                    </a:lnTo>
                    <a:lnTo>
                      <a:pt x="144" y="288"/>
                    </a:lnTo>
                    <a:lnTo>
                      <a:pt x="1344" y="288"/>
                    </a:lnTo>
                    <a:lnTo>
                      <a:pt x="1344" y="0"/>
                    </a:lnTo>
                    <a:lnTo>
                      <a:pt x="1488" y="0"/>
                    </a:lnTo>
                    <a:lnTo>
                      <a:pt x="1488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5490a8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403440" y="4754520"/>
                <a:ext cx="209088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Une passerelle OSG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4546080" y="3459240"/>
              <a:ext cx="610200" cy="990360"/>
              <a:chOff x="4546080" y="3459240"/>
              <a:chExt cx="610200" cy="990360"/>
            </a:xfrm>
          </p:grpSpPr>
          <p:sp>
            <p:nvSpPr>
              <p:cNvPr id="893" name=""/>
              <p:cNvSpPr/>
              <p:nvPr/>
            </p:nvSpPr>
            <p:spPr>
              <a:xfrm>
                <a:off x="4546440" y="3543840"/>
                <a:ext cx="55080" cy="1098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601520" y="3598920"/>
                <a:ext cx="13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546440" y="3736440"/>
                <a:ext cx="55080" cy="1098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601520" y="3791520"/>
                <a:ext cx="13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1520" y="4094280"/>
                <a:ext cx="13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031720" y="3598920"/>
                <a:ext cx="6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6200000">
                <a:off x="5073480" y="3570480"/>
                <a:ext cx="10980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031720" y="3764160"/>
                <a:ext cx="6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6200000">
                <a:off x="5073480" y="3735720"/>
                <a:ext cx="10980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601520" y="4286880"/>
                <a:ext cx="13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31720" y="4094280"/>
                <a:ext cx="6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31720" y="4259160"/>
                <a:ext cx="6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4545720" y="4039200"/>
                <a:ext cx="55080" cy="109800"/>
              </a:xfrm>
              <a:custGeom>
                <a:avLst/>
                <a:gdLst>
                  <a:gd name="textAreaLeft" fmla="*/ -360 w 55080"/>
                  <a:gd name="textAreaRight" fmla="*/ 55080 w 550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5073120" y="4039200"/>
                <a:ext cx="69120" cy="10980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4545720" y="4231800"/>
                <a:ext cx="55080" cy="109800"/>
              </a:xfrm>
              <a:custGeom>
                <a:avLst/>
                <a:gdLst>
                  <a:gd name="textAreaLeft" fmla="*/ -360 w 55080"/>
                  <a:gd name="textAreaRight" fmla="*/ 55080 w 550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5073120" y="4204440"/>
                <a:ext cx="69120" cy="10980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82520" y="3459240"/>
                <a:ext cx="346680" cy="990360"/>
              </a:xfrm>
              <a:custGeom>
                <a:avLst/>
                <a:gdLst>
                  <a:gd name="textAreaLeft" fmla="*/ 16920 w 346680"/>
                  <a:gd name="textAreaRight" fmla="*/ 329760 w 346680"/>
                  <a:gd name="textAreaTop" fmla="*/ 16920 h 990360"/>
                  <a:gd name="textAreaBottom" fmla="*/ 973440 h 990360"/>
                </a:gdLst>
                <a:ahLst/>
                <a:rect l="textAreaLeft" t="textAreaTop" r="textAreaRight" b="textAreaBottom"/>
                <a:pathLst>
                  <a:path w="21600" h="61663">
                    <a:moveTo>
                      <a:pt x="3600" y="0"/>
                    </a:moveTo>
                    <a:arcTo wR="3600" hR="3600" stAng="16200000" swAng="-5400000"/>
                    <a:lnTo>
                      <a:pt x="0" y="58063"/>
                    </a:lnTo>
                    <a:arcTo wR="3600" hR="3600" stAng="10800000" swAng="-5400000"/>
                    <a:lnTo>
                      <a:pt x="18000" y="616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"/>
          <p:cNvGrpSpPr/>
          <p:nvPr/>
        </p:nvGrpSpPr>
        <p:grpSpPr>
          <a:xfrm>
            <a:off x="1219320" y="2316240"/>
            <a:ext cx="2946240" cy="2555640"/>
            <a:chOff x="1219320" y="2316240"/>
            <a:chExt cx="2946240" cy="2555640"/>
          </a:xfrm>
        </p:grpSpPr>
        <p:grpSp>
          <p:nvGrpSpPr>
            <p:cNvPr id="911" name=""/>
            <p:cNvGrpSpPr/>
            <p:nvPr/>
          </p:nvGrpSpPr>
          <p:grpSpPr>
            <a:xfrm>
              <a:off x="3555720" y="2316240"/>
              <a:ext cx="609840" cy="990360"/>
              <a:chOff x="3555720" y="2316240"/>
              <a:chExt cx="609840" cy="990360"/>
            </a:xfrm>
          </p:grpSpPr>
          <p:sp>
            <p:nvSpPr>
              <p:cNvPr id="912" name=""/>
              <p:cNvSpPr/>
              <p:nvPr/>
            </p:nvSpPr>
            <p:spPr>
              <a:xfrm>
                <a:off x="3556080" y="2400840"/>
                <a:ext cx="55080" cy="109800"/>
              </a:xfrm>
              <a:prstGeom prst="ellipse">
                <a:avLst/>
              </a:prstGeom>
              <a:solidFill>
                <a:srgbClr val="ff33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11160" y="2455920"/>
                <a:ext cx="13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56080" y="2593440"/>
                <a:ext cx="55080" cy="109800"/>
              </a:xfrm>
              <a:prstGeom prst="ellipse">
                <a:avLst/>
              </a:prstGeom>
              <a:solidFill>
                <a:srgbClr val="ff33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611160" y="2648520"/>
                <a:ext cx="13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611160" y="2951280"/>
                <a:ext cx="13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41000" y="2455920"/>
                <a:ext cx="6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6200000">
                <a:off x="4082760" y="2427480"/>
                <a:ext cx="10980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33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41000" y="2621160"/>
                <a:ext cx="6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6200000">
                <a:off x="4082760" y="2592720"/>
                <a:ext cx="10980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33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611160" y="3143880"/>
                <a:ext cx="13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041000" y="2951280"/>
                <a:ext cx="6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041000" y="3116160"/>
                <a:ext cx="6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3555360" y="2896200"/>
                <a:ext cx="55080" cy="109800"/>
              </a:xfrm>
              <a:custGeom>
                <a:avLst/>
                <a:gdLst>
                  <a:gd name="textAreaLeft" fmla="*/ -360 w 55080"/>
                  <a:gd name="textAreaRight" fmla="*/ 55080 w 550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4082400" y="2896200"/>
                <a:ext cx="69120" cy="10980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3555360" y="3088800"/>
                <a:ext cx="55080" cy="109800"/>
              </a:xfrm>
              <a:custGeom>
                <a:avLst/>
                <a:gdLst>
                  <a:gd name="textAreaLeft" fmla="*/ -360 w 55080"/>
                  <a:gd name="textAreaRight" fmla="*/ 55080 w 550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4082400" y="3061440"/>
                <a:ext cx="69120" cy="10980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92160" y="2316240"/>
                <a:ext cx="346320" cy="990360"/>
              </a:xfrm>
              <a:custGeom>
                <a:avLst/>
                <a:gdLst>
                  <a:gd name="textAreaLeft" fmla="*/ 16920 w 346320"/>
                  <a:gd name="textAreaRight" fmla="*/ 329400 w 346320"/>
                  <a:gd name="textAreaTop" fmla="*/ 16920 h 990360"/>
                  <a:gd name="textAreaBottom" fmla="*/ 973440 h 990360"/>
                </a:gdLst>
                <a:ahLst/>
                <a:rect l="textAreaLeft" t="textAreaTop" r="textAreaRight" b="textAreaBottom"/>
                <a:pathLst>
                  <a:path w="21600" h="61727">
                    <a:moveTo>
                      <a:pt x="3600" y="0"/>
                    </a:moveTo>
                    <a:arcTo wR="3600" hR="3600" stAng="16200000" swAng="-5400000"/>
                    <a:lnTo>
                      <a:pt x="0" y="58127"/>
                    </a:lnTo>
                    <a:arcTo wR="3600" hR="3600" stAng="10800000" swAng="-5400000"/>
                    <a:lnTo>
                      <a:pt x="18000" y="6172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33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1219320" y="2514240"/>
              <a:ext cx="2286000" cy="2357640"/>
              <a:chOff x="1219320" y="2514240"/>
              <a:chExt cx="2286000" cy="2357640"/>
            </a:xfrm>
          </p:grpSpPr>
          <p:grpSp>
            <p:nvGrpSpPr>
              <p:cNvPr id="930" name=""/>
              <p:cNvGrpSpPr/>
              <p:nvPr/>
            </p:nvGrpSpPr>
            <p:grpSpPr>
              <a:xfrm>
                <a:off x="1219320" y="4229280"/>
                <a:ext cx="2209680" cy="642600"/>
                <a:chOff x="1219320" y="4229280"/>
                <a:chExt cx="2209680" cy="64260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1447920" y="4572000"/>
                  <a:ext cx="18288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219320" y="4229280"/>
                  <a:ext cx="2209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Start (bundl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start file:hello.ja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 flipV="1">
                <a:off x="1447920" y="2514240"/>
                <a:ext cx="2057400" cy="2057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"/>
          <p:cNvGrpSpPr/>
          <p:nvPr/>
        </p:nvGrpSpPr>
        <p:grpSpPr>
          <a:xfrm>
            <a:off x="3451680" y="2305080"/>
            <a:ext cx="1097640" cy="2095200"/>
            <a:chOff x="3451680" y="2305080"/>
            <a:chExt cx="1097640" cy="2095200"/>
          </a:xfrm>
        </p:grpSpPr>
        <p:sp>
          <p:nvSpPr>
            <p:cNvPr id="935" name=""/>
            <p:cNvSpPr/>
            <p:nvPr/>
          </p:nvSpPr>
          <p:spPr>
            <a:xfrm flipV="1">
              <a:off x="3787560" y="3257280"/>
              <a:ext cx="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451680" y="3448080"/>
              <a:ext cx="74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inst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092480" y="3105000"/>
              <a:ext cx="4568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92480" y="2952720"/>
              <a:ext cx="4568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3546360" y="2305080"/>
              <a:ext cx="608760" cy="990360"/>
              <a:chOff x="3546360" y="2305080"/>
              <a:chExt cx="608760" cy="990360"/>
            </a:xfrm>
          </p:grpSpPr>
          <p:sp>
            <p:nvSpPr>
              <p:cNvPr id="940" name=""/>
              <p:cNvSpPr/>
              <p:nvPr/>
            </p:nvSpPr>
            <p:spPr>
              <a:xfrm>
                <a:off x="3546360" y="2388960"/>
                <a:ext cx="55440" cy="111240"/>
              </a:xfrm>
              <a:prstGeom prst="ellipse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601800" y="244476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546360" y="2582640"/>
                <a:ext cx="55440" cy="109800"/>
              </a:xfrm>
              <a:prstGeom prst="ellipse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601800" y="263664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601800" y="294012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029840" y="244476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200000">
                <a:off x="4071600" y="2416320"/>
                <a:ext cx="11124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029840" y="260964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200000">
                <a:off x="4071600" y="2581560"/>
                <a:ext cx="11124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601800" y="313200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029840" y="294012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029840" y="310500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3546360" y="2884320"/>
                <a:ext cx="55440" cy="111240"/>
              </a:xfrm>
              <a:custGeom>
                <a:avLst/>
                <a:gdLst>
                  <a:gd name="textAreaLeft" fmla="*/ 360 w 55440"/>
                  <a:gd name="textAreaRight" fmla="*/ 56160 w 55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4071960" y="2884320"/>
                <a:ext cx="68040" cy="11124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3546360" y="3078000"/>
                <a:ext cx="55440" cy="109440"/>
              </a:xfrm>
              <a:custGeom>
                <a:avLst/>
                <a:gdLst>
                  <a:gd name="textAreaLeft" fmla="*/ 360 w 55440"/>
                  <a:gd name="textAreaRight" fmla="*/ 56160 w 554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4071960" y="3049560"/>
                <a:ext cx="68040" cy="11124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682800" y="2305080"/>
                <a:ext cx="345240" cy="990360"/>
              </a:xfrm>
              <a:custGeom>
                <a:avLst/>
                <a:gdLst>
                  <a:gd name="textAreaLeft" fmla="*/ 16560 w 345240"/>
                  <a:gd name="textAreaRight" fmla="*/ 328680 w 345240"/>
                  <a:gd name="textAreaTop" fmla="*/ 16560 h 990360"/>
                  <a:gd name="textAreaBottom" fmla="*/ 973800 h 990360"/>
                </a:gdLst>
                <a:ahLst/>
                <a:rect l="textAreaLeft" t="textAreaTop" r="textAreaRight" b="textAreaBottom"/>
                <a:pathLst>
                  <a:path w="21600" h="61920">
                    <a:moveTo>
                      <a:pt x="3600" y="0"/>
                    </a:moveTo>
                    <a:arcTo wR="3600" hR="3600" stAng="16200000" swAng="-5400000"/>
                    <a:lnTo>
                      <a:pt x="0" y="58320"/>
                    </a:lnTo>
                    <a:arcTo wR="3600" hR="3600" stAng="10800000" swAng="-5400000"/>
                    <a:lnTo>
                      <a:pt x="18000" y="6192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7" name=""/>
          <p:cNvGrpSpPr/>
          <p:nvPr/>
        </p:nvGrpSpPr>
        <p:grpSpPr>
          <a:xfrm>
            <a:off x="3487320" y="2319480"/>
            <a:ext cx="1084680" cy="2099880"/>
            <a:chOff x="3487320" y="2319480"/>
            <a:chExt cx="1084680" cy="2099880"/>
          </a:xfrm>
        </p:grpSpPr>
        <p:sp>
          <p:nvSpPr>
            <p:cNvPr id="958" name=""/>
            <p:cNvSpPr/>
            <p:nvPr/>
          </p:nvSpPr>
          <p:spPr>
            <a:xfrm flipV="1">
              <a:off x="3962520" y="3276360"/>
              <a:ext cx="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487320" y="35053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14800" y="2590920"/>
              <a:ext cx="4572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114800" y="243828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549600" y="2319480"/>
              <a:ext cx="609120" cy="990360"/>
              <a:chOff x="3549600" y="2319480"/>
              <a:chExt cx="609120" cy="990360"/>
            </a:xfrm>
          </p:grpSpPr>
          <p:sp>
            <p:nvSpPr>
              <p:cNvPr id="963" name=""/>
              <p:cNvSpPr/>
              <p:nvPr/>
            </p:nvSpPr>
            <p:spPr>
              <a:xfrm>
                <a:off x="3549600" y="2403360"/>
                <a:ext cx="55440" cy="110880"/>
              </a:xfrm>
              <a:prstGeom prst="ellipse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605040" y="245880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549600" y="2597040"/>
                <a:ext cx="55440" cy="109080"/>
              </a:xfrm>
              <a:prstGeom prst="ellipse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605040" y="265104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605040" y="295416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033440" y="245880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6200000">
                <a:off x="4075560" y="2431080"/>
                <a:ext cx="11088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33440" y="262404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6200000">
                <a:off x="4075560" y="2595600"/>
                <a:ext cx="11052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605040" y="314640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033440" y="295416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033440" y="311940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3549600" y="2898720"/>
                <a:ext cx="55440" cy="110880"/>
              </a:xfrm>
              <a:custGeom>
                <a:avLst/>
                <a:gdLst>
                  <a:gd name="textAreaLeft" fmla="*/ 360 w 55440"/>
                  <a:gd name="textAreaRight" fmla="*/ 56160 w 554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4075560" y="2898720"/>
                <a:ext cx="68040" cy="11088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3549600" y="3092400"/>
                <a:ext cx="55440" cy="109080"/>
              </a:xfrm>
              <a:custGeom>
                <a:avLst/>
                <a:gdLst>
                  <a:gd name="textAreaLeft" fmla="*/ 360 w 55440"/>
                  <a:gd name="textAreaRight" fmla="*/ 56160 w 554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2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4075560" y="3063600"/>
                <a:ext cx="68040" cy="11088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6040" y="2319480"/>
                <a:ext cx="345600" cy="990360"/>
              </a:xfrm>
              <a:custGeom>
                <a:avLst/>
                <a:gdLst>
                  <a:gd name="textAreaLeft" fmla="*/ 16560 w 345600"/>
                  <a:gd name="textAreaRight" fmla="*/ 329040 w 345600"/>
                  <a:gd name="textAreaTop" fmla="*/ 16560 h 990360"/>
                  <a:gd name="textAreaBottom" fmla="*/ 973800 h 990360"/>
                </a:gdLst>
                <a:ahLst/>
                <a:rect l="textAreaLeft" t="textAreaTop" r="textAreaRight" b="textAreaBottom"/>
                <a:pathLst>
                  <a:path w="21600" h="61856">
                    <a:moveTo>
                      <a:pt x="3600" y="0"/>
                    </a:moveTo>
                    <a:arcTo wR="3600" hR="3600" stAng="16200000" swAng="-5400000"/>
                    <a:lnTo>
                      <a:pt x="0" y="58256"/>
                    </a:lnTo>
                    <a:arcTo wR="3600" hR="3600" stAng="10800000" swAng="-5400000"/>
                    <a:lnTo>
                      <a:pt x="18000" y="618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0" name=""/>
          <p:cNvGrpSpPr/>
          <p:nvPr/>
        </p:nvGrpSpPr>
        <p:grpSpPr>
          <a:xfrm>
            <a:off x="3551400" y="3433680"/>
            <a:ext cx="1054080" cy="990720"/>
            <a:chOff x="3551400" y="3433680"/>
            <a:chExt cx="1054080" cy="990720"/>
          </a:xfrm>
        </p:grpSpPr>
        <p:grpSp>
          <p:nvGrpSpPr>
            <p:cNvPr id="981" name=""/>
            <p:cNvGrpSpPr/>
            <p:nvPr/>
          </p:nvGrpSpPr>
          <p:grpSpPr>
            <a:xfrm>
              <a:off x="3551400" y="3433680"/>
              <a:ext cx="609120" cy="990720"/>
              <a:chOff x="3551400" y="3433680"/>
              <a:chExt cx="609120" cy="990720"/>
            </a:xfrm>
          </p:grpSpPr>
          <p:sp>
            <p:nvSpPr>
              <p:cNvPr id="982" name=""/>
              <p:cNvSpPr/>
              <p:nvPr/>
            </p:nvSpPr>
            <p:spPr>
              <a:xfrm>
                <a:off x="3551400" y="3517920"/>
                <a:ext cx="55440" cy="111240"/>
              </a:xfrm>
              <a:prstGeom prst="ellipse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606840" y="357336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551400" y="3711600"/>
                <a:ext cx="55440" cy="109440"/>
              </a:xfrm>
              <a:prstGeom prst="ellipse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606840" y="376560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606840" y="406872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035240" y="357336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6200000">
                <a:off x="4077000" y="3545280"/>
                <a:ext cx="11124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035240" y="373860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6200000">
                <a:off x="4077360" y="3710880"/>
                <a:ext cx="110880" cy="5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606840" y="426096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035240" y="406872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035240" y="4233960"/>
                <a:ext cx="6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3551400" y="4013280"/>
                <a:ext cx="55440" cy="111240"/>
              </a:xfrm>
              <a:custGeom>
                <a:avLst/>
                <a:gdLst>
                  <a:gd name="textAreaLeft" fmla="*/ 360 w 55440"/>
                  <a:gd name="textAreaRight" fmla="*/ 56160 w 55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4077360" y="4013280"/>
                <a:ext cx="68040" cy="11124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3551400" y="4206960"/>
                <a:ext cx="55440" cy="109440"/>
              </a:xfrm>
              <a:custGeom>
                <a:avLst/>
                <a:gdLst>
                  <a:gd name="textAreaLeft" fmla="*/ 360 w 55440"/>
                  <a:gd name="textAreaRight" fmla="*/ 56160 w 554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3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4077360" y="4178160"/>
                <a:ext cx="68040" cy="11124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687840" y="3433680"/>
                <a:ext cx="345600" cy="990720"/>
              </a:xfrm>
              <a:custGeom>
                <a:avLst/>
                <a:gdLst>
                  <a:gd name="textAreaLeft" fmla="*/ 16560 w 345600"/>
                  <a:gd name="textAreaRight" fmla="*/ 329040 w 345600"/>
                  <a:gd name="textAreaTop" fmla="*/ 16560 h 990720"/>
                  <a:gd name="textAreaBottom" fmla="*/ 974160 h 990720"/>
                </a:gdLst>
                <a:ahLst/>
                <a:rect l="textAreaLeft" t="textAreaTop" r="textAreaRight" b="textAreaBottom"/>
                <a:pathLst>
                  <a:path w="21600" h="61878">
                    <a:moveTo>
                      <a:pt x="3600" y="0"/>
                    </a:moveTo>
                    <a:arcTo wR="3600" hR="3600" stAng="16200000" swAng="-5400000"/>
                    <a:lnTo>
                      <a:pt x="0" y="58278"/>
                    </a:lnTo>
                    <a:arcTo wR="3600" hR="3600" stAng="10800000" swAng="-5400000"/>
                    <a:lnTo>
                      <a:pt x="18000" y="618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4081320" y="4238640"/>
              <a:ext cx="48276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22720" y="3579840"/>
              <a:ext cx="48276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46120" y="30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 exemple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Hello : Manifest (1/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aliser le bundle helloworld qui répond au manifest suiva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affiche ‘ Bonjour ’ au démar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affiche ‘ Au revoir ’ au dé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66840" y="2362320"/>
            <a:ext cx="43945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nifest-Version: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eated-By: stephane.frenot@insa-lyon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ndle-Name: 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ndle-Description: The simple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ndle-Activator: hello.Hello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Hello / Activation (2/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qu'un bundle puisse être démarré il doit posséder une classe qui implante org.osgi.framework.Bundle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914400" y="3200400"/>
            <a:ext cx="72388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ckage org.osgi.framewor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abstract interface BundleActivator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abstract void start(BundleContext context) throws Excep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abstract void stop(BundleContext context) throws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Hello / Packaging (3/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564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bundle est une archive jar, qui conti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commandes ja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6000" indent="-48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r cvmf manifest.mf test.jar hello/ (attention mf != f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000" indent="-48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r tvf test.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000" indent="-48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r cvf test.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28600" y="217800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2 Thu Oct 30 00:59:46 CET 2003 META-INF/MANIFEST.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23 Thu Oct 30 00:54:44 CET 2003 hello/HelloWorld.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3962520" y="1828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562720" y="31240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724280" y="4648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ff99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629400" y="4648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66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562720" y="548640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52480" y="3276720"/>
            <a:ext cx="1981440" cy="7617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298760" y="2133720"/>
            <a:ext cx="9702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819400" y="3429000"/>
            <a:ext cx="9306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882320" y="4648320"/>
            <a:ext cx="9334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801840" y="4648320"/>
            <a:ext cx="906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995440" y="5791320"/>
            <a:ext cx="6883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126160" y="3505320"/>
            <a:ext cx="119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438280" y="1523880"/>
            <a:ext cx="1524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2819160" y="2286000"/>
            <a:ext cx="11430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 flipV="1">
            <a:off x="4800240" y="2666520"/>
            <a:ext cx="7621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733920" y="3505320"/>
            <a:ext cx="18288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400800" y="39625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H="1" flipV="1">
            <a:off x="5333760" y="49528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6324480" y="4952880"/>
            <a:ext cx="914400" cy="5335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5410080" y="3962160"/>
            <a:ext cx="914400" cy="6858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562720" y="2286000"/>
            <a:ext cx="761760" cy="83808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040920" y="1523880"/>
            <a:ext cx="49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687040" y="243828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439520" y="365760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420440" y="3048120"/>
            <a:ext cx="560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914160" y="4114800"/>
            <a:ext cx="42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305680" y="5257800"/>
            <a:ext cx="415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447920" y="5638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884680" y="5486400"/>
            <a:ext cx="1191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explic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928960" y="5791320"/>
            <a:ext cx="1438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automa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ycle de vie et état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3962520" y="1828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562720" y="31240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724280" y="4648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ff99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629400" y="4648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66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562720" y="548640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752480" y="3276720"/>
            <a:ext cx="1981440" cy="7617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298760" y="2133720"/>
            <a:ext cx="9702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819400" y="3429000"/>
            <a:ext cx="9306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882320" y="4648320"/>
            <a:ext cx="9334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01840" y="4648320"/>
            <a:ext cx="906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95440" y="5791320"/>
            <a:ext cx="6883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26160" y="3505320"/>
            <a:ext cx="119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438280" y="1523880"/>
            <a:ext cx="1524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2819160" y="2286000"/>
            <a:ext cx="11430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4800240" y="2666520"/>
            <a:ext cx="7621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3733920" y="3505320"/>
            <a:ext cx="18288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400800" y="39625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 flipV="1">
            <a:off x="5333760" y="49528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6324480" y="4952880"/>
            <a:ext cx="914400" cy="5335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410080" y="3962160"/>
            <a:ext cx="914400" cy="6858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562720" y="2286000"/>
            <a:ext cx="761760" cy="83808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040920" y="1523880"/>
            <a:ext cx="49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87040" y="243828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39520" y="365760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420440" y="3048120"/>
            <a:ext cx="560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914160" y="4114800"/>
            <a:ext cx="42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05680" y="5257800"/>
            <a:ext cx="415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47920" y="5638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884680" y="5486400"/>
            <a:ext cx="1191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explic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928960" y="5791320"/>
            <a:ext cx="1438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automa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ycle de vie et état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3886200" y="1523880"/>
            <a:ext cx="4258080" cy="1218960"/>
            <a:chOff x="3886200" y="1523880"/>
            <a:chExt cx="4258080" cy="1218960"/>
          </a:xfrm>
        </p:grpSpPr>
        <p:sp>
          <p:nvSpPr>
            <p:cNvPr id="1080" name=""/>
            <p:cNvSpPr/>
            <p:nvPr/>
          </p:nvSpPr>
          <p:spPr>
            <a:xfrm>
              <a:off x="3886200" y="1784880"/>
              <a:ext cx="1769400" cy="9579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31760" y="1523880"/>
              <a:ext cx="1712520" cy="444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e bundle a é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stallé correct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3962520" y="1828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562720" y="31240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724280" y="4648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ff99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629400" y="4648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66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62720" y="548640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752480" y="3276720"/>
            <a:ext cx="1981440" cy="7617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298760" y="2133720"/>
            <a:ext cx="9702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819400" y="3429000"/>
            <a:ext cx="9306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882320" y="4648320"/>
            <a:ext cx="9334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801840" y="4648320"/>
            <a:ext cx="906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995440" y="5791320"/>
            <a:ext cx="6883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126160" y="3505320"/>
            <a:ext cx="119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438280" y="1523880"/>
            <a:ext cx="1524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819160" y="2286000"/>
            <a:ext cx="11430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4800240" y="2666520"/>
            <a:ext cx="7621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3733920" y="3505320"/>
            <a:ext cx="18288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400800" y="39625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H="1" flipV="1">
            <a:off x="5333760" y="49528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6324480" y="4952880"/>
            <a:ext cx="914400" cy="5335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410080" y="3962160"/>
            <a:ext cx="914400" cy="6858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562720" y="2286000"/>
            <a:ext cx="761760" cy="83808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40920" y="1523880"/>
            <a:ext cx="49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87040" y="243828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439520" y="365760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420440" y="3048120"/>
            <a:ext cx="560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914160" y="4114800"/>
            <a:ext cx="42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305680" y="5257800"/>
            <a:ext cx="415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447920" y="5638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884680" y="5486400"/>
            <a:ext cx="1191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explic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928960" y="5791320"/>
            <a:ext cx="1438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automa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ycle de vie et état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410080" y="1828800"/>
            <a:ext cx="3327120" cy="2209320"/>
            <a:chOff x="5410080" y="1828800"/>
            <a:chExt cx="3327120" cy="2209320"/>
          </a:xfrm>
        </p:grpSpPr>
        <p:sp>
          <p:nvSpPr>
            <p:cNvPr id="1115" name=""/>
            <p:cNvSpPr/>
            <p:nvPr/>
          </p:nvSpPr>
          <p:spPr>
            <a:xfrm>
              <a:off x="5410080" y="3091320"/>
              <a:ext cx="1828800" cy="946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19880" y="1828800"/>
              <a:ext cx="2317320" cy="853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outes les classes nécessa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u bundle s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onibles, il peu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émar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2743200"/>
            <a:ext cx="7619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berto Cervantes, Didier Donsez, Richard 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Université Joseph Fourier (Grenobl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IMA  IMAG/LSR/AD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Humberto.Cervantes@imag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Didier.Donsez@imag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ick.Hall@imag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3962520" y="1828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562720" y="31240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724280" y="4648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ff99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629400" y="4648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66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548640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752480" y="3276720"/>
            <a:ext cx="1981440" cy="7617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298760" y="2133720"/>
            <a:ext cx="9702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819400" y="3429000"/>
            <a:ext cx="9306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882320" y="4648320"/>
            <a:ext cx="9334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801840" y="4648320"/>
            <a:ext cx="906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995440" y="5791320"/>
            <a:ext cx="6883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126160" y="3505320"/>
            <a:ext cx="119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438280" y="1523880"/>
            <a:ext cx="1524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2819160" y="2286000"/>
            <a:ext cx="11430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4800240" y="2666520"/>
            <a:ext cx="7621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3733920" y="3505320"/>
            <a:ext cx="18288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400800" y="39625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5333760" y="49528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6324480" y="4952880"/>
            <a:ext cx="914400" cy="5335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5410080" y="3962160"/>
            <a:ext cx="914400" cy="6858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562720" y="2286000"/>
            <a:ext cx="761760" cy="83808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040920" y="1523880"/>
            <a:ext cx="49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687040" y="243828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439520" y="365760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420440" y="3048120"/>
            <a:ext cx="560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914160" y="4114800"/>
            <a:ext cx="42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305680" y="5257800"/>
            <a:ext cx="415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447920" y="5638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884680" y="5486400"/>
            <a:ext cx="1191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explic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928960" y="5791320"/>
            <a:ext cx="1438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automa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ycle de vie et état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3935880" y="4343400"/>
            <a:ext cx="4065120" cy="853920"/>
            <a:chOff x="3935880" y="4343400"/>
            <a:chExt cx="4065120" cy="853920"/>
          </a:xfrm>
        </p:grpSpPr>
        <p:sp>
          <p:nvSpPr>
            <p:cNvPr id="1150" name=""/>
            <p:cNvSpPr/>
            <p:nvPr/>
          </p:nvSpPr>
          <p:spPr>
            <a:xfrm>
              <a:off x="6553080" y="4572000"/>
              <a:ext cx="1447920" cy="457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935880" y="4343400"/>
              <a:ext cx="2100960" cy="853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e bundle démarr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l enregistre ses servic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t obtient les services d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l a besoi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3962520" y="1828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31240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724280" y="4648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ff99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629400" y="4648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66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562720" y="548640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752480" y="3276720"/>
            <a:ext cx="1981440" cy="7617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298760" y="2133720"/>
            <a:ext cx="9702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819400" y="3429000"/>
            <a:ext cx="9306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882320" y="4648320"/>
            <a:ext cx="9334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801840" y="4648320"/>
            <a:ext cx="906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995440" y="5791320"/>
            <a:ext cx="6883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126160" y="3505320"/>
            <a:ext cx="119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438280" y="1523880"/>
            <a:ext cx="1524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819160" y="2286000"/>
            <a:ext cx="11430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 flipV="1">
            <a:off x="4800240" y="2666520"/>
            <a:ext cx="7621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3733920" y="3505320"/>
            <a:ext cx="18288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400800" y="39625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 flipV="1">
            <a:off x="5333760" y="49528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6324480" y="4952880"/>
            <a:ext cx="914400" cy="5335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5410080" y="3962160"/>
            <a:ext cx="914400" cy="6858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562720" y="2286000"/>
            <a:ext cx="761760" cy="83808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040920" y="1523880"/>
            <a:ext cx="49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687040" y="243828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439520" y="365760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420440" y="3048120"/>
            <a:ext cx="560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914160" y="4114800"/>
            <a:ext cx="42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05680" y="5257800"/>
            <a:ext cx="415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447920" y="5638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884680" y="5486400"/>
            <a:ext cx="1191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explic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928960" y="5791320"/>
            <a:ext cx="1438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automa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ycle de vie et état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5486400" y="5410080"/>
            <a:ext cx="2708640" cy="1230120"/>
            <a:chOff x="5486400" y="5410080"/>
            <a:chExt cx="2708640" cy="1230120"/>
          </a:xfrm>
        </p:grpSpPr>
        <p:sp>
          <p:nvSpPr>
            <p:cNvPr id="1185" name=""/>
            <p:cNvSpPr/>
            <p:nvPr/>
          </p:nvSpPr>
          <p:spPr>
            <a:xfrm>
              <a:off x="5486400" y="5410080"/>
              <a:ext cx="1752480" cy="9144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97440" y="6400800"/>
              <a:ext cx="1497600" cy="239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e bundle est Ac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962520" y="1828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562720" y="31240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724280" y="4648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ff99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629400" y="4648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66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562720" y="548640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752480" y="3276720"/>
            <a:ext cx="1981440" cy="7617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298760" y="2133720"/>
            <a:ext cx="9702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819400" y="3429000"/>
            <a:ext cx="9306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882320" y="4648320"/>
            <a:ext cx="9334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801840" y="4648320"/>
            <a:ext cx="906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995440" y="5791320"/>
            <a:ext cx="6883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126160" y="3505320"/>
            <a:ext cx="119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438280" y="1523880"/>
            <a:ext cx="1524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2819160" y="2286000"/>
            <a:ext cx="11430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4800240" y="2666520"/>
            <a:ext cx="7621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3733920" y="3505320"/>
            <a:ext cx="18288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39625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 flipV="1">
            <a:off x="5333760" y="49528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324480" y="4952880"/>
            <a:ext cx="914400" cy="5335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5410080" y="3962160"/>
            <a:ext cx="914400" cy="6858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62720" y="2286000"/>
            <a:ext cx="761760" cy="83808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040920" y="1523880"/>
            <a:ext cx="49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687040" y="243828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439520" y="365760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420440" y="3048120"/>
            <a:ext cx="560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914160" y="4114800"/>
            <a:ext cx="42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305680" y="5257800"/>
            <a:ext cx="415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447920" y="5638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884680" y="5486400"/>
            <a:ext cx="1191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explic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928960" y="5791320"/>
            <a:ext cx="1438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automa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ycle de vie et état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1655280" y="4343400"/>
            <a:ext cx="4440600" cy="685800"/>
            <a:chOff x="1655280" y="4343400"/>
            <a:chExt cx="4440600" cy="685800"/>
          </a:xfrm>
        </p:grpSpPr>
        <p:sp>
          <p:nvSpPr>
            <p:cNvPr id="1220" name=""/>
            <p:cNvSpPr/>
            <p:nvPr/>
          </p:nvSpPr>
          <p:spPr>
            <a:xfrm>
              <a:off x="4647960" y="4572000"/>
              <a:ext cx="1447920" cy="457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655280" y="4343400"/>
              <a:ext cx="1404360" cy="6490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Le bundle arrêt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il désenregist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ses servic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3962520" y="1828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562720" y="31240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724280" y="4648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ff99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629400" y="4648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66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562720" y="548640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752480" y="3276720"/>
            <a:ext cx="1981440" cy="7617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298760" y="2133720"/>
            <a:ext cx="9702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819400" y="3429000"/>
            <a:ext cx="9306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882320" y="4648320"/>
            <a:ext cx="9334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801840" y="4648320"/>
            <a:ext cx="906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995440" y="5791320"/>
            <a:ext cx="6883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126160" y="3505320"/>
            <a:ext cx="119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438280" y="1523880"/>
            <a:ext cx="1524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2819160" y="2286000"/>
            <a:ext cx="11430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 flipV="1">
            <a:off x="4800240" y="2666520"/>
            <a:ext cx="7621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3733920" y="3505320"/>
            <a:ext cx="18288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00800" y="39625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5333760" y="49528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6324480" y="4952880"/>
            <a:ext cx="914400" cy="5335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5410080" y="3962160"/>
            <a:ext cx="914400" cy="6858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562720" y="2286000"/>
            <a:ext cx="761760" cy="83808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040920" y="1523880"/>
            <a:ext cx="49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687040" y="243828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439520" y="365760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420440" y="3048120"/>
            <a:ext cx="560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914160" y="4114800"/>
            <a:ext cx="42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305680" y="5257800"/>
            <a:ext cx="415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447920" y="5638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84680" y="5486400"/>
            <a:ext cx="1191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explic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928960" y="5791320"/>
            <a:ext cx="1438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automa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ycle de vie et état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5410080" y="1828800"/>
            <a:ext cx="2385720" cy="2209320"/>
            <a:chOff x="5410080" y="1828800"/>
            <a:chExt cx="2385720" cy="2209320"/>
          </a:xfrm>
        </p:grpSpPr>
        <p:sp>
          <p:nvSpPr>
            <p:cNvPr id="1255" name=""/>
            <p:cNvSpPr/>
            <p:nvPr/>
          </p:nvSpPr>
          <p:spPr>
            <a:xfrm>
              <a:off x="5410080" y="3091320"/>
              <a:ext cx="1828800" cy="946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578640" y="1828800"/>
              <a:ext cx="1217160" cy="444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Retour à l’éta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Resol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3962520" y="1828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562720" y="31240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724280" y="4648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ff99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629400" y="4648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66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562720" y="548640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752480" y="3276720"/>
            <a:ext cx="1981440" cy="7617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298760" y="2133720"/>
            <a:ext cx="9702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819400" y="3429000"/>
            <a:ext cx="9306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882320" y="4648320"/>
            <a:ext cx="9334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801840" y="4648320"/>
            <a:ext cx="906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995440" y="5791320"/>
            <a:ext cx="6883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126160" y="3505320"/>
            <a:ext cx="119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438280" y="1523880"/>
            <a:ext cx="1524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819160" y="2286000"/>
            <a:ext cx="11430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H="1" flipV="1">
            <a:off x="4800240" y="2666520"/>
            <a:ext cx="7621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3733920" y="3505320"/>
            <a:ext cx="18288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400800" y="39625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333760" y="49528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6324480" y="4952880"/>
            <a:ext cx="914400" cy="5335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410080" y="3962160"/>
            <a:ext cx="914400" cy="6858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562720" y="2286000"/>
            <a:ext cx="761760" cy="83808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040920" y="1523880"/>
            <a:ext cx="49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687040" y="243828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439520" y="365760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420440" y="3048120"/>
            <a:ext cx="560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914160" y="4114800"/>
            <a:ext cx="42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305680" y="5257800"/>
            <a:ext cx="415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447920" y="5638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884680" y="5486400"/>
            <a:ext cx="1191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explic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928960" y="5791320"/>
            <a:ext cx="1438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automa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ycle de vie et état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1516320" y="3200400"/>
            <a:ext cx="2293560" cy="1587240"/>
            <a:chOff x="1516320" y="3200400"/>
            <a:chExt cx="2293560" cy="1587240"/>
          </a:xfrm>
        </p:grpSpPr>
        <p:sp>
          <p:nvSpPr>
            <p:cNvPr id="1290" name=""/>
            <p:cNvSpPr/>
            <p:nvPr/>
          </p:nvSpPr>
          <p:spPr>
            <a:xfrm>
              <a:off x="1676520" y="3200400"/>
              <a:ext cx="2133360" cy="9144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516320" y="4343400"/>
              <a:ext cx="2183400" cy="444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e bundle est désinstallé, 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e peut plus changer d’éta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3962520" y="1828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562720" y="31240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24280" y="4648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ff99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629400" y="4648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66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562720" y="548640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752480" y="3276720"/>
            <a:ext cx="1981440" cy="7617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298760" y="2133720"/>
            <a:ext cx="9702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819400" y="3429000"/>
            <a:ext cx="9306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882320" y="4648320"/>
            <a:ext cx="9334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801840" y="4648320"/>
            <a:ext cx="906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995440" y="5791320"/>
            <a:ext cx="6883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126160" y="3505320"/>
            <a:ext cx="119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438280" y="1523880"/>
            <a:ext cx="1524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819160" y="2286000"/>
            <a:ext cx="11430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H="1" flipV="1">
            <a:off x="4800240" y="2666520"/>
            <a:ext cx="7621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3733920" y="3505320"/>
            <a:ext cx="18288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400800" y="39625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 flipV="1">
            <a:off x="5333760" y="49528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6324480" y="4952880"/>
            <a:ext cx="914400" cy="5335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5410080" y="3962160"/>
            <a:ext cx="914400" cy="6858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562720" y="2286000"/>
            <a:ext cx="761760" cy="83808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040920" y="1523880"/>
            <a:ext cx="49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687040" y="243828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439520" y="3657600"/>
            <a:ext cx="637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inst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420440" y="3048120"/>
            <a:ext cx="560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914160" y="4114800"/>
            <a:ext cx="42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305680" y="5257800"/>
            <a:ext cx="415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447920" y="5638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884680" y="5486400"/>
            <a:ext cx="11912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explic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447920" y="5943600"/>
            <a:ext cx="114300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928960" y="5791320"/>
            <a:ext cx="1438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nsition automat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ycle de vie et état d’un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3886200" y="1523880"/>
            <a:ext cx="4258080" cy="1218960"/>
            <a:chOff x="3886200" y="1523880"/>
            <a:chExt cx="4258080" cy="1218960"/>
          </a:xfrm>
        </p:grpSpPr>
        <p:sp>
          <p:nvSpPr>
            <p:cNvPr id="1325" name=""/>
            <p:cNvSpPr/>
            <p:nvPr/>
          </p:nvSpPr>
          <p:spPr>
            <a:xfrm>
              <a:off x="3886200" y="1784880"/>
              <a:ext cx="1769400" cy="9579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31760" y="1523880"/>
              <a:ext cx="1712520" cy="444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e bundle a é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stallé correct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5410080" y="1828800"/>
            <a:ext cx="3196800" cy="2209320"/>
            <a:chOff x="5410080" y="1828800"/>
            <a:chExt cx="3196800" cy="2209320"/>
          </a:xfrm>
        </p:grpSpPr>
        <p:sp>
          <p:nvSpPr>
            <p:cNvPr id="1328" name=""/>
            <p:cNvSpPr/>
            <p:nvPr/>
          </p:nvSpPr>
          <p:spPr>
            <a:xfrm>
              <a:off x="5410080" y="3091320"/>
              <a:ext cx="1828800" cy="946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99600" y="1828800"/>
              <a:ext cx="1907280" cy="853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outes les classes qu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écessite le bundle s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onibles, il peu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émar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5486400" y="5410080"/>
            <a:ext cx="2708640" cy="1230120"/>
            <a:chOff x="5486400" y="5410080"/>
            <a:chExt cx="2708640" cy="1230120"/>
          </a:xfrm>
        </p:grpSpPr>
        <p:sp>
          <p:nvSpPr>
            <p:cNvPr id="1331" name=""/>
            <p:cNvSpPr/>
            <p:nvPr/>
          </p:nvSpPr>
          <p:spPr>
            <a:xfrm>
              <a:off x="5486400" y="5410080"/>
              <a:ext cx="1752480" cy="9144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697440" y="6400800"/>
              <a:ext cx="1497600" cy="239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e bundle est Ac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1516320" y="3200400"/>
            <a:ext cx="2293560" cy="1587240"/>
            <a:chOff x="1516320" y="3200400"/>
            <a:chExt cx="2293560" cy="1587240"/>
          </a:xfrm>
        </p:grpSpPr>
        <p:sp>
          <p:nvSpPr>
            <p:cNvPr id="1334" name=""/>
            <p:cNvSpPr/>
            <p:nvPr/>
          </p:nvSpPr>
          <p:spPr>
            <a:xfrm>
              <a:off x="1676520" y="3200400"/>
              <a:ext cx="2133360" cy="9144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16320" y="4343400"/>
              <a:ext cx="2183400" cy="444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e bundle est désinstallé, 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e peut plus changer d’éta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1874160" y="4343400"/>
            <a:ext cx="4221720" cy="685800"/>
            <a:chOff x="1874160" y="4343400"/>
            <a:chExt cx="4221720" cy="685800"/>
          </a:xfrm>
        </p:grpSpPr>
        <p:sp>
          <p:nvSpPr>
            <p:cNvPr id="1337" name=""/>
            <p:cNvSpPr/>
            <p:nvPr/>
          </p:nvSpPr>
          <p:spPr>
            <a:xfrm>
              <a:off x="4647960" y="4572000"/>
              <a:ext cx="1447920" cy="457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4160" y="4343400"/>
              <a:ext cx="1404360" cy="6490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Le bundle arrêt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il desenregist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ses servic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935880" y="4343400"/>
            <a:ext cx="4065120" cy="853920"/>
            <a:chOff x="3935880" y="4343400"/>
            <a:chExt cx="4065120" cy="853920"/>
          </a:xfrm>
        </p:grpSpPr>
        <p:sp>
          <p:nvSpPr>
            <p:cNvPr id="1340" name=""/>
            <p:cNvSpPr/>
            <p:nvPr/>
          </p:nvSpPr>
          <p:spPr>
            <a:xfrm>
              <a:off x="6553080" y="4572000"/>
              <a:ext cx="1447920" cy="457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35880" y="4343400"/>
              <a:ext cx="2100960" cy="853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e bundle démarr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l enregistre ses servic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t obtient les services d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l a besoi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5410080" y="1828800"/>
            <a:ext cx="2385720" cy="2209320"/>
            <a:chOff x="5410080" y="1828800"/>
            <a:chExt cx="2385720" cy="2209320"/>
          </a:xfrm>
        </p:grpSpPr>
        <p:sp>
          <p:nvSpPr>
            <p:cNvPr id="1343" name=""/>
            <p:cNvSpPr/>
            <p:nvPr/>
          </p:nvSpPr>
          <p:spPr>
            <a:xfrm>
              <a:off x="5410080" y="3091320"/>
              <a:ext cx="1828800" cy="946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578640" y="1828800"/>
              <a:ext cx="1217160" cy="444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Retour à l’éta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Resol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Installation / Exécution de helloworl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ncer la plateforme osc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/run.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gt;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gt; start file:/opt/exos/bundles/hello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gt; « Bonjo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gt; ps /* Vérifier que le bundle est bien actif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Manipulation des bundles par le FW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s ou ps -l : donne la liste des bu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stall : installe un service (rend disponible ses pack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art : lance un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op : arrête un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nstall : supprime un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pdate : met à jour un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fresh : valide les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1"/>
          <a:stretch/>
        </p:blipFill>
        <p:spPr>
          <a:xfrm>
            <a:off x="8620200" y="208080"/>
            <a:ext cx="3967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Utilisation de a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t est l'outil de remplacement de Make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repose sur une syntaxe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permet de mettre en place n'importe quelle type d'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repose sur java !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borescence d'un projet de bundles os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31800" y="3962520"/>
            <a:ext cx="44737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uild.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rc/hello/HelloWorld.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rc/hello/manifest.m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lasses/hello/HelloWorld.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undles/helloworld.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Un exemple de fichier build.xm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080" y="11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52280" y="1143000"/>
            <a:ext cx="853452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ject name="helloworld" default="all" basedir=".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!-- Updateable attribute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oscar" value="/opt/oscar/"/&gt; &lt;!--20030414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java.dir" value="/opt/java"/&gt; &lt;!--1.4.1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!-- Oscar implementation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lib.dir" value="${oscar}/lib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oscar.bundle.dir" value="${oscar}/bundl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!-- Set global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src.dir" value="src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output.dir" value="classe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bundles.dir" value="bundle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!-- Make every bundle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target name="all" depends="helloworl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8542440" y="152280"/>
            <a:ext cx="3967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752480"/>
            <a:ext cx="85345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 géné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ycle de 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emier Bu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nif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stion des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Un exemple de fichier xml (2/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127160" y="255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6320" y="1295280"/>
            <a:ext cx="358128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!-- clear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target name="clea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elete verbose="fal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cludeEmptyDirs="tru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ileset dir="${output.dir}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ileset defaultexcludes="n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r="${bundles.dir}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dele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!-- init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target name="ini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mkdir dir="${output.dir}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mkdir dir="${bundles.dir}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733920" y="1830240"/>
            <a:ext cx="541008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!-- compile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target name="compile" depends="ini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javac srcdir="${src.dir}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tdir="${output.dir}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bug="on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athelement location="${lib.dir}/osgi.jar"/&gt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athelement location="${lib.dir}/osgi-svc.jar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java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Un exemple de fichier xml (3/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5840" y="1488960"/>
            <a:ext cx="75355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target name="helloworld" depends="compil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hello.name" value="helloworl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hello.dir" value="hello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property name="hello.manifest" value="${src.dir}/hello/manifest.mf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jar manifest="${hello.manifest}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rfile="${bundles.dir}/${hello.name}.ja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ileset dir="${output.dir}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cludes="${hello.dir}/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ja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project&gt;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80520" y="5334120"/>
            <a:ext cx="856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gt; 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ycle de vie de bun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ifier le bundle pour qu'il affiche "bonjour2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nipuler les command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install / refresh /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pdate / refr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aliser un bundle qui ne peut pas se lancer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t lever une exception "BundleExcepti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taller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Remarque, il est possible d'avoir deux instances de la même classe en exéc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llo.Hello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Fichier manifest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formations nécessaires au premier 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=&gt; Dépendance entre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package met à disposition une classe pour un autre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38080" y="17524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ndle-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038480" y="1752480"/>
            <a:ext cx="335304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Nom du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8178840" y="152280"/>
            <a:ext cx="584280" cy="609480"/>
            <a:chOff x="8178840" y="152280"/>
            <a:chExt cx="584280" cy="609480"/>
          </a:xfrm>
        </p:grpSpPr>
        <p:sp>
          <p:nvSpPr>
            <p:cNvPr id="1376" name=""/>
            <p:cNvSpPr/>
            <p:nvPr/>
          </p:nvSpPr>
          <p:spPr>
            <a:xfrm>
              <a:off x="8178840" y="152280"/>
              <a:ext cx="533520" cy="609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255160" y="2282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255160" y="30456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255160" y="380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255160" y="456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407440" y="533160"/>
              <a:ext cx="3556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Verdana"/>
                </a:rPr>
                <a:t>.m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838080" y="22096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ndle-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038480" y="2209680"/>
            <a:ext cx="335304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Chaîne de description du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38080" y="26668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ndle-Activ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038480" y="2666880"/>
            <a:ext cx="335304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Nom de la classe Acti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"/>
          <p:cNvGrpSpPr/>
          <p:nvPr/>
        </p:nvGrpSpPr>
        <p:grpSpPr>
          <a:xfrm>
            <a:off x="4070160" y="2622600"/>
            <a:ext cx="381240" cy="152280"/>
            <a:chOff x="4070160" y="2622600"/>
            <a:chExt cx="381240" cy="152280"/>
          </a:xfrm>
        </p:grpSpPr>
        <p:sp>
          <p:nvSpPr>
            <p:cNvPr id="1387" name=""/>
            <p:cNvSpPr/>
            <p:nvPr/>
          </p:nvSpPr>
          <p:spPr>
            <a:xfrm flipH="1">
              <a:off x="4069800" y="262260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222800" y="2698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172880" y="7596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cénario: Export de clas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819520" y="3301920"/>
            <a:ext cx="5029200" cy="3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824000" y="3378240"/>
            <a:ext cx="89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819520" y="3835440"/>
            <a:ext cx="5029200" cy="380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483080" y="3911760"/>
            <a:ext cx="1468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JAVA VIRTUAL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7042320" y="1022400"/>
            <a:ext cx="793080" cy="609480"/>
            <a:chOff x="7042320" y="1022400"/>
            <a:chExt cx="793080" cy="609480"/>
          </a:xfrm>
        </p:grpSpPr>
        <p:grpSp>
          <p:nvGrpSpPr>
            <p:cNvPr id="1395" name=""/>
            <p:cNvGrpSpPr/>
            <p:nvPr/>
          </p:nvGrpSpPr>
          <p:grpSpPr>
            <a:xfrm>
              <a:off x="7042320" y="1022400"/>
              <a:ext cx="583560" cy="609480"/>
              <a:chOff x="7042320" y="1022400"/>
              <a:chExt cx="583560" cy="609480"/>
            </a:xfrm>
          </p:grpSpPr>
          <p:sp>
            <p:nvSpPr>
              <p:cNvPr id="1396" name=""/>
              <p:cNvSpPr/>
              <p:nvPr/>
            </p:nvSpPr>
            <p:spPr>
              <a:xfrm>
                <a:off x="7042320" y="1022400"/>
                <a:ext cx="533160" cy="609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118280" y="109836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18280" y="117468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18280" y="125100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18280" y="132696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270560" y="1403280"/>
                <a:ext cx="3553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600" spc="-1" strike="noStrike">
                    <a:solidFill>
                      <a:srgbClr val="000000"/>
                    </a:solidFill>
                    <a:latin typeface="Verdana"/>
                  </a:rPr>
                  <a:t>.mf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2" name=""/>
            <p:cNvSpPr/>
            <p:nvPr/>
          </p:nvSpPr>
          <p:spPr>
            <a:xfrm>
              <a:off x="7651800" y="1250640"/>
              <a:ext cx="1836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6519960" y="2475000"/>
            <a:ext cx="1593720" cy="913680"/>
            <a:chOff x="6519960" y="2475000"/>
            <a:chExt cx="1593720" cy="913680"/>
          </a:xfrm>
        </p:grpSpPr>
        <p:sp>
          <p:nvSpPr>
            <p:cNvPr id="1404" name=""/>
            <p:cNvSpPr/>
            <p:nvPr/>
          </p:nvSpPr>
          <p:spPr>
            <a:xfrm>
              <a:off x="6519960" y="2657880"/>
              <a:ext cx="1142280" cy="73080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672" y="624"/>
                  </a:moveTo>
                  <a:cubicBezTo>
                    <a:pt x="664" y="564"/>
                    <a:pt x="656" y="504"/>
                    <a:pt x="624" y="432"/>
                  </a:cubicBezTo>
                  <a:cubicBezTo>
                    <a:pt x="592" y="360"/>
                    <a:pt x="544" y="256"/>
                    <a:pt x="480" y="192"/>
                  </a:cubicBezTo>
                  <a:cubicBezTo>
                    <a:pt x="416" y="128"/>
                    <a:pt x="320" y="80"/>
                    <a:pt x="240" y="48"/>
                  </a:cubicBezTo>
                  <a:cubicBezTo>
                    <a:pt x="160" y="16"/>
                    <a:pt x="80" y="8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02680" y="2475000"/>
              <a:ext cx="71100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Install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4375080" y="147960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308400" y="147960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2927160" y="2622600"/>
            <a:ext cx="381240" cy="152280"/>
            <a:chOff x="2927160" y="2622600"/>
            <a:chExt cx="381240" cy="152280"/>
          </a:xfrm>
        </p:grpSpPr>
        <p:sp>
          <p:nvSpPr>
            <p:cNvPr id="1409" name=""/>
            <p:cNvSpPr/>
            <p:nvPr/>
          </p:nvSpPr>
          <p:spPr>
            <a:xfrm flipH="1">
              <a:off x="2926800" y="262260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079800" y="2698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765600" y="2622600"/>
            <a:ext cx="304200" cy="152280"/>
            <a:chOff x="3765600" y="2622600"/>
            <a:chExt cx="304200" cy="152280"/>
          </a:xfrm>
        </p:grpSpPr>
        <p:sp>
          <p:nvSpPr>
            <p:cNvPr id="1412" name=""/>
            <p:cNvSpPr/>
            <p:nvPr/>
          </p:nvSpPr>
          <p:spPr>
            <a:xfrm>
              <a:off x="3765600" y="269892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79000" y="2622600"/>
              <a:ext cx="190440" cy="1522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054840" y="1519200"/>
            <a:ext cx="457200" cy="14986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5673240" y="1494000"/>
            <a:ext cx="838440" cy="1523880"/>
            <a:chOff x="5673240" y="1494000"/>
            <a:chExt cx="838440" cy="1523880"/>
          </a:xfrm>
        </p:grpSpPr>
        <p:sp>
          <p:nvSpPr>
            <p:cNvPr id="1416" name=""/>
            <p:cNvSpPr/>
            <p:nvPr/>
          </p:nvSpPr>
          <p:spPr>
            <a:xfrm>
              <a:off x="6054480" y="1494000"/>
              <a:ext cx="457200" cy="15238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"/>
            <p:cNvGrpSpPr/>
            <p:nvPr/>
          </p:nvGrpSpPr>
          <p:grpSpPr>
            <a:xfrm>
              <a:off x="5673240" y="2281320"/>
              <a:ext cx="381240" cy="152640"/>
              <a:chOff x="5673240" y="2281320"/>
              <a:chExt cx="381240" cy="152640"/>
            </a:xfrm>
          </p:grpSpPr>
          <p:sp>
            <p:nvSpPr>
              <p:cNvPr id="1418" name=""/>
              <p:cNvSpPr/>
              <p:nvPr/>
            </p:nvSpPr>
            <p:spPr>
              <a:xfrm flipH="1">
                <a:off x="5672880" y="2281320"/>
                <a:ext cx="152280" cy="15264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25880" y="2357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0" name=""/>
          <p:cNvSpPr/>
          <p:nvPr/>
        </p:nvSpPr>
        <p:spPr>
          <a:xfrm>
            <a:off x="3308400" y="277488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375080" y="277488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791320" y="5130720"/>
            <a:ext cx="457200" cy="22860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341400" y="5130720"/>
            <a:ext cx="5007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791320" y="5435640"/>
            <a:ext cx="457200" cy="2286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344640" y="5435640"/>
            <a:ext cx="660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791320" y="5740560"/>
            <a:ext cx="457200" cy="228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344640" y="5740560"/>
            <a:ext cx="6408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012400" y="5397480"/>
            <a:ext cx="10738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Package export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5054760"/>
            <a:ext cx="6019920" cy="990360"/>
          </a:xfrm>
          <a:prstGeom prst="rect">
            <a:avLst/>
          </a:prstGeom>
          <a:noFill/>
          <a:ln w="93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482840" y="4902120"/>
            <a:ext cx="672840" cy="2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égend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1523520" y="5459400"/>
            <a:ext cx="381240" cy="152280"/>
            <a:chOff x="1523520" y="5459400"/>
            <a:chExt cx="381240" cy="152280"/>
          </a:xfrm>
        </p:grpSpPr>
        <p:sp>
          <p:nvSpPr>
            <p:cNvPr id="1432" name=""/>
            <p:cNvSpPr/>
            <p:nvPr/>
          </p:nvSpPr>
          <p:spPr>
            <a:xfrm flipH="1">
              <a:off x="1523160" y="545940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676160" y="5535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4148640" y="5397480"/>
            <a:ext cx="11149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Package impor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3733920" y="5459400"/>
            <a:ext cx="304200" cy="152280"/>
            <a:chOff x="3733920" y="5459400"/>
            <a:chExt cx="304200" cy="152280"/>
          </a:xfrm>
        </p:grpSpPr>
        <p:sp>
          <p:nvSpPr>
            <p:cNvPr id="1436" name=""/>
            <p:cNvSpPr/>
            <p:nvPr/>
          </p:nvSpPr>
          <p:spPr>
            <a:xfrm>
              <a:off x="3733920" y="553572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3847320" y="5459400"/>
              <a:ext cx="190440" cy="1522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8" name=""/>
          <p:cNvGrpSpPr/>
          <p:nvPr/>
        </p:nvGrpSpPr>
        <p:grpSpPr>
          <a:xfrm>
            <a:off x="3580920" y="2768760"/>
            <a:ext cx="381240" cy="152280"/>
            <a:chOff x="3580920" y="2768760"/>
            <a:chExt cx="381240" cy="152280"/>
          </a:xfrm>
        </p:grpSpPr>
        <p:sp>
          <p:nvSpPr>
            <p:cNvPr id="1439" name=""/>
            <p:cNvSpPr/>
            <p:nvPr/>
          </p:nvSpPr>
          <p:spPr>
            <a:xfrm flipH="1">
              <a:off x="3580560" y="27687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733560" y="2845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172880" y="7596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énario: Import de clas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819520" y="3301920"/>
            <a:ext cx="5029200" cy="3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824000" y="3378240"/>
            <a:ext cx="89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819520" y="3835440"/>
            <a:ext cx="5029200" cy="380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4483080" y="3911760"/>
            <a:ext cx="1468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JAVA VIRTUAL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476360" y="2540160"/>
            <a:ext cx="93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undles Acti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5943600" y="1828800"/>
            <a:ext cx="2959920" cy="609480"/>
            <a:chOff x="5943600" y="1828800"/>
            <a:chExt cx="2959920" cy="609480"/>
          </a:xfrm>
        </p:grpSpPr>
        <p:grpSp>
          <p:nvGrpSpPr>
            <p:cNvPr id="1448" name=""/>
            <p:cNvGrpSpPr/>
            <p:nvPr/>
          </p:nvGrpSpPr>
          <p:grpSpPr>
            <a:xfrm>
              <a:off x="5943600" y="1828800"/>
              <a:ext cx="583560" cy="609480"/>
              <a:chOff x="5943600" y="1828800"/>
              <a:chExt cx="583560" cy="609480"/>
            </a:xfrm>
          </p:grpSpPr>
          <p:sp>
            <p:nvSpPr>
              <p:cNvPr id="1449" name=""/>
              <p:cNvSpPr/>
              <p:nvPr/>
            </p:nvSpPr>
            <p:spPr>
              <a:xfrm>
                <a:off x="5943600" y="1828800"/>
                <a:ext cx="533160" cy="609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019560" y="190476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019560" y="198108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019560" y="205740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019560" y="2133360"/>
                <a:ext cx="38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171840" y="2209680"/>
                <a:ext cx="3553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600" spc="-1" strike="noStrike">
                    <a:solidFill>
                      <a:srgbClr val="000000"/>
                    </a:solidFill>
                    <a:latin typeface="Verdana"/>
                  </a:rPr>
                  <a:t>.mf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5" name=""/>
            <p:cNvSpPr/>
            <p:nvPr/>
          </p:nvSpPr>
          <p:spPr>
            <a:xfrm>
              <a:off x="6619680" y="2057040"/>
              <a:ext cx="22838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érification des dépend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5410080" y="2590920"/>
            <a:ext cx="1652400" cy="913680"/>
            <a:chOff x="5410080" y="2590920"/>
            <a:chExt cx="1652400" cy="913680"/>
          </a:xfrm>
        </p:grpSpPr>
        <p:sp>
          <p:nvSpPr>
            <p:cNvPr id="1457" name=""/>
            <p:cNvSpPr/>
            <p:nvPr/>
          </p:nvSpPr>
          <p:spPr>
            <a:xfrm>
              <a:off x="5410080" y="2773800"/>
              <a:ext cx="1142280" cy="73080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672" y="624"/>
                  </a:moveTo>
                  <a:cubicBezTo>
                    <a:pt x="664" y="564"/>
                    <a:pt x="656" y="504"/>
                    <a:pt x="624" y="432"/>
                  </a:cubicBezTo>
                  <a:cubicBezTo>
                    <a:pt x="592" y="360"/>
                    <a:pt x="544" y="256"/>
                    <a:pt x="480" y="192"/>
                  </a:cubicBezTo>
                  <a:cubicBezTo>
                    <a:pt x="416" y="128"/>
                    <a:pt x="320" y="80"/>
                    <a:pt x="240" y="48"/>
                  </a:cubicBezTo>
                  <a:cubicBezTo>
                    <a:pt x="160" y="16"/>
                    <a:pt x="80" y="8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51480" y="2590920"/>
              <a:ext cx="71100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Install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9" name=""/>
          <p:cNvSpPr/>
          <p:nvPr/>
        </p:nvSpPr>
        <p:spPr>
          <a:xfrm>
            <a:off x="3886200" y="162576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819520" y="1625760"/>
            <a:ext cx="457200" cy="152388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2437920" y="2768760"/>
            <a:ext cx="381240" cy="152280"/>
            <a:chOff x="2437920" y="2768760"/>
            <a:chExt cx="381240" cy="152280"/>
          </a:xfrm>
        </p:grpSpPr>
        <p:sp>
          <p:nvSpPr>
            <p:cNvPr id="1462" name=""/>
            <p:cNvSpPr/>
            <p:nvPr/>
          </p:nvSpPr>
          <p:spPr>
            <a:xfrm flipH="1">
              <a:off x="2437560" y="27687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590560" y="2845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3276720" y="2768760"/>
            <a:ext cx="304200" cy="152280"/>
            <a:chOff x="3276720" y="2768760"/>
            <a:chExt cx="304200" cy="152280"/>
          </a:xfrm>
        </p:grpSpPr>
        <p:sp>
          <p:nvSpPr>
            <p:cNvPr id="1465" name=""/>
            <p:cNvSpPr/>
            <p:nvPr/>
          </p:nvSpPr>
          <p:spPr>
            <a:xfrm>
              <a:off x="3276720" y="284508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3390120" y="2768760"/>
              <a:ext cx="190440" cy="1522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952880" y="1625760"/>
            <a:ext cx="457200" cy="1498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4571640" y="1600200"/>
            <a:ext cx="838440" cy="1523880"/>
            <a:chOff x="4571640" y="1600200"/>
            <a:chExt cx="838440" cy="1523880"/>
          </a:xfrm>
        </p:grpSpPr>
        <p:sp>
          <p:nvSpPr>
            <p:cNvPr id="1469" name=""/>
            <p:cNvSpPr/>
            <p:nvPr/>
          </p:nvSpPr>
          <p:spPr>
            <a:xfrm>
              <a:off x="4952880" y="1600200"/>
              <a:ext cx="457200" cy="15238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"/>
            <p:cNvGrpSpPr/>
            <p:nvPr/>
          </p:nvGrpSpPr>
          <p:grpSpPr>
            <a:xfrm>
              <a:off x="4571640" y="2387520"/>
              <a:ext cx="381240" cy="152640"/>
              <a:chOff x="4571640" y="2387520"/>
              <a:chExt cx="381240" cy="152640"/>
            </a:xfrm>
          </p:grpSpPr>
          <p:sp>
            <p:nvSpPr>
              <p:cNvPr id="1471" name=""/>
              <p:cNvSpPr/>
              <p:nvPr/>
            </p:nvSpPr>
            <p:spPr>
              <a:xfrm flipH="1">
                <a:off x="4571280" y="2387520"/>
                <a:ext cx="152280" cy="152640"/>
              </a:xfrm>
              <a:custGeom>
                <a:avLst/>
                <a:gdLst>
                  <a:gd name="textAreaLeft" fmla="*/ -360 w 152280"/>
                  <a:gd name="textAreaRight" fmla="*/ 152280 w 1522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724280" y="2463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3" name=""/>
          <p:cNvSpPr/>
          <p:nvPr/>
        </p:nvSpPr>
        <p:spPr>
          <a:xfrm>
            <a:off x="281952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886200" y="2921040"/>
            <a:ext cx="457200" cy="2286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Activa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791320" y="5130720"/>
            <a:ext cx="457200" cy="228600"/>
          </a:xfrm>
          <a:prstGeom prst="rect">
            <a:avLst/>
          </a:prstGeom>
          <a:solidFill>
            <a:srgbClr val="66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341400" y="5130720"/>
            <a:ext cx="5007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791320" y="5435640"/>
            <a:ext cx="457200" cy="2286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344640" y="5435640"/>
            <a:ext cx="660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Resol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791320" y="5740560"/>
            <a:ext cx="457200" cy="228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344640" y="5740560"/>
            <a:ext cx="6408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Instal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012400" y="5397480"/>
            <a:ext cx="10738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Package export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95280" y="5054760"/>
            <a:ext cx="6019920" cy="990360"/>
          </a:xfrm>
          <a:prstGeom prst="rect">
            <a:avLst/>
          </a:prstGeom>
          <a:noFill/>
          <a:ln w="93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482840" y="4902120"/>
            <a:ext cx="672840" cy="2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égend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"/>
          <p:cNvGrpSpPr/>
          <p:nvPr/>
        </p:nvGrpSpPr>
        <p:grpSpPr>
          <a:xfrm>
            <a:off x="1523520" y="5459400"/>
            <a:ext cx="381240" cy="152280"/>
            <a:chOff x="1523520" y="5459400"/>
            <a:chExt cx="381240" cy="152280"/>
          </a:xfrm>
        </p:grpSpPr>
        <p:sp>
          <p:nvSpPr>
            <p:cNvPr id="1485" name=""/>
            <p:cNvSpPr/>
            <p:nvPr/>
          </p:nvSpPr>
          <p:spPr>
            <a:xfrm flipH="1">
              <a:off x="1523160" y="545940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676160" y="5535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"/>
          <p:cNvSpPr/>
          <p:nvPr/>
        </p:nvSpPr>
        <p:spPr>
          <a:xfrm>
            <a:off x="4148640" y="5397480"/>
            <a:ext cx="11149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Package impor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3733920" y="5459400"/>
            <a:ext cx="304200" cy="152280"/>
            <a:chOff x="3733920" y="5459400"/>
            <a:chExt cx="304200" cy="152280"/>
          </a:xfrm>
        </p:grpSpPr>
        <p:sp>
          <p:nvSpPr>
            <p:cNvPr id="1489" name=""/>
            <p:cNvSpPr/>
            <p:nvPr/>
          </p:nvSpPr>
          <p:spPr>
            <a:xfrm>
              <a:off x="3733920" y="553572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3847320" y="5459400"/>
              <a:ext cx="190440" cy="1522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5410080" y="2590920"/>
            <a:ext cx="1395000" cy="913680"/>
            <a:chOff x="5410080" y="2590920"/>
            <a:chExt cx="1395000" cy="913680"/>
          </a:xfrm>
        </p:grpSpPr>
        <p:sp>
          <p:nvSpPr>
            <p:cNvPr id="1492" name=""/>
            <p:cNvSpPr/>
            <p:nvPr/>
          </p:nvSpPr>
          <p:spPr>
            <a:xfrm>
              <a:off x="5410080" y="2773800"/>
              <a:ext cx="1144080" cy="73080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672" y="624"/>
                  </a:moveTo>
                  <a:cubicBezTo>
                    <a:pt x="664" y="564"/>
                    <a:pt x="656" y="504"/>
                    <a:pt x="624" y="432"/>
                  </a:cubicBezTo>
                  <a:cubicBezTo>
                    <a:pt x="592" y="360"/>
                    <a:pt x="544" y="256"/>
                    <a:pt x="480" y="192"/>
                  </a:cubicBezTo>
                  <a:cubicBezTo>
                    <a:pt x="416" y="128"/>
                    <a:pt x="320" y="80"/>
                    <a:pt x="240" y="48"/>
                  </a:cubicBezTo>
                  <a:cubicBezTo>
                    <a:pt x="160" y="16"/>
                    <a:pt x="80" y="8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293520" y="2590920"/>
              <a:ext cx="51156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5410080" y="1752480"/>
            <a:ext cx="304200" cy="152640"/>
            <a:chOff x="5410080" y="1752480"/>
            <a:chExt cx="304200" cy="152640"/>
          </a:xfrm>
        </p:grpSpPr>
        <p:sp>
          <p:nvSpPr>
            <p:cNvPr id="1495" name=""/>
            <p:cNvSpPr/>
            <p:nvPr/>
          </p:nvSpPr>
          <p:spPr>
            <a:xfrm>
              <a:off x="5410080" y="182880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5523480" y="1752480"/>
              <a:ext cx="190440" cy="15264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1481040" y="888840"/>
            <a:ext cx="4407120" cy="2235240"/>
            <a:chOff x="1481040" y="888840"/>
            <a:chExt cx="4407120" cy="2235240"/>
          </a:xfrm>
        </p:grpSpPr>
        <p:sp>
          <p:nvSpPr>
            <p:cNvPr id="1498" name=""/>
            <p:cNvSpPr/>
            <p:nvPr/>
          </p:nvSpPr>
          <p:spPr>
            <a:xfrm>
              <a:off x="1481040" y="888840"/>
              <a:ext cx="4407120" cy="1930680"/>
            </a:xfrm>
            <a:custGeom>
              <a:avLst/>
              <a:gdLst/>
              <a:ahLst/>
              <a:rect l="l" t="t" r="r" b="b"/>
              <a:pathLst>
                <a:path w="2776" h="1216">
                  <a:moveTo>
                    <a:pt x="2600" y="592"/>
                  </a:moveTo>
                  <a:cubicBezTo>
                    <a:pt x="2660" y="568"/>
                    <a:pt x="2720" y="544"/>
                    <a:pt x="2744" y="496"/>
                  </a:cubicBezTo>
                  <a:cubicBezTo>
                    <a:pt x="2768" y="448"/>
                    <a:pt x="2776" y="368"/>
                    <a:pt x="2744" y="304"/>
                  </a:cubicBezTo>
                  <a:cubicBezTo>
                    <a:pt x="2712" y="240"/>
                    <a:pt x="2736" y="152"/>
                    <a:pt x="2552" y="112"/>
                  </a:cubicBezTo>
                  <a:cubicBezTo>
                    <a:pt x="2368" y="72"/>
                    <a:pt x="2024" y="56"/>
                    <a:pt x="1640" y="64"/>
                  </a:cubicBezTo>
                  <a:cubicBezTo>
                    <a:pt x="1256" y="72"/>
                    <a:pt x="496" y="0"/>
                    <a:pt x="248" y="160"/>
                  </a:cubicBezTo>
                  <a:cubicBezTo>
                    <a:pt x="0" y="320"/>
                    <a:pt x="96" y="848"/>
                    <a:pt x="152" y="1024"/>
                  </a:cubicBezTo>
                  <a:cubicBezTo>
                    <a:pt x="208" y="1200"/>
                    <a:pt x="396" y="1208"/>
                    <a:pt x="584" y="1216"/>
                  </a:cubicBezTo>
                </a:path>
              </a:pathLst>
            </a:custGeom>
            <a:noFill/>
            <a:ln w="1908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82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52880" y="1600200"/>
              <a:ext cx="457200" cy="1523880"/>
            </a:xfrm>
            <a:prstGeom prst="rect">
              <a:avLst/>
            </a:prstGeom>
            <a:solidFill>
              <a:srgbClr val="66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iaison entre pack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claration d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s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gt;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peut ne pas y avoir d’Activator dans un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28600" y="31240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-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429000" y="31240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ages requis (avec/sans la version de spécif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28600" y="35812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ort-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429000" y="35812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ages fournis (avec/sans la version de spécif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2666880" y="3657600"/>
            <a:ext cx="487080" cy="309240"/>
            <a:chOff x="2666880" y="3657600"/>
            <a:chExt cx="487080" cy="309240"/>
          </a:xfrm>
        </p:grpSpPr>
        <p:sp>
          <p:nvSpPr>
            <p:cNvPr id="1507" name=""/>
            <p:cNvSpPr/>
            <p:nvPr/>
          </p:nvSpPr>
          <p:spPr>
            <a:xfrm>
              <a:off x="2850840" y="3808800"/>
              <a:ext cx="303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2666880" y="3657600"/>
              <a:ext cx="218160" cy="309240"/>
            </a:xfrm>
            <a:custGeom>
              <a:avLst/>
              <a:gdLst>
                <a:gd name="textAreaLeft" fmla="*/ 360 w 218160"/>
                <a:gd name="textAreaRight" fmla="*/ 218880 w 21816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666880" y="3200400"/>
            <a:ext cx="404280" cy="312480"/>
            <a:chOff x="2666880" y="3200400"/>
            <a:chExt cx="404280" cy="312480"/>
          </a:xfrm>
        </p:grpSpPr>
        <p:sp>
          <p:nvSpPr>
            <p:cNvPr id="1510" name=""/>
            <p:cNvSpPr/>
            <p:nvPr/>
          </p:nvSpPr>
          <p:spPr>
            <a:xfrm>
              <a:off x="2666880" y="3361320"/>
              <a:ext cx="19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2809080" y="3200400"/>
              <a:ext cx="261720" cy="312480"/>
            </a:xfrm>
            <a:custGeom>
              <a:avLst/>
              <a:gdLst>
                <a:gd name="textAreaLeft" fmla="*/ 0 w 261720"/>
                <a:gd name="textAreaRight" fmla="*/ 261720 w 2617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228600" y="1752480"/>
            <a:ext cx="3200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429000" y="17524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Nom du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28600" y="22096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urier New"/>
              </a:rPr>
              <a:t>Bundle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429000" y="22096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Chaîne de description du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28600" y="26668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429000" y="26668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Nom de la classe Acti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caution" descr=""/>
          <p:cNvPicPr/>
          <p:nvPr/>
        </p:nvPicPr>
        <p:blipFill>
          <a:blip r:embed="rId1"/>
          <a:stretch/>
        </p:blipFill>
        <p:spPr>
          <a:xfrm>
            <a:off x="533520" y="502920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1519" name=""/>
          <p:cNvSpPr/>
          <p:nvPr/>
        </p:nvSpPr>
        <p:spPr>
          <a:xfrm>
            <a:off x="228600" y="17524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Bundle-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28600" y="22096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ndle-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28600" y="26668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Bundle-Activ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rcic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aliser un bundle qui exporte le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imp.expse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imp.expserv.Server possède une méthode test, qui affiche le nom de la class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this.getClass().getNam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aliser un bundle qui importe le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imp.impc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lasse cliente instancie exp.Server et exécute la méthod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mballage de librair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bundle peut « emballer » une librairie (un jar) afin de mettre à disposition les classes qu'elle contient (notion de bibliothè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'archive est stockée telle quelle dans le bundle conte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52280" y="434340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port-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352680" y="434340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ckages requis (avec/sans la version de spécif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52280" y="480060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xport-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352680" y="480060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ckages fournis (avec/sans la version de spécif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90920" y="4876920"/>
            <a:ext cx="486360" cy="309240"/>
            <a:chOff x="2590920" y="4876920"/>
            <a:chExt cx="486360" cy="309240"/>
          </a:xfrm>
        </p:grpSpPr>
        <p:sp>
          <p:nvSpPr>
            <p:cNvPr id="1532" name=""/>
            <p:cNvSpPr/>
            <p:nvPr/>
          </p:nvSpPr>
          <p:spPr>
            <a:xfrm>
              <a:off x="2774520" y="5028120"/>
              <a:ext cx="30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2590920" y="4876920"/>
              <a:ext cx="218160" cy="309240"/>
            </a:xfrm>
            <a:custGeom>
              <a:avLst/>
              <a:gdLst>
                <a:gd name="textAreaLeft" fmla="*/ 360 w 218160"/>
                <a:gd name="textAreaRight" fmla="*/ 218880 w 21816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2590920" y="4419720"/>
            <a:ext cx="403920" cy="312120"/>
            <a:chOff x="2590920" y="4419720"/>
            <a:chExt cx="403920" cy="312120"/>
          </a:xfrm>
        </p:grpSpPr>
        <p:sp>
          <p:nvSpPr>
            <p:cNvPr id="1535" name=""/>
            <p:cNvSpPr/>
            <p:nvPr/>
          </p:nvSpPr>
          <p:spPr>
            <a:xfrm>
              <a:off x="2590920" y="4580280"/>
              <a:ext cx="19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733480" y="4419720"/>
              <a:ext cx="261360" cy="312120"/>
            </a:xfrm>
            <a:custGeom>
              <a:avLst/>
              <a:gdLst>
                <a:gd name="textAreaLeft" fmla="*/ 360 w 261360"/>
                <a:gd name="textAreaRight" fmla="*/ 262080 w 26136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152280" y="297180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Bundle-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352680" y="297180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Nom du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52280" y="342900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ndle-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352680" y="342900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Chaîne de description du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52280" y="388620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Bundle-Activ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352680" y="388620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Nom de la classe Acti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52280" y="525780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ndle-Class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352680" y="525780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acement des classes et ressources du bu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Bundle-Classpa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présente (dans le manifeste) les chemins (dans le JAR) de recherche des classes et des res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 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Bundle-Classpath: 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u Pas d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Bundle-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herche dans le 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Bundle-Classpath: .;demo/nested.jar;test/nest.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herche dans le JAR puis dans le JAR inc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Bundle-Classpath: demo/nested.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herche dans le JAR inc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cune classe ou ressource n’est recherchée dans le 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ser xml, moteurs de jsp, annuaire ldap, serveur jmx, encodeur m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chitecture génér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360" y="3624120"/>
            <a:ext cx="3597480" cy="300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00520" y="4367160"/>
            <a:ext cx="1498680" cy="1652760"/>
          </a:xfrm>
          <a:custGeom>
            <a:avLst/>
            <a:gdLst/>
            <a:ahLst/>
            <a:rect l="l" t="t" r="r" b="b"/>
            <a:pathLst>
              <a:path w="3008" h="2480">
                <a:moveTo>
                  <a:pt x="224" y="1416"/>
                </a:moveTo>
                <a:cubicBezTo>
                  <a:pt x="216" y="1368"/>
                  <a:pt x="64" y="1336"/>
                  <a:pt x="32" y="1272"/>
                </a:cubicBezTo>
                <a:cubicBezTo>
                  <a:pt x="0" y="1208"/>
                  <a:pt x="0" y="1096"/>
                  <a:pt x="32" y="1032"/>
                </a:cubicBezTo>
                <a:cubicBezTo>
                  <a:pt x="64" y="968"/>
                  <a:pt x="200" y="952"/>
                  <a:pt x="224" y="888"/>
                </a:cubicBezTo>
                <a:cubicBezTo>
                  <a:pt x="248" y="824"/>
                  <a:pt x="176" y="728"/>
                  <a:pt x="176" y="648"/>
                </a:cubicBezTo>
                <a:cubicBezTo>
                  <a:pt x="176" y="568"/>
                  <a:pt x="168" y="472"/>
                  <a:pt x="224" y="408"/>
                </a:cubicBezTo>
                <a:cubicBezTo>
                  <a:pt x="280" y="344"/>
                  <a:pt x="408" y="288"/>
                  <a:pt x="512" y="264"/>
                </a:cubicBezTo>
                <a:cubicBezTo>
                  <a:pt x="616" y="240"/>
                  <a:pt x="760" y="272"/>
                  <a:pt x="848" y="264"/>
                </a:cubicBezTo>
                <a:cubicBezTo>
                  <a:pt x="936" y="256"/>
                  <a:pt x="968" y="256"/>
                  <a:pt x="1040" y="216"/>
                </a:cubicBezTo>
                <a:cubicBezTo>
                  <a:pt x="1112" y="176"/>
                  <a:pt x="1192" y="48"/>
                  <a:pt x="1280" y="24"/>
                </a:cubicBezTo>
                <a:cubicBezTo>
                  <a:pt x="1368" y="0"/>
                  <a:pt x="1496" y="40"/>
                  <a:pt x="1568" y="72"/>
                </a:cubicBezTo>
                <a:cubicBezTo>
                  <a:pt x="1640" y="104"/>
                  <a:pt x="1648" y="192"/>
                  <a:pt x="1712" y="216"/>
                </a:cubicBezTo>
                <a:cubicBezTo>
                  <a:pt x="1776" y="240"/>
                  <a:pt x="1840" y="232"/>
                  <a:pt x="1952" y="216"/>
                </a:cubicBezTo>
                <a:cubicBezTo>
                  <a:pt x="2064" y="200"/>
                  <a:pt x="2256" y="104"/>
                  <a:pt x="2384" y="120"/>
                </a:cubicBezTo>
                <a:cubicBezTo>
                  <a:pt x="2512" y="136"/>
                  <a:pt x="2640" y="216"/>
                  <a:pt x="2720" y="312"/>
                </a:cubicBezTo>
                <a:cubicBezTo>
                  <a:pt x="2800" y="408"/>
                  <a:pt x="2872" y="600"/>
                  <a:pt x="2864" y="696"/>
                </a:cubicBezTo>
                <a:cubicBezTo>
                  <a:pt x="2856" y="792"/>
                  <a:pt x="2704" y="808"/>
                  <a:pt x="2672" y="888"/>
                </a:cubicBezTo>
                <a:cubicBezTo>
                  <a:pt x="2640" y="968"/>
                  <a:pt x="2624" y="1080"/>
                  <a:pt x="2672" y="1176"/>
                </a:cubicBezTo>
                <a:cubicBezTo>
                  <a:pt x="2720" y="1272"/>
                  <a:pt x="2912" y="1360"/>
                  <a:pt x="2960" y="1464"/>
                </a:cubicBezTo>
                <a:cubicBezTo>
                  <a:pt x="3008" y="1568"/>
                  <a:pt x="2984" y="1728"/>
                  <a:pt x="2960" y="1800"/>
                </a:cubicBezTo>
                <a:cubicBezTo>
                  <a:pt x="2936" y="1872"/>
                  <a:pt x="2856" y="1840"/>
                  <a:pt x="2816" y="1896"/>
                </a:cubicBezTo>
                <a:cubicBezTo>
                  <a:pt x="2776" y="1952"/>
                  <a:pt x="2760" y="2072"/>
                  <a:pt x="2720" y="2136"/>
                </a:cubicBezTo>
                <a:cubicBezTo>
                  <a:pt x="2680" y="2200"/>
                  <a:pt x="2640" y="2264"/>
                  <a:pt x="2576" y="2280"/>
                </a:cubicBezTo>
                <a:cubicBezTo>
                  <a:pt x="2512" y="2296"/>
                  <a:pt x="2416" y="2256"/>
                  <a:pt x="2336" y="2232"/>
                </a:cubicBezTo>
                <a:cubicBezTo>
                  <a:pt x="2256" y="2208"/>
                  <a:pt x="2184" y="2120"/>
                  <a:pt x="2096" y="2136"/>
                </a:cubicBezTo>
                <a:cubicBezTo>
                  <a:pt x="2008" y="2152"/>
                  <a:pt x="1896" y="2272"/>
                  <a:pt x="1808" y="2328"/>
                </a:cubicBezTo>
                <a:cubicBezTo>
                  <a:pt x="1720" y="2384"/>
                  <a:pt x="1664" y="2480"/>
                  <a:pt x="1568" y="2472"/>
                </a:cubicBezTo>
                <a:cubicBezTo>
                  <a:pt x="1472" y="2464"/>
                  <a:pt x="1352" y="2312"/>
                  <a:pt x="1232" y="2280"/>
                </a:cubicBezTo>
                <a:cubicBezTo>
                  <a:pt x="1112" y="2248"/>
                  <a:pt x="976" y="2296"/>
                  <a:pt x="848" y="2280"/>
                </a:cubicBezTo>
                <a:cubicBezTo>
                  <a:pt x="720" y="2264"/>
                  <a:pt x="544" y="2248"/>
                  <a:pt x="464" y="2184"/>
                </a:cubicBezTo>
                <a:cubicBezTo>
                  <a:pt x="384" y="2120"/>
                  <a:pt x="416" y="1968"/>
                  <a:pt x="368" y="1896"/>
                </a:cubicBezTo>
                <a:cubicBezTo>
                  <a:pt x="320" y="1824"/>
                  <a:pt x="224" y="1808"/>
                  <a:pt x="176" y="1752"/>
                </a:cubicBezTo>
                <a:cubicBezTo>
                  <a:pt x="128" y="1696"/>
                  <a:pt x="72" y="1616"/>
                  <a:pt x="80" y="1560"/>
                </a:cubicBezTo>
                <a:cubicBezTo>
                  <a:pt x="88" y="1504"/>
                  <a:pt x="232" y="1464"/>
                  <a:pt x="224" y="1416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29280" y="4075200"/>
            <a:ext cx="1649520" cy="2479680"/>
          </a:xfrm>
          <a:prstGeom prst="cube">
            <a:avLst>
              <a:gd name="adj" fmla="val 8333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4367160"/>
            <a:ext cx="1873440" cy="18781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mo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995560" y="4367160"/>
            <a:ext cx="1930320" cy="1567080"/>
            <a:chOff x="2995560" y="4367160"/>
            <a:chExt cx="1930320" cy="1567080"/>
          </a:xfrm>
        </p:grpSpPr>
        <p:grpSp>
          <p:nvGrpSpPr>
            <p:cNvPr id="112" name=""/>
            <p:cNvGrpSpPr/>
            <p:nvPr/>
          </p:nvGrpSpPr>
          <p:grpSpPr>
            <a:xfrm>
              <a:off x="2997360" y="4367160"/>
              <a:ext cx="1798560" cy="1567080"/>
              <a:chOff x="2997360" y="4367160"/>
              <a:chExt cx="1798560" cy="1567080"/>
            </a:xfrm>
          </p:grpSpPr>
          <p:sp>
            <p:nvSpPr>
              <p:cNvPr id="113" name=""/>
              <p:cNvSpPr/>
              <p:nvPr/>
            </p:nvSpPr>
            <p:spPr>
              <a:xfrm>
                <a:off x="2997360" y="4525920"/>
                <a:ext cx="179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® Adele, 20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52800" y="4367160"/>
                <a:ext cx="1722240" cy="156708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60600" y="5091120"/>
                <a:ext cx="1065240" cy="287280"/>
              </a:xfrm>
              <a:custGeom>
                <a:avLst/>
                <a:gdLst/>
                <a:ahLst/>
                <a:rect l="l" t="t" r="r" b="b"/>
                <a:pathLst>
                  <a:path w="1488" h="432">
                    <a:moveTo>
                      <a:pt x="0" y="432"/>
                    </a:moveTo>
                    <a:lnTo>
                      <a:pt x="0" y="0"/>
                    </a:lnTo>
                    <a:lnTo>
                      <a:pt x="144" y="0"/>
                    </a:lnTo>
                    <a:lnTo>
                      <a:pt x="144" y="288"/>
                    </a:lnTo>
                    <a:lnTo>
                      <a:pt x="1344" y="288"/>
                    </a:lnTo>
                    <a:lnTo>
                      <a:pt x="1344" y="0"/>
                    </a:lnTo>
                    <a:lnTo>
                      <a:pt x="1488" y="0"/>
                    </a:lnTo>
                    <a:lnTo>
                      <a:pt x="1488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5490a8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63920" y="4897440"/>
                <a:ext cx="138240" cy="38412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37080" y="4897440"/>
                <a:ext cx="136440" cy="38412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08440" y="4897440"/>
                <a:ext cx="136440" cy="38412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85720" y="4518000"/>
                <a:ext cx="56772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Bund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27480" y="4738680"/>
                <a:ext cx="75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33760" y="4738680"/>
                <a:ext cx="0" cy="1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05120" y="4738680"/>
                <a:ext cx="0" cy="1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76840" y="4738680"/>
                <a:ext cx="0" cy="1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995560" y="5419800"/>
              <a:ext cx="193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asserelle OSG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269120" y="4300560"/>
            <a:ext cx="449280" cy="975960"/>
            <a:chOff x="7269120" y="4300560"/>
            <a:chExt cx="449280" cy="975960"/>
          </a:xfrm>
        </p:grpSpPr>
        <p:sp>
          <p:nvSpPr>
            <p:cNvPr id="126" name=""/>
            <p:cNvSpPr/>
            <p:nvPr/>
          </p:nvSpPr>
          <p:spPr>
            <a:xfrm>
              <a:off x="7343640" y="4300560"/>
              <a:ext cx="299520" cy="30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93760" y="4600800"/>
              <a:ext cx="0" cy="45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269120" y="467568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269120" y="505152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93760" y="467568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93760" y="505152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815360" y="5126040"/>
            <a:ext cx="11073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éploi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51480" y="4751280"/>
            <a:ext cx="1498320" cy="451080"/>
          </a:xfrm>
          <a:prstGeom prst="leftArrow">
            <a:avLst>
              <a:gd name="adj1" fmla="val 46296"/>
              <a:gd name="adj2" fmla="val 8714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62040" y="4675320"/>
            <a:ext cx="5068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61800" y="4834080"/>
            <a:ext cx="449280" cy="975960"/>
            <a:chOff x="361800" y="4834080"/>
            <a:chExt cx="449280" cy="975960"/>
          </a:xfrm>
        </p:grpSpPr>
        <p:sp>
          <p:nvSpPr>
            <p:cNvPr id="136" name=""/>
            <p:cNvSpPr/>
            <p:nvPr/>
          </p:nvSpPr>
          <p:spPr>
            <a:xfrm>
              <a:off x="436320" y="4834080"/>
              <a:ext cx="299520" cy="30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440" y="5134320"/>
              <a:ext cx="0" cy="45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61800" y="520920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61800" y="558504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440" y="520920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6440" y="558504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18960" y="5907240"/>
            <a:ext cx="69264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29520" y="4375080"/>
            <a:ext cx="749160" cy="451080"/>
          </a:xfrm>
          <a:prstGeom prst="rect">
            <a:avLst/>
          </a:prstGeom>
          <a:solidFill>
            <a:srgbClr val="66ffcc"/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Conso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4040" y="4900680"/>
            <a:ext cx="749160" cy="901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58040" y="5202360"/>
            <a:ext cx="136440" cy="382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55160" y="5788080"/>
            <a:ext cx="7995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eu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pérateu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 l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sser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63840" y="3990960"/>
            <a:ext cx="449280" cy="5270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68200" y="3699000"/>
            <a:ext cx="12322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ôle climatis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16160" y="5870520"/>
            <a:ext cx="749160" cy="45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62360" y="6329520"/>
            <a:ext cx="112860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oniteur cardia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12880" y="4067280"/>
            <a:ext cx="147960" cy="374400"/>
            <a:chOff x="2612880" y="4067280"/>
            <a:chExt cx="147960" cy="374400"/>
          </a:xfrm>
        </p:grpSpPr>
        <p:sp>
          <p:nvSpPr>
            <p:cNvPr id="152" name=""/>
            <p:cNvSpPr/>
            <p:nvPr/>
          </p:nvSpPr>
          <p:spPr>
            <a:xfrm>
              <a:off x="2645640" y="4067280"/>
              <a:ext cx="82080" cy="276840"/>
            </a:xfrm>
            <a:custGeom>
              <a:avLst/>
              <a:gdLst>
                <a:gd name="textAreaLeft" fmla="*/ 9720 w 82080"/>
                <a:gd name="textAreaRight" fmla="*/ 72360 w 82080"/>
                <a:gd name="textAreaTop" fmla="*/ 9720 h 276840"/>
                <a:gd name="textAreaBottom" fmla="*/ 267120 h 276840"/>
              </a:gdLst>
              <a:ahLst/>
              <a:rect l="textAreaLeft" t="textAreaTop" r="textAreaRight" b="textAreaBottom"/>
              <a:pathLst>
                <a:path w="21600" h="72629">
                  <a:moveTo>
                    <a:pt x="9000" y="0"/>
                  </a:moveTo>
                  <a:arcTo wR="9000" hR="9000" stAng="16200000" swAng="-5400000"/>
                  <a:lnTo>
                    <a:pt x="0" y="63629"/>
                  </a:lnTo>
                  <a:arcTo wR="9000" hR="9000" stAng="10800000" swAng="-5400000"/>
                  <a:lnTo>
                    <a:pt x="12600" y="72629"/>
                  </a:lnTo>
                  <a:arcTo wR="9000" hR="9000" stAng="5400000" swAng="-5400000"/>
                  <a:lnTo>
                    <a:pt x="21600" y="9000"/>
                  </a:lnTo>
                  <a:arcTo wR="9000" hR="90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45640" y="4181040"/>
              <a:ext cx="82080" cy="162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12880" y="4295160"/>
              <a:ext cx="14796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90680" y="5945040"/>
            <a:ext cx="300240" cy="300240"/>
          </a:xfrm>
          <a:custGeom>
            <a:avLst/>
            <a:gdLst>
              <a:gd name="textAreaLeft" fmla="*/ 70560 w 300240"/>
              <a:gd name="textAreaRight" fmla="*/ 229680 w 300240"/>
              <a:gd name="textAreaTop" fmla="*/ 35280 h 300240"/>
              <a:gd name="textAreaBottom" fmla="*/ 188280 h 3002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14440" y="4141800"/>
            <a:ext cx="663480" cy="525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7960" y="3849840"/>
            <a:ext cx="116964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mpteur électr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77800" y="4292640"/>
            <a:ext cx="525600" cy="525600"/>
            <a:chOff x="1477800" y="4292640"/>
            <a:chExt cx="525600" cy="525600"/>
          </a:xfrm>
        </p:grpSpPr>
        <p:sp>
          <p:nvSpPr>
            <p:cNvPr id="159" name=""/>
            <p:cNvSpPr/>
            <p:nvPr/>
          </p:nvSpPr>
          <p:spPr>
            <a:xfrm>
              <a:off x="1477800" y="4292640"/>
              <a:ext cx="525600" cy="525600"/>
            </a:xfrm>
            <a:prstGeom prst="blockArc">
              <a:avLst>
                <a:gd name="adj1" fmla="val 10800000"/>
                <a:gd name="adj2" fmla="val 0"/>
                <a:gd name="adj3" fmla="val 472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1635120" y="4345200"/>
              <a:ext cx="104760" cy="21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440080" y="5945040"/>
            <a:ext cx="449280" cy="300240"/>
            <a:chOff x="2440080" y="5945040"/>
            <a:chExt cx="449280" cy="300240"/>
          </a:xfrm>
        </p:grpSpPr>
        <p:sp>
          <p:nvSpPr>
            <p:cNvPr id="162" name=""/>
            <p:cNvSpPr/>
            <p:nvPr/>
          </p:nvSpPr>
          <p:spPr>
            <a:xfrm>
              <a:off x="2440080" y="5945040"/>
              <a:ext cx="112320" cy="30024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0" y="624"/>
                  </a:moveTo>
                  <a:lnTo>
                    <a:pt x="96" y="0"/>
                  </a:lnTo>
                  <a:lnTo>
                    <a:pt x="144" y="720"/>
                  </a:lnTo>
                  <a:lnTo>
                    <a:pt x="144" y="768"/>
                  </a:lnTo>
                  <a:lnTo>
                    <a:pt x="192" y="624"/>
                  </a:lnTo>
                  <a:lnTo>
                    <a:pt x="288" y="6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52400" y="5945040"/>
              <a:ext cx="112320" cy="30024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0" y="624"/>
                  </a:moveTo>
                  <a:lnTo>
                    <a:pt x="96" y="0"/>
                  </a:lnTo>
                  <a:lnTo>
                    <a:pt x="144" y="720"/>
                  </a:lnTo>
                  <a:lnTo>
                    <a:pt x="144" y="768"/>
                  </a:lnTo>
                  <a:lnTo>
                    <a:pt x="192" y="624"/>
                  </a:lnTo>
                  <a:lnTo>
                    <a:pt x="288" y="6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64720" y="5945040"/>
              <a:ext cx="112320" cy="30024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0" y="624"/>
                  </a:moveTo>
                  <a:lnTo>
                    <a:pt x="96" y="0"/>
                  </a:lnTo>
                  <a:lnTo>
                    <a:pt x="144" y="720"/>
                  </a:lnTo>
                  <a:lnTo>
                    <a:pt x="144" y="768"/>
                  </a:lnTo>
                  <a:lnTo>
                    <a:pt x="192" y="624"/>
                  </a:lnTo>
                  <a:lnTo>
                    <a:pt x="288" y="6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7040" y="5945040"/>
              <a:ext cx="112320" cy="30024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0" y="624"/>
                  </a:moveTo>
                  <a:lnTo>
                    <a:pt x="96" y="0"/>
                  </a:lnTo>
                  <a:lnTo>
                    <a:pt x="144" y="720"/>
                  </a:lnTo>
                  <a:lnTo>
                    <a:pt x="144" y="768"/>
                  </a:lnTo>
                  <a:lnTo>
                    <a:pt x="192" y="624"/>
                  </a:lnTo>
                  <a:lnTo>
                    <a:pt x="288" y="6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445080" y="3247920"/>
            <a:ext cx="374760" cy="901800"/>
          </a:xfrm>
          <a:prstGeom prst="downArrow">
            <a:avLst>
              <a:gd name="adj1" fmla="val 45241"/>
              <a:gd name="adj2" fmla="val 63501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19720" y="1219320"/>
            <a:ext cx="1349640" cy="2028600"/>
          </a:xfrm>
          <a:prstGeom prst="cube">
            <a:avLst>
              <a:gd name="adj" fmla="val 8333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8120" y="1293840"/>
            <a:ext cx="8848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eu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nisseu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 servi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hôpi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18400" y="1219320"/>
            <a:ext cx="1349280" cy="2028600"/>
          </a:xfrm>
          <a:prstGeom prst="cube">
            <a:avLst>
              <a:gd name="adj" fmla="val 8333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58800" y="1293840"/>
            <a:ext cx="9212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eu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nisseu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 servi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distributeu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électricité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857600">
            <a:off x="7268760" y="3286080"/>
            <a:ext cx="374760" cy="901800"/>
          </a:xfrm>
          <a:prstGeom prst="downArrow">
            <a:avLst>
              <a:gd name="adj1" fmla="val 45241"/>
              <a:gd name="adj2" fmla="val 63501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21400" y="1219320"/>
            <a:ext cx="1349280" cy="2028600"/>
          </a:xfrm>
          <a:prstGeom prst="cube">
            <a:avLst>
              <a:gd name="adj" fmla="val 8333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0440" y="2225520"/>
            <a:ext cx="674640" cy="901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8400" y="2593800"/>
            <a:ext cx="136800" cy="38268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34080" y="1293840"/>
            <a:ext cx="977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eu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nisseu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 servi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société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ardiennag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9761600">
            <a:off x="5919840" y="3247560"/>
            <a:ext cx="374760" cy="901800"/>
          </a:xfrm>
          <a:prstGeom prst="downArrow">
            <a:avLst>
              <a:gd name="adj1" fmla="val 45241"/>
              <a:gd name="adj2" fmla="val 63501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01760" y="5786280"/>
            <a:ext cx="611280" cy="376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8520" y="6170760"/>
            <a:ext cx="5860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al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lar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81960" y="5202360"/>
            <a:ext cx="137880" cy="382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07320" y="5202360"/>
            <a:ext cx="136440" cy="382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619600" y="2195640"/>
            <a:ext cx="450720" cy="977400"/>
            <a:chOff x="5619600" y="2195640"/>
            <a:chExt cx="450720" cy="977400"/>
          </a:xfrm>
        </p:grpSpPr>
        <p:sp>
          <p:nvSpPr>
            <p:cNvPr id="182" name=""/>
            <p:cNvSpPr/>
            <p:nvPr/>
          </p:nvSpPr>
          <p:spPr>
            <a:xfrm>
              <a:off x="5694480" y="2195640"/>
              <a:ext cx="300600" cy="30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44960" y="2496240"/>
              <a:ext cx="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619600" y="2571480"/>
              <a:ext cx="22536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19600" y="2947680"/>
              <a:ext cx="22536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44960" y="2571480"/>
              <a:ext cx="22536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44960" y="2947680"/>
              <a:ext cx="22536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370560" y="2225520"/>
            <a:ext cx="673200" cy="901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07080" y="2593800"/>
            <a:ext cx="138240" cy="38268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120080" y="2195640"/>
            <a:ext cx="449280" cy="977400"/>
            <a:chOff x="7120080" y="2195640"/>
            <a:chExt cx="449280" cy="977400"/>
          </a:xfrm>
        </p:grpSpPr>
        <p:sp>
          <p:nvSpPr>
            <p:cNvPr id="191" name=""/>
            <p:cNvSpPr/>
            <p:nvPr/>
          </p:nvSpPr>
          <p:spPr>
            <a:xfrm>
              <a:off x="7194600" y="2195640"/>
              <a:ext cx="299520" cy="30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44720" y="2496240"/>
              <a:ext cx="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120080" y="2571480"/>
              <a:ext cx="2246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120080" y="2947680"/>
              <a:ext cx="2246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44720" y="2571480"/>
              <a:ext cx="2246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44720" y="2947680"/>
              <a:ext cx="2246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7869240" y="2225520"/>
            <a:ext cx="674640" cy="901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05760" y="2593800"/>
            <a:ext cx="138240" cy="38268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18400" y="2195640"/>
            <a:ext cx="449280" cy="977400"/>
            <a:chOff x="8618400" y="2195640"/>
            <a:chExt cx="449280" cy="977400"/>
          </a:xfrm>
        </p:grpSpPr>
        <p:sp>
          <p:nvSpPr>
            <p:cNvPr id="200" name=""/>
            <p:cNvSpPr/>
            <p:nvPr/>
          </p:nvSpPr>
          <p:spPr>
            <a:xfrm>
              <a:off x="8692920" y="2195640"/>
              <a:ext cx="299520" cy="30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843040" y="2496240"/>
              <a:ext cx="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618400" y="2571480"/>
              <a:ext cx="2246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618400" y="2947680"/>
              <a:ext cx="2246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843040" y="2571480"/>
              <a:ext cx="2246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43040" y="2947680"/>
              <a:ext cx="2246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72000" y="5351400"/>
            <a:ext cx="1498680" cy="376200"/>
          </a:xfrm>
          <a:prstGeom prst="leftRightArrow">
            <a:avLst>
              <a:gd name="adj1" fmla="val 50000"/>
              <a:gd name="adj2" fmla="val 7930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51360" y="5681520"/>
            <a:ext cx="104328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45320" y="3247920"/>
            <a:ext cx="374760" cy="901800"/>
          </a:xfrm>
          <a:prstGeom prst="upDownArrow">
            <a:avLst>
              <a:gd name="adj1" fmla="val 50000"/>
              <a:gd name="adj2" fmla="val 4790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857600">
            <a:off x="7569000" y="3286080"/>
            <a:ext cx="374400" cy="901800"/>
          </a:xfrm>
          <a:prstGeom prst="upDownArrow">
            <a:avLst>
              <a:gd name="adj1" fmla="val 50000"/>
              <a:gd name="adj2" fmla="val 4795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9761600">
            <a:off x="5619600" y="3247560"/>
            <a:ext cx="376560" cy="901800"/>
          </a:xfrm>
          <a:prstGeom prst="upDownArrow">
            <a:avLst>
              <a:gd name="adj1" fmla="val 50000"/>
              <a:gd name="adj2" fmla="val 476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47920"/>
            <a:ext cx="4046400" cy="376200"/>
          </a:xfrm>
          <a:prstGeom prst="triangle">
            <a:avLst>
              <a:gd name="adj" fmla="val 50000"/>
            </a:avLst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12240" y="4892760"/>
            <a:ext cx="749160" cy="726480"/>
            <a:chOff x="912240" y="4892760"/>
            <a:chExt cx="749160" cy="726480"/>
          </a:xfrm>
        </p:grpSpPr>
        <p:grpSp>
          <p:nvGrpSpPr>
            <p:cNvPr id="213" name=""/>
            <p:cNvGrpSpPr/>
            <p:nvPr/>
          </p:nvGrpSpPr>
          <p:grpSpPr>
            <a:xfrm>
              <a:off x="1007640" y="4892760"/>
              <a:ext cx="597240" cy="376200"/>
              <a:chOff x="1007640" y="4892760"/>
              <a:chExt cx="597240" cy="376200"/>
            </a:xfrm>
          </p:grpSpPr>
          <p:sp>
            <p:nvSpPr>
              <p:cNvPr id="214" name=""/>
              <p:cNvSpPr/>
              <p:nvPr/>
            </p:nvSpPr>
            <p:spPr>
              <a:xfrm rot="16200000">
                <a:off x="969480" y="5005800"/>
                <a:ext cx="225360" cy="149400"/>
              </a:xfrm>
              <a:custGeom>
                <a:avLst/>
                <a:gdLst>
                  <a:gd name="textAreaLeft" fmla="*/ 49320 w 225360"/>
                  <a:gd name="textAreaRight" fmla="*/ 176040 w 225360"/>
                  <a:gd name="textAreaTop" fmla="*/ 32760 h 149400"/>
                  <a:gd name="textAreaBottom" fmla="*/ 116640 h 14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57040" y="4892760"/>
                <a:ext cx="447840" cy="37620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912240" y="5343840"/>
              <a:ext cx="749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amera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surveill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65400" y="1670040"/>
            <a:ext cx="449280" cy="975960"/>
            <a:chOff x="1265400" y="1670040"/>
            <a:chExt cx="449280" cy="975960"/>
          </a:xfrm>
        </p:grpSpPr>
        <p:sp>
          <p:nvSpPr>
            <p:cNvPr id="218" name=""/>
            <p:cNvSpPr/>
            <p:nvPr/>
          </p:nvSpPr>
          <p:spPr>
            <a:xfrm>
              <a:off x="1339920" y="1670040"/>
              <a:ext cx="299520" cy="30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0040" y="1970280"/>
              <a:ext cx="0" cy="45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265400" y="204516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265400" y="242100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0040" y="204516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0040" y="2421000"/>
              <a:ext cx="2246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981360" y="2743200"/>
            <a:ext cx="1175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ager/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ors fo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63720" y="1820880"/>
            <a:ext cx="309600" cy="825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rot="1471200">
            <a:off x="2098440" y="3322800"/>
            <a:ext cx="3971880" cy="376200"/>
          </a:xfrm>
          <a:prstGeom prst="leftRightArrow">
            <a:avLst>
              <a:gd name="adj1" fmla="val 50000"/>
              <a:gd name="adj2" fmla="val 10875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rcic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aliser la classe client qui emballe la bibliothèque lib/libosgi.jar four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bibliothèque répond à la méth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classpathlib.LibService.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9" name="" descr=""/>
          <p:cNvPicPr/>
          <p:nvPr/>
        </p:nvPicPr>
        <p:blipFill>
          <a:blip r:embed="rId1"/>
          <a:stretch/>
        </p:blipFill>
        <p:spPr>
          <a:xfrm>
            <a:off x="8420040" y="252360"/>
            <a:ext cx="3970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hargement de classes (i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ClassLoader par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rgement, Mise à Jour, Déchar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 de la recherche de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lasse est dans le J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lasse est dans un package ni importé ni expor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tilisation de la classe chargée à partir du BUNDLE-CLASS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lasse est dans un package impor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tilisation de la classe chargée par le CL d’un autre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lasse est dans un package exporté mais déjà exporté par un autre 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tilisation de la classe chargée par le CL de l’autre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lasse est dans un package exporté mais non exporté par un au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tilisation de la classe chargée à partir du BUNDLE-CLASS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" descr=""/>
          <p:cNvPicPr/>
          <p:nvPr/>
        </p:nvPicPr>
        <p:blipFill>
          <a:blip r:embed="rId1"/>
          <a:stretch/>
        </p:blipFill>
        <p:spPr>
          <a:xfrm>
            <a:off x="1371600" y="1274760"/>
            <a:ext cx="6610320" cy="51260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rgement de classes (ii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57200" y="4800600"/>
            <a:ext cx="1600200" cy="144792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A import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javax.co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238880" y="4876920"/>
            <a:ext cx="1600200" cy="144756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 utilis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javax.servlet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xporté pa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943600" y="2133720"/>
            <a:ext cx="1219320" cy="304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886200" y="655308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’après la release3 d’OS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mballage de code natif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sgi peut contrôler le chargement de bibliothèques de code n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it pour que java puisse faire des appels natifs (interface J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it pour charger des drivers pour le systèmes d'exploitation (encodeur mp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framework sélectionne automatiquement la librairie à charger en mémo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stion du code natif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52280" y="26668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ort-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352680" y="26668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ckages requis (avec/sans la version de spécif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52280" y="31240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ort-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3352680" y="31240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ckages fournis (avec/sans la version de spécif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2590920" y="3200400"/>
            <a:ext cx="486360" cy="309240"/>
            <a:chOff x="2590920" y="3200400"/>
            <a:chExt cx="486360" cy="309240"/>
          </a:xfrm>
        </p:grpSpPr>
        <p:sp>
          <p:nvSpPr>
            <p:cNvPr id="1566" name=""/>
            <p:cNvSpPr/>
            <p:nvPr/>
          </p:nvSpPr>
          <p:spPr>
            <a:xfrm>
              <a:off x="2774520" y="3351600"/>
              <a:ext cx="30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590920" y="3200400"/>
              <a:ext cx="218160" cy="309240"/>
            </a:xfrm>
            <a:custGeom>
              <a:avLst/>
              <a:gdLst>
                <a:gd name="textAreaLeft" fmla="*/ 360 w 218160"/>
                <a:gd name="textAreaRight" fmla="*/ 218880 w 21816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732" y="0"/>
                  </a:lnTo>
                  <a:lnTo>
                    <a:pt x="21600" y="10800"/>
                  </a:lnTo>
                  <a:lnTo>
                    <a:pt x="1273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2590920" y="2743200"/>
            <a:ext cx="403920" cy="312480"/>
            <a:chOff x="2590920" y="2743200"/>
            <a:chExt cx="403920" cy="312480"/>
          </a:xfrm>
        </p:grpSpPr>
        <p:sp>
          <p:nvSpPr>
            <p:cNvPr id="1569" name=""/>
            <p:cNvSpPr/>
            <p:nvPr/>
          </p:nvSpPr>
          <p:spPr>
            <a:xfrm>
              <a:off x="2590920" y="2904120"/>
              <a:ext cx="19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2733480" y="2743200"/>
              <a:ext cx="261360" cy="312480"/>
            </a:xfrm>
            <a:custGeom>
              <a:avLst/>
              <a:gdLst>
                <a:gd name="textAreaLeft" fmla="*/ 360 w 261360"/>
                <a:gd name="textAreaRight" fmla="*/ 262080 w 261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63" y="0"/>
                  </a:lnTo>
                  <a:lnTo>
                    <a:pt x="21600" y="10800"/>
                  </a:lnTo>
                  <a:lnTo>
                    <a:pt x="13263" y="21600"/>
                  </a:lnTo>
                  <a:lnTo>
                    <a:pt x="0" y="21600"/>
                  </a:lnTo>
                  <a:lnTo>
                    <a:pt x="8337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52280" y="12952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Bundle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3352680" y="12952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Nom du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52280" y="17524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ndle-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352680" y="17524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Chaîne de description du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52280" y="22096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Bundle-Acti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352680" y="22096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Nom de la classe Activ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52280" y="35812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Bundle-Class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352680" y="35812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placement des classes et ressources du bu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52280" y="4038480"/>
            <a:ext cx="320040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ndle-Native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352680" y="4038480"/>
            <a:ext cx="5562720" cy="457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ibliothéques natives à charger fonction du proc, du SE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bliothèques na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ndle-NativeCode dans le MANI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écifie l’emplacement des bibliothèques dépendantes du système et du processeur, à charger dynamiquement (par le ClassLoa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ndle-NativeCode: 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com/mycomp/impl/nativesample/libnat.s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osname=Solar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processor=sparc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3366cc"/>
                </a:solidFill>
                <a:latin typeface="Arial"/>
              </a:rPr>
              <a:t>osversion=5.5,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com/mycomp/impl/nativesample/libnat.so;</a:t>
            </a:r>
            <a:br>
              <a:rPr sz="1600"/>
            </a:b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osname=Sun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processor=sparc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osversion=2.5,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com/mycomp/impl/nativesample/nat.dll;</a:t>
            </a:r>
            <a:br>
              <a:rPr sz="1600"/>
            </a:b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osname=Windows 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processor=x86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66ff33"/>
                </a:solidFill>
                <a:latin typeface="Arial"/>
              </a:rPr>
              <a:t>osversion=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priétés du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.osgi.framework.processor, org.osgi.framework.langu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.osgi.framework.os.name, org.osgi.framework.os.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ésumé avant la sui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tivator : « poignée » pour démarrer un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ort-export : technique pour mettre à disposition dynamiquement de nouvelle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ndle-classpath : permet d'emballer une librairie dans un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ative-Code : permet d'emballer du code n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tiv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rgement/Déchargement de code dynam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gag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loiement dynamique d’application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ns interruption de la passer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tallation, Lancement, Mise à jour, Arrêt, Re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olution des dépendances versionnées d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ammation orienté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ible également des systèmes à mémoire restr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SGi frame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architecture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69339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appel sur la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mation orienté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12120" cy="37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ervices         sont « invariant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: JINI, WebServices, TORBA, …, OS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68600" y="4417920"/>
            <a:ext cx="996120" cy="564480"/>
            <a:chOff x="3468600" y="4417920"/>
            <a:chExt cx="996120" cy="564480"/>
          </a:xfrm>
        </p:grpSpPr>
        <p:sp>
          <p:nvSpPr>
            <p:cNvPr id="234" name=""/>
            <p:cNvSpPr/>
            <p:nvPr/>
          </p:nvSpPr>
          <p:spPr>
            <a:xfrm>
              <a:off x="3468600" y="4687920"/>
              <a:ext cx="43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3898800" y="4416480"/>
              <a:ext cx="564480" cy="567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124680" y="4019400"/>
            <a:ext cx="2123640" cy="1260720"/>
            <a:chOff x="6124680" y="4019400"/>
            <a:chExt cx="2123640" cy="1260720"/>
          </a:xfrm>
        </p:grpSpPr>
        <p:grpSp>
          <p:nvGrpSpPr>
            <p:cNvPr id="237" name=""/>
            <p:cNvGrpSpPr/>
            <p:nvPr/>
          </p:nvGrpSpPr>
          <p:grpSpPr>
            <a:xfrm>
              <a:off x="6124680" y="4493520"/>
              <a:ext cx="663480" cy="387720"/>
              <a:chOff x="6124680" y="4493520"/>
              <a:chExt cx="663480" cy="38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124680" y="4493520"/>
                <a:ext cx="389160" cy="38772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36520" y="4698720"/>
                <a:ext cx="25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6788520" y="4019400"/>
              <a:ext cx="1459800" cy="1260720"/>
            </a:xfrm>
            <a:prstGeom prst="roundRect">
              <a:avLst>
                <a:gd name="adj" fmla="val 16667"/>
              </a:avLst>
            </a:prstGeom>
            <a:solidFill>
              <a:srgbClr val="ff8a6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Service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141640" y="4019400"/>
            <a:ext cx="1460520" cy="1260720"/>
          </a:xfrm>
          <a:prstGeom prst="roundRect">
            <a:avLst>
              <a:gd name="adj" fmla="val 16667"/>
            </a:avLst>
          </a:prstGeom>
          <a:solidFill>
            <a:srgbClr val="ff8a6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ervic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Requ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98840" y="1828800"/>
            <a:ext cx="1460520" cy="1859040"/>
          </a:xfrm>
          <a:prstGeom prst="rect">
            <a:avLst/>
          </a:prstGeom>
          <a:solidFill>
            <a:srgbClr val="ff8a6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Servic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Regi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30600" y="2625840"/>
            <a:ext cx="112896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30600" y="2957400"/>
            <a:ext cx="11289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30600" y="3289320"/>
            <a:ext cx="11289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929120" y="2692440"/>
            <a:ext cx="398160" cy="232920"/>
            <a:chOff x="4929120" y="2692440"/>
            <a:chExt cx="398160" cy="232920"/>
          </a:xfrm>
        </p:grpSpPr>
        <p:sp>
          <p:nvSpPr>
            <p:cNvPr id="247" name=""/>
            <p:cNvSpPr/>
            <p:nvPr/>
          </p:nvSpPr>
          <p:spPr>
            <a:xfrm>
              <a:off x="4929120" y="2692440"/>
              <a:ext cx="233640" cy="232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76440" y="2815920"/>
              <a:ext cx="15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916360" y="2492280"/>
            <a:ext cx="1349280" cy="1328760"/>
          </a:xfrm>
          <a:custGeom>
            <a:avLst/>
            <a:gdLst/>
            <a:ahLst/>
            <a:rect l="l" t="t" r="r" b="b"/>
            <a:pathLst>
              <a:path w="976" h="960">
                <a:moveTo>
                  <a:pt x="976" y="0"/>
                </a:moveTo>
                <a:cubicBezTo>
                  <a:pt x="648" y="40"/>
                  <a:pt x="320" y="80"/>
                  <a:pt x="160" y="240"/>
                </a:cubicBezTo>
                <a:cubicBezTo>
                  <a:pt x="0" y="400"/>
                  <a:pt x="8" y="680"/>
                  <a:pt x="16" y="9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257880" y="4549680"/>
            <a:ext cx="2123640" cy="1262160"/>
            <a:chOff x="6257880" y="4549680"/>
            <a:chExt cx="2123640" cy="1262160"/>
          </a:xfrm>
        </p:grpSpPr>
        <p:grpSp>
          <p:nvGrpSpPr>
            <p:cNvPr id="251" name=""/>
            <p:cNvGrpSpPr/>
            <p:nvPr/>
          </p:nvGrpSpPr>
          <p:grpSpPr>
            <a:xfrm>
              <a:off x="6257880" y="5024160"/>
              <a:ext cx="663480" cy="388440"/>
              <a:chOff x="6257880" y="5024160"/>
              <a:chExt cx="663480" cy="388440"/>
            </a:xfrm>
          </p:grpSpPr>
          <p:sp>
            <p:nvSpPr>
              <p:cNvPr id="252" name=""/>
              <p:cNvSpPr/>
              <p:nvPr/>
            </p:nvSpPr>
            <p:spPr>
              <a:xfrm>
                <a:off x="6257880" y="5024160"/>
                <a:ext cx="389160" cy="38844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69720" y="5229720"/>
                <a:ext cx="25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921720" y="4549680"/>
              <a:ext cx="1459800" cy="1262160"/>
            </a:xfrm>
            <a:prstGeom prst="roundRect">
              <a:avLst>
                <a:gd name="adj" fmla="val 16667"/>
              </a:avLst>
            </a:prstGeom>
            <a:solidFill>
              <a:srgbClr val="ff8a6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Service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 Narrow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29120" y="2989440"/>
            <a:ext cx="398160" cy="232920"/>
            <a:chOff x="4929120" y="2989440"/>
            <a:chExt cx="398160" cy="232920"/>
          </a:xfrm>
        </p:grpSpPr>
        <p:sp>
          <p:nvSpPr>
            <p:cNvPr id="256" name=""/>
            <p:cNvSpPr/>
            <p:nvPr/>
          </p:nvSpPr>
          <p:spPr>
            <a:xfrm>
              <a:off x="4929120" y="2989440"/>
              <a:ext cx="233640" cy="232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76440" y="3112920"/>
              <a:ext cx="15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991120" y="2492280"/>
            <a:ext cx="1793880" cy="1992240"/>
          </a:xfrm>
          <a:custGeom>
            <a:avLst/>
            <a:gdLst/>
            <a:ahLst/>
            <a:rect l="l" t="t" r="r" b="b"/>
            <a:pathLst>
              <a:path w="960" h="864">
                <a:moveTo>
                  <a:pt x="960" y="864"/>
                </a:moveTo>
                <a:cubicBezTo>
                  <a:pt x="944" y="672"/>
                  <a:pt x="928" y="480"/>
                  <a:pt x="768" y="336"/>
                </a:cubicBezTo>
                <a:cubicBezTo>
                  <a:pt x="608" y="192"/>
                  <a:pt x="304" y="96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925960" y="2757600"/>
            <a:ext cx="1525680" cy="1195200"/>
            <a:chOff x="5925960" y="2757600"/>
            <a:chExt cx="1525680" cy="1195200"/>
          </a:xfrm>
        </p:grpSpPr>
        <p:sp>
          <p:nvSpPr>
            <p:cNvPr id="260" name=""/>
            <p:cNvSpPr/>
            <p:nvPr/>
          </p:nvSpPr>
          <p:spPr>
            <a:xfrm>
              <a:off x="5925960" y="2757600"/>
              <a:ext cx="1327320" cy="1195200"/>
            </a:xfrm>
            <a:custGeom>
              <a:avLst/>
              <a:gdLst/>
              <a:ahLst/>
              <a:rect l="l" t="t" r="r" b="b"/>
              <a:pathLst>
                <a:path w="960" h="864">
                  <a:moveTo>
                    <a:pt x="960" y="864"/>
                  </a:moveTo>
                  <a:cubicBezTo>
                    <a:pt x="944" y="672"/>
                    <a:pt x="928" y="480"/>
                    <a:pt x="768" y="336"/>
                  </a:cubicBezTo>
                  <a:cubicBezTo>
                    <a:pt x="608" y="192"/>
                    <a:pt x="304" y="9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58080" y="3155760"/>
              <a:ext cx="13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676520" y="2360520"/>
            <a:ext cx="2589120" cy="1525680"/>
            <a:chOff x="1676520" y="2360520"/>
            <a:chExt cx="2589120" cy="1525680"/>
          </a:xfrm>
        </p:grpSpPr>
        <p:sp>
          <p:nvSpPr>
            <p:cNvPr id="263" name=""/>
            <p:cNvSpPr/>
            <p:nvPr/>
          </p:nvSpPr>
          <p:spPr>
            <a:xfrm>
              <a:off x="2616120" y="2360520"/>
              <a:ext cx="1649520" cy="1525680"/>
            </a:xfrm>
            <a:custGeom>
              <a:avLst/>
              <a:gdLst/>
              <a:ahLst/>
              <a:rect l="l" t="t" r="r" b="b"/>
              <a:pathLst>
                <a:path w="1192" h="1104">
                  <a:moveTo>
                    <a:pt x="88" y="1104"/>
                  </a:moveTo>
                  <a:cubicBezTo>
                    <a:pt x="44" y="764"/>
                    <a:pt x="0" y="424"/>
                    <a:pt x="184" y="240"/>
                  </a:cubicBezTo>
                  <a:cubicBezTo>
                    <a:pt x="368" y="56"/>
                    <a:pt x="780" y="28"/>
                    <a:pt x="119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76520" y="2558880"/>
              <a:ext cx="13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32440" y="4343400"/>
            <a:ext cx="1858680" cy="339480"/>
            <a:chOff x="4132440" y="4343400"/>
            <a:chExt cx="1858680" cy="339480"/>
          </a:xfrm>
        </p:grpSpPr>
        <p:sp>
          <p:nvSpPr>
            <p:cNvPr id="266" name=""/>
            <p:cNvSpPr/>
            <p:nvPr/>
          </p:nvSpPr>
          <p:spPr>
            <a:xfrm>
              <a:off x="4132440" y="4682880"/>
              <a:ext cx="185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9720" y="4343400"/>
              <a:ext cx="13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invo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666880" y="1523880"/>
            <a:ext cx="398160" cy="233280"/>
            <a:chOff x="2666880" y="1523880"/>
            <a:chExt cx="398160" cy="233280"/>
          </a:xfrm>
        </p:grpSpPr>
        <p:sp>
          <p:nvSpPr>
            <p:cNvPr id="269" name=""/>
            <p:cNvSpPr/>
            <p:nvPr/>
          </p:nvSpPr>
          <p:spPr>
            <a:xfrm>
              <a:off x="2666880" y="1523880"/>
              <a:ext cx="233640" cy="23328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14200" y="1647360"/>
              <a:ext cx="15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Osgi frame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2" name="framework" descr=""/>
          <p:cNvPicPr/>
          <p:nvPr/>
        </p:nvPicPr>
        <p:blipFill>
          <a:blip r:embed="rId1"/>
          <a:stretch/>
        </p:blipFill>
        <p:spPr>
          <a:xfrm>
            <a:off x="0" y="1432080"/>
            <a:ext cx="91440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1289160"/>
            <a:ext cx="9143640" cy="5562360"/>
            <a:chOff x="0" y="1289160"/>
            <a:chExt cx="9143640" cy="5562360"/>
          </a:xfrm>
        </p:grpSpPr>
        <p:grpSp>
          <p:nvGrpSpPr>
            <p:cNvPr id="274" name=""/>
            <p:cNvGrpSpPr/>
            <p:nvPr/>
          </p:nvGrpSpPr>
          <p:grpSpPr>
            <a:xfrm>
              <a:off x="0" y="1289160"/>
              <a:ext cx="9143640" cy="5485680"/>
              <a:chOff x="0" y="1289160"/>
              <a:chExt cx="9143640" cy="5485680"/>
            </a:xfrm>
          </p:grpSpPr>
          <p:sp>
            <p:nvSpPr>
              <p:cNvPr id="275" name=""/>
              <p:cNvSpPr/>
              <p:nvPr/>
            </p:nvSpPr>
            <p:spPr>
              <a:xfrm>
                <a:off x="3022560" y="4641840"/>
                <a:ext cx="181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® Adele, 20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6440" y="3727440"/>
                <a:ext cx="3627000" cy="304740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40480" y="4481280"/>
                <a:ext cx="1510920" cy="1676160"/>
              </a:xfrm>
              <a:custGeom>
                <a:avLst/>
                <a:gdLst/>
                <a:ahLst/>
                <a:rect l="l" t="t" r="r" b="b"/>
                <a:pathLst>
                  <a:path w="3008" h="2480">
                    <a:moveTo>
                      <a:pt x="224" y="1416"/>
                    </a:moveTo>
                    <a:cubicBezTo>
                      <a:pt x="216" y="1368"/>
                      <a:pt x="64" y="1336"/>
                      <a:pt x="32" y="1272"/>
                    </a:cubicBezTo>
                    <a:cubicBezTo>
                      <a:pt x="0" y="1208"/>
                      <a:pt x="0" y="1096"/>
                      <a:pt x="32" y="1032"/>
                    </a:cubicBezTo>
                    <a:cubicBezTo>
                      <a:pt x="64" y="968"/>
                      <a:pt x="200" y="952"/>
                      <a:pt x="224" y="888"/>
                    </a:cubicBezTo>
                    <a:cubicBezTo>
                      <a:pt x="248" y="824"/>
                      <a:pt x="176" y="728"/>
                      <a:pt x="176" y="648"/>
                    </a:cubicBezTo>
                    <a:cubicBezTo>
                      <a:pt x="176" y="568"/>
                      <a:pt x="168" y="472"/>
                      <a:pt x="224" y="408"/>
                    </a:cubicBezTo>
                    <a:cubicBezTo>
                      <a:pt x="280" y="344"/>
                      <a:pt x="408" y="288"/>
                      <a:pt x="512" y="264"/>
                    </a:cubicBezTo>
                    <a:cubicBezTo>
                      <a:pt x="616" y="240"/>
                      <a:pt x="760" y="272"/>
                      <a:pt x="848" y="264"/>
                    </a:cubicBezTo>
                    <a:cubicBezTo>
                      <a:pt x="936" y="256"/>
                      <a:pt x="968" y="256"/>
                      <a:pt x="1040" y="216"/>
                    </a:cubicBezTo>
                    <a:cubicBezTo>
                      <a:pt x="1112" y="176"/>
                      <a:pt x="1192" y="48"/>
                      <a:pt x="1280" y="24"/>
                    </a:cubicBezTo>
                    <a:cubicBezTo>
                      <a:pt x="1368" y="0"/>
                      <a:pt x="1496" y="40"/>
                      <a:pt x="1568" y="72"/>
                    </a:cubicBezTo>
                    <a:cubicBezTo>
                      <a:pt x="1640" y="104"/>
                      <a:pt x="1648" y="192"/>
                      <a:pt x="1712" y="216"/>
                    </a:cubicBezTo>
                    <a:cubicBezTo>
                      <a:pt x="1776" y="240"/>
                      <a:pt x="1840" y="232"/>
                      <a:pt x="1952" y="216"/>
                    </a:cubicBezTo>
                    <a:cubicBezTo>
                      <a:pt x="2064" y="200"/>
                      <a:pt x="2256" y="104"/>
                      <a:pt x="2384" y="120"/>
                    </a:cubicBezTo>
                    <a:cubicBezTo>
                      <a:pt x="2512" y="136"/>
                      <a:pt x="2640" y="216"/>
                      <a:pt x="2720" y="312"/>
                    </a:cubicBezTo>
                    <a:cubicBezTo>
                      <a:pt x="2800" y="408"/>
                      <a:pt x="2872" y="600"/>
                      <a:pt x="2864" y="696"/>
                    </a:cubicBezTo>
                    <a:cubicBezTo>
                      <a:pt x="2856" y="792"/>
                      <a:pt x="2704" y="808"/>
                      <a:pt x="2672" y="888"/>
                    </a:cubicBezTo>
                    <a:cubicBezTo>
                      <a:pt x="2640" y="968"/>
                      <a:pt x="2624" y="1080"/>
                      <a:pt x="2672" y="1176"/>
                    </a:cubicBezTo>
                    <a:cubicBezTo>
                      <a:pt x="2720" y="1272"/>
                      <a:pt x="2912" y="1360"/>
                      <a:pt x="2960" y="1464"/>
                    </a:cubicBezTo>
                    <a:cubicBezTo>
                      <a:pt x="3008" y="1568"/>
                      <a:pt x="2984" y="1728"/>
                      <a:pt x="2960" y="1800"/>
                    </a:cubicBezTo>
                    <a:cubicBezTo>
                      <a:pt x="2936" y="1872"/>
                      <a:pt x="2856" y="1840"/>
                      <a:pt x="2816" y="1896"/>
                    </a:cubicBezTo>
                    <a:cubicBezTo>
                      <a:pt x="2776" y="1952"/>
                      <a:pt x="2760" y="2072"/>
                      <a:pt x="2720" y="2136"/>
                    </a:cubicBezTo>
                    <a:cubicBezTo>
                      <a:pt x="2680" y="2200"/>
                      <a:pt x="2640" y="2264"/>
                      <a:pt x="2576" y="2280"/>
                    </a:cubicBezTo>
                    <a:cubicBezTo>
                      <a:pt x="2512" y="2296"/>
                      <a:pt x="2416" y="2256"/>
                      <a:pt x="2336" y="2232"/>
                    </a:cubicBezTo>
                    <a:cubicBezTo>
                      <a:pt x="2256" y="2208"/>
                      <a:pt x="2184" y="2120"/>
                      <a:pt x="2096" y="2136"/>
                    </a:cubicBezTo>
                    <a:cubicBezTo>
                      <a:pt x="2008" y="2152"/>
                      <a:pt x="1896" y="2272"/>
                      <a:pt x="1808" y="2328"/>
                    </a:cubicBezTo>
                    <a:cubicBezTo>
                      <a:pt x="1720" y="2384"/>
                      <a:pt x="1664" y="2480"/>
                      <a:pt x="1568" y="2472"/>
                    </a:cubicBezTo>
                    <a:cubicBezTo>
                      <a:pt x="1472" y="2464"/>
                      <a:pt x="1352" y="2312"/>
                      <a:pt x="1232" y="2280"/>
                    </a:cubicBezTo>
                    <a:cubicBezTo>
                      <a:pt x="1112" y="2248"/>
                      <a:pt x="976" y="2296"/>
                      <a:pt x="848" y="2280"/>
                    </a:cubicBezTo>
                    <a:cubicBezTo>
                      <a:pt x="720" y="2264"/>
                      <a:pt x="544" y="2248"/>
                      <a:pt x="464" y="2184"/>
                    </a:cubicBezTo>
                    <a:cubicBezTo>
                      <a:pt x="384" y="2120"/>
                      <a:pt x="416" y="1968"/>
                      <a:pt x="368" y="1896"/>
                    </a:cubicBezTo>
                    <a:cubicBezTo>
                      <a:pt x="320" y="1824"/>
                      <a:pt x="224" y="1808"/>
                      <a:pt x="176" y="1752"/>
                    </a:cubicBezTo>
                    <a:cubicBezTo>
                      <a:pt x="128" y="1696"/>
                      <a:pt x="72" y="1616"/>
                      <a:pt x="80" y="1560"/>
                    </a:cubicBezTo>
                    <a:cubicBezTo>
                      <a:pt x="88" y="1504"/>
                      <a:pt x="232" y="1464"/>
                      <a:pt x="224" y="1416"/>
                    </a:cubicBez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080040" y="4184640"/>
                <a:ext cx="1662480" cy="25142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15160" y="4481280"/>
                <a:ext cx="1889280" cy="19047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Réseau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omotiqu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77640" y="4481280"/>
                <a:ext cx="1737720" cy="158868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89400" y="5214960"/>
                <a:ext cx="1073880" cy="291600"/>
              </a:xfrm>
              <a:custGeom>
                <a:avLst/>
                <a:gdLst/>
                <a:ahLst/>
                <a:rect l="l" t="t" r="r" b="b"/>
                <a:pathLst>
                  <a:path w="1488" h="432">
                    <a:moveTo>
                      <a:pt x="0" y="432"/>
                    </a:moveTo>
                    <a:lnTo>
                      <a:pt x="0" y="0"/>
                    </a:lnTo>
                    <a:lnTo>
                      <a:pt x="144" y="0"/>
                    </a:lnTo>
                    <a:lnTo>
                      <a:pt x="144" y="288"/>
                    </a:lnTo>
                    <a:lnTo>
                      <a:pt x="1344" y="288"/>
                    </a:lnTo>
                    <a:lnTo>
                      <a:pt x="1344" y="0"/>
                    </a:lnTo>
                    <a:lnTo>
                      <a:pt x="1488" y="0"/>
                    </a:lnTo>
                    <a:lnTo>
                      <a:pt x="1488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5490a8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93440" y="5019480"/>
                <a:ext cx="13824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66240" y="5019480"/>
                <a:ext cx="13824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39400" y="5019480"/>
                <a:ext cx="138240" cy="38880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13440" y="4633920"/>
                <a:ext cx="56772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Bund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54840" y="485748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82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62560" y="485748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35720" y="485748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908880" y="4857480"/>
                <a:ext cx="0" cy="16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0760" y="5548320"/>
                <a:ext cx="1945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asserelle OSG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7329960" y="4413240"/>
                <a:ext cx="453240" cy="989640"/>
                <a:chOff x="7329960" y="4413240"/>
                <a:chExt cx="453240" cy="9896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405560" y="441324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556760" y="471780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7329960" y="479376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7329960" y="51746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556760" y="479376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556760" y="51746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4861440" y="5251320"/>
                <a:ext cx="11073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éploi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88920" y="4870440"/>
                <a:ext cx="1511280" cy="456840"/>
              </a:xfrm>
              <a:prstGeom prst="leftArrow">
                <a:avLst>
                  <a:gd name="adj1" fmla="val 46296"/>
                  <a:gd name="adj2" fmla="val 86792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09200" y="4794120"/>
                <a:ext cx="50688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WE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364680" y="4954320"/>
                <a:ext cx="453240" cy="990000"/>
                <a:chOff x="364680" y="4954320"/>
                <a:chExt cx="453240" cy="9900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40280" y="495432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1480" y="52588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364680" y="53348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364680" y="57160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91480" y="53348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91480" y="57160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323640" y="6043320"/>
                <a:ext cx="69264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ag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82440" y="4489200"/>
                <a:ext cx="755640" cy="456840"/>
              </a:xfrm>
              <a:prstGeom prst="rect">
                <a:avLst/>
              </a:prstGeom>
              <a:solidFill>
                <a:srgbClr val="66ffcc"/>
              </a:solidFill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pPr>
                  <a:lnSpc>
                    <a:spcPct val="6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Verdana"/>
                  </a:rPr>
                  <a:t>Consol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58040" y="5022720"/>
                <a:ext cx="75528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11680" y="532764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13120" y="5922720"/>
                <a:ext cx="799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Opérat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la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asserel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84360" y="4100400"/>
                <a:ext cx="453240" cy="533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91600" y="3803400"/>
                <a:ext cx="123228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ontrôle climatis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233800" y="6005520"/>
                <a:ext cx="755640" cy="456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84680" y="6470640"/>
                <a:ext cx="112860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Moniteur cardiaq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635200" y="4176720"/>
                <a:ext cx="147600" cy="380160"/>
                <a:chOff x="2635200" y="4176720"/>
                <a:chExt cx="147600" cy="3801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667960" y="4176720"/>
                  <a:ext cx="82080" cy="281160"/>
                </a:xfrm>
                <a:custGeom>
                  <a:avLst/>
                  <a:gdLst>
                    <a:gd name="textAreaLeft" fmla="*/ 9720 w 82080"/>
                    <a:gd name="textAreaRight" fmla="*/ 72360 w 82080"/>
                    <a:gd name="textAreaTop" fmla="*/ 9720 h 281160"/>
                    <a:gd name="textAreaBottom" fmla="*/ 271440 h 281160"/>
                  </a:gdLst>
                  <a:ahLst/>
                  <a:rect l="textAreaLeft" t="textAreaTop" r="textAreaRight" b="textAreaBottom"/>
                  <a:pathLst>
                    <a:path w="21600" h="73761">
                      <a:moveTo>
                        <a:pt x="9000" y="0"/>
                      </a:moveTo>
                      <a:arcTo wR="9000" hR="9000" stAng="16200000" swAng="-5400000"/>
                      <a:lnTo>
                        <a:pt x="0" y="64761"/>
                      </a:lnTo>
                      <a:arcTo wR="9000" hR="9000" stAng="10800000" swAng="-5400000"/>
                      <a:lnTo>
                        <a:pt x="12600" y="73761"/>
                      </a:lnTo>
                      <a:arcTo wR="9000" hR="9000" stAng="5400000" swAng="-5400000"/>
                      <a:lnTo>
                        <a:pt x="21600" y="9000"/>
                      </a:lnTo>
                      <a:arcTo wR="9000" hR="90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7960" y="4292280"/>
                  <a:ext cx="82080" cy="16524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635200" y="4408200"/>
                  <a:ext cx="147600" cy="1486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2309400" y="6081480"/>
                <a:ext cx="302040" cy="304560"/>
              </a:xfrm>
              <a:custGeom>
                <a:avLst/>
                <a:gdLst>
                  <a:gd name="textAreaLeft" fmla="*/ 70920 w 302040"/>
                  <a:gd name="textAreaRight" fmla="*/ 230760 w 302040"/>
                  <a:gd name="textAreaTop" fmla="*/ 35640 h 304560"/>
                  <a:gd name="textAreaBottom" fmla="*/ 191160 h 3045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25960" y="4252680"/>
                <a:ext cx="668880" cy="533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62360" y="3956040"/>
                <a:ext cx="1169640" cy="20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ompteur électriq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1490760" y="4405320"/>
                <a:ext cx="528840" cy="532800"/>
                <a:chOff x="1490760" y="4405320"/>
                <a:chExt cx="528840" cy="532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490760" y="4405320"/>
                  <a:ext cx="528840" cy="532800"/>
                </a:xfrm>
                <a:prstGeom prst="blockArc">
                  <a:avLst>
                    <a:gd name="adj1" fmla="val 10800000"/>
                    <a:gd name="adj2" fmla="val 0"/>
                    <a:gd name="adj3" fmla="val 47222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>
                  <a:off x="1648800" y="4458600"/>
                  <a:ext cx="105480" cy="21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460240" y="6081480"/>
                <a:ext cx="452880" cy="304560"/>
                <a:chOff x="2460240" y="6081480"/>
                <a:chExt cx="452880" cy="3045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60240" y="6081480"/>
                  <a:ext cx="11304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573280" y="6081480"/>
                  <a:ext cx="11304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686680" y="6081480"/>
                  <a:ext cx="11304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800080" y="6081480"/>
                  <a:ext cx="113040" cy="304560"/>
                </a:xfrm>
                <a:custGeom>
                  <a:avLst/>
                  <a:gdLst/>
                  <a:ahLst/>
                  <a:rect l="l" t="t" r="r" b="b"/>
                  <a:pathLst>
                    <a:path w="288" h="768">
                      <a:moveTo>
                        <a:pt x="0" y="624"/>
                      </a:moveTo>
                      <a:lnTo>
                        <a:pt x="96" y="0"/>
                      </a:lnTo>
                      <a:lnTo>
                        <a:pt x="144" y="720"/>
                      </a:lnTo>
                      <a:lnTo>
                        <a:pt x="144" y="768"/>
                      </a:lnTo>
                      <a:lnTo>
                        <a:pt x="192" y="624"/>
                      </a:lnTo>
                      <a:lnTo>
                        <a:pt x="288" y="62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498720" y="3346200"/>
                <a:ext cx="378000" cy="914040"/>
              </a:xfrm>
              <a:prstGeom prst="downArrow">
                <a:avLst>
                  <a:gd name="adj1" fmla="val 45241"/>
                  <a:gd name="adj2" fmla="val 63811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71920" y="1289160"/>
                <a:ext cx="136008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35000" y="1365120"/>
                <a:ext cx="88488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hôpita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783560" y="1289160"/>
                <a:ext cx="136008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28280" y="1365120"/>
                <a:ext cx="92124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distribut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électricité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857600">
                <a:off x="7329960" y="3384000"/>
                <a:ext cx="377640" cy="914040"/>
              </a:xfrm>
              <a:prstGeom prst="downArrow">
                <a:avLst>
                  <a:gd name="adj1" fmla="val 45241"/>
                  <a:gd name="adj2" fmla="val 63872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60640" y="1289160"/>
                <a:ext cx="1360080" cy="2057040"/>
              </a:xfrm>
              <a:prstGeom prst="cube">
                <a:avLst>
                  <a:gd name="adj" fmla="val 8333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11840" y="2309760"/>
                <a:ext cx="68004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151240" y="268272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880520" y="1365120"/>
                <a:ext cx="97776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erv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ournisse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d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(société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gardiennage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761600">
                <a:off x="5969520" y="3345840"/>
                <a:ext cx="377640" cy="914040"/>
              </a:xfrm>
              <a:prstGeom prst="downArrow">
                <a:avLst>
                  <a:gd name="adj1" fmla="val 45241"/>
                  <a:gd name="adj2" fmla="val 63872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2920" y="5921280"/>
                <a:ext cx="615240" cy="3805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12560" y="6310080"/>
                <a:ext cx="58608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Central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alarm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38120" y="532764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64920" y="532764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5667120" y="2279520"/>
                <a:ext cx="453240" cy="990000"/>
                <a:chOff x="5667120" y="2279520"/>
                <a:chExt cx="453240" cy="990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42720" y="227952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893920" y="25840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566712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566712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89392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89392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6423480" y="2309760"/>
                <a:ext cx="68004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62520" y="268272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7178400" y="2279520"/>
                <a:ext cx="453240" cy="990000"/>
                <a:chOff x="7178400" y="2279520"/>
                <a:chExt cx="453240" cy="9900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254000" y="227952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405200" y="25840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717840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717840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0520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0520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7934760" y="2309760"/>
                <a:ext cx="680040" cy="914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173800" y="2682720"/>
                <a:ext cx="138240" cy="388440"/>
              </a:xfrm>
              <a:prstGeom prst="rect">
                <a:avLst/>
              </a:prstGeom>
              <a:solidFill>
                <a:srgbClr val="ff99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8690040" y="2279520"/>
                <a:ext cx="453240" cy="990000"/>
                <a:chOff x="8690040" y="2279520"/>
                <a:chExt cx="453240" cy="9900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8765640" y="227952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916840" y="25840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869004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869004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916840" y="266004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916840" y="304128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4609800" y="5479920"/>
                <a:ext cx="1510920" cy="380520"/>
              </a:xfrm>
              <a:prstGeom prst="leftRightArrow">
                <a:avLst>
                  <a:gd name="adj1" fmla="val 50000"/>
                  <a:gd name="adj2" fmla="val 79046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97080" y="5814720"/>
                <a:ext cx="104328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teractio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801120" y="3346200"/>
                <a:ext cx="377640" cy="914040"/>
              </a:xfrm>
              <a:prstGeom prst="upDownArrow">
                <a:avLst>
                  <a:gd name="adj1" fmla="val 50000"/>
                  <a:gd name="adj2" fmla="val 48184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57600">
                <a:off x="7632360" y="3384360"/>
                <a:ext cx="378000" cy="914040"/>
              </a:xfrm>
              <a:prstGeom prst="upDownArrow">
                <a:avLst>
                  <a:gd name="adj1" fmla="val 50000"/>
                  <a:gd name="adj2" fmla="val 48138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761600">
                <a:off x="5667120" y="3345840"/>
                <a:ext cx="377640" cy="914040"/>
              </a:xfrm>
              <a:prstGeom prst="upDownArrow">
                <a:avLst>
                  <a:gd name="adj1" fmla="val 50000"/>
                  <a:gd name="adj2" fmla="val 48184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3346200"/>
                <a:ext cx="4080600" cy="380880"/>
              </a:xfrm>
              <a:prstGeom prst="triangle">
                <a:avLst>
                  <a:gd name="adj" fmla="val 50000"/>
                </a:avLst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923400" y="5014800"/>
                <a:ext cx="749160" cy="732240"/>
                <a:chOff x="923400" y="5014800"/>
                <a:chExt cx="749160" cy="73224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1015200" y="5014800"/>
                  <a:ext cx="604080" cy="380880"/>
                  <a:chOff x="1015200" y="5014800"/>
                  <a:chExt cx="604080" cy="3808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16200000">
                    <a:off x="976680" y="5129280"/>
                    <a:ext cx="228240" cy="151200"/>
                  </a:xfrm>
                  <a:custGeom>
                    <a:avLst/>
                    <a:gdLst>
                      <a:gd name="textAreaLeft" fmla="*/ 50040 w 228240"/>
                      <a:gd name="textAreaRight" fmla="*/ 178200 w 228240"/>
                      <a:gd name="textAreaTop" fmla="*/ 33120 h 151200"/>
                      <a:gd name="textAreaBottom" fmla="*/ 118080 h 151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5490a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166400" y="5014800"/>
                    <a:ext cx="452880" cy="380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5490a8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>
                  <a:off x="923400" y="5471640"/>
                  <a:ext cx="74916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t">
                  <a:spAutoFit/>
                </a:bodyPr>
                <a:p>
                  <a:pPr algn="ctr">
                    <a:lnSpc>
                      <a:spcPct val="6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Camera</a:t>
                  </a:r>
                  <a:br>
                    <a:rPr sz="800"/>
                  </a:b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surveillan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1274760" y="1746000"/>
                <a:ext cx="453240" cy="990000"/>
                <a:chOff x="1274760" y="1746000"/>
                <a:chExt cx="453240" cy="990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350360" y="1746000"/>
                  <a:ext cx="302040" cy="304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501560" y="20505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1274760" y="212652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1274760" y="250776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501560" y="212652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501560" y="2507760"/>
                  <a:ext cx="2264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995040" y="2835000"/>
                <a:ext cx="117576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ager/Ag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hors foy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560" y="1898640"/>
                <a:ext cx="31140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 rot="1471200">
                <a:off x="2115720" y="3422160"/>
                <a:ext cx="4005000" cy="380520"/>
              </a:xfrm>
              <a:prstGeom prst="leftRightArrow">
                <a:avLst>
                  <a:gd name="adj1" fmla="val 50000"/>
                  <a:gd name="adj2" fmla="val 108418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1289160"/>
              <a:ext cx="9068040" cy="5562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ndle et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1739880"/>
            <a:ext cx="5968800" cy="4800600"/>
          </a:xfrm>
          <a:prstGeom prst="ellipse">
            <a:avLst/>
          </a:prstGeom>
          <a:solidFill>
            <a:srgbClr val="f4f4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73320" y="4468680"/>
            <a:ext cx="2362320" cy="1157400"/>
            <a:chOff x="3073320" y="4468680"/>
            <a:chExt cx="2362320" cy="1157400"/>
          </a:xfrm>
        </p:grpSpPr>
        <p:sp>
          <p:nvSpPr>
            <p:cNvPr id="397" name=""/>
            <p:cNvSpPr/>
            <p:nvPr/>
          </p:nvSpPr>
          <p:spPr>
            <a:xfrm>
              <a:off x="3073320" y="4940280"/>
              <a:ext cx="2362320" cy="685800"/>
            </a:xfrm>
            <a:custGeom>
              <a:avLst/>
              <a:gdLst/>
              <a:ahLst/>
              <a:rect l="l" t="t" r="r" b="b"/>
              <a:pathLst>
                <a:path w="1488" h="432">
                  <a:moveTo>
                    <a:pt x="0" y="432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288"/>
                  </a:lnTo>
                  <a:lnTo>
                    <a:pt x="1344" y="288"/>
                  </a:lnTo>
                  <a:lnTo>
                    <a:pt x="1344" y="0"/>
                  </a:lnTo>
                  <a:lnTo>
                    <a:pt x="1488" y="0"/>
                  </a:lnTo>
                  <a:lnTo>
                    <a:pt x="1488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5490a8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71760" y="4468680"/>
              <a:ext cx="317520" cy="94320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943200"/>
                <a:gd name="textAreaBottom" fmla="*/ 927720 h 943200"/>
              </a:gdLst>
              <a:ahLst/>
              <a:rect l="textAreaLeft" t="textAreaTop" r="textAreaRight" b="textAreaBottom"/>
              <a:pathLst>
                <a:path w="21600" h="64115">
                  <a:moveTo>
                    <a:pt x="3600" y="0"/>
                  </a:moveTo>
                  <a:arcTo wR="3600" hR="3600" stAng="16200000" swAng="-5400000"/>
                  <a:lnTo>
                    <a:pt x="0" y="60515"/>
                  </a:lnTo>
                  <a:arcTo wR="3600" hR="3600" stAng="10800000" swAng="-5400000"/>
                  <a:lnTo>
                    <a:pt x="18000" y="641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52640" y="4468680"/>
              <a:ext cx="317520" cy="94320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943200"/>
                <a:gd name="textAreaBottom" fmla="*/ 927720 h 943200"/>
              </a:gdLst>
              <a:ahLst/>
              <a:rect l="textAreaLeft" t="textAreaTop" r="textAreaRight" b="textAreaBottom"/>
              <a:pathLst>
                <a:path w="21600" h="64115">
                  <a:moveTo>
                    <a:pt x="3600" y="0"/>
                  </a:moveTo>
                  <a:arcTo wR="3600" hR="3600" stAng="16200000" swAng="-5400000"/>
                  <a:lnTo>
                    <a:pt x="0" y="60515"/>
                  </a:lnTo>
                  <a:arcTo wR="3600" hR="3600" stAng="10800000" swAng="-5400000"/>
                  <a:lnTo>
                    <a:pt x="18000" y="641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4468680"/>
              <a:ext cx="317520" cy="943200"/>
            </a:xfrm>
            <a:custGeom>
              <a:avLst/>
              <a:gdLst>
                <a:gd name="textAreaLeft" fmla="*/ 15480 w 317520"/>
                <a:gd name="textAreaRight" fmla="*/ 302040 w 317520"/>
                <a:gd name="textAreaTop" fmla="*/ 15480 h 943200"/>
                <a:gd name="textAreaBottom" fmla="*/ 927720 h 943200"/>
              </a:gdLst>
              <a:ahLst/>
              <a:rect l="textAreaLeft" t="textAreaTop" r="textAreaRight" b="textAreaBottom"/>
              <a:pathLst>
                <a:path w="21600" h="64115">
                  <a:moveTo>
                    <a:pt x="3600" y="0"/>
                  </a:moveTo>
                  <a:arcTo wR="3600" hR="3600" stAng="16200000" swAng="-5400000"/>
                  <a:lnTo>
                    <a:pt x="0" y="60515"/>
                  </a:lnTo>
                  <a:arcTo wR="3600" hR="3600" stAng="10800000" swAng="-5400000"/>
                  <a:lnTo>
                    <a:pt x="18000" y="641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930320" y="2781360"/>
            <a:ext cx="500400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é fonctionnelle (offre des 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é de livraison et de déploi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s forme d’un j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5715000"/>
            <a:ext cx="20908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passerelle OS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74840" y="4241880"/>
            <a:ext cx="673200" cy="13460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27:41Z</dcterms:created>
  <dc:creator>ubeda</dc:creator>
  <dc:description/>
  <dc:language>en-US</dc:language>
  <cp:lastModifiedBy>sfrenot</cp:lastModifiedBy>
  <dcterms:modified xsi:type="dcterms:W3CDTF">2003-11-13T13:02:31Z</dcterms:modified>
  <cp:revision>84</cp:revision>
  <dc:subject/>
  <dc:title>Architecture de réseaux de services</dc:title>
</cp:coreProperties>
</file>